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1FFE-BEE9-4C7E-BC62-EFAE8952D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7396-8F5C-4E14-A305-7E250F17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1C8-C8EA-440B-A442-3E1416A0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D3EA-02F1-43E4-B782-F4B2E9CE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B323-AAED-4C6A-A278-71788684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F90E-EF66-475C-AAB4-5FC61674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EECE-B691-4554-89B3-0A893AA4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C471-A990-4657-8CAD-7BB6C8B3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B67-0F89-4EAB-8150-038F31E5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8B82-DFC8-43ED-8979-61EE6F00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8AEA-0CC4-43C3-A46B-175ADEA1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E43E-DA02-40E4-854F-8240DA95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B454-ACFF-4F98-9BEF-300430D76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eautiful Colorado"/>
          <p:cNvPicPr/>
          <p:nvPr/>
        </p:nvPicPr>
        <p:blipFill>
          <a:blip r:embed="rId1"/>
          <a:stretch/>
        </p:blipFill>
        <p:spPr>
          <a:xfrm>
            <a:off x="0" y="819000"/>
            <a:ext cx="9144000" cy="6039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2.5 Properties of 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Beautiful Colorado"/>
          <p:cNvPicPr/>
          <p:nvPr/>
        </p:nvPicPr>
        <p:blipFill>
          <a:blip r:embed="rId1"/>
          <a:stretch/>
        </p:blipFill>
        <p:spPr>
          <a:xfrm>
            <a:off x="0" y="819000"/>
            <a:ext cx="9144000" cy="6039000"/>
          </a:xfrm>
          <a:prstGeom prst="rect">
            <a:avLst/>
          </a:prstGeom>
          <a:ln w="0">
            <a:noFill/>
          </a:ln>
        </p:spPr>
      </p:pic>
      <p:sp>
        <p:nvSpPr>
          <p:cNvPr id="278" name="TextBox 2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2.5 Properties of 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0" y="2706840"/>
            <a:ext cx="91440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W: p. 88 #1-8, 18, 23, 24, 32-37, 40, 42, 55, 69 (Challenge: 4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mind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ST THUR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MARTInkAnnotation0"/>
          <p:cNvSpPr/>
          <p:nvPr/>
        </p:nvSpPr>
        <p:spPr>
          <a:xfrm>
            <a:off x="2819520" y="3330720"/>
            <a:ext cx="3770280" cy="666720"/>
          </a:xfrm>
          <a:custGeom>
            <a:avLst/>
            <a:gdLst>
              <a:gd name="textAreaLeft" fmla="*/ 0 w 3770280"/>
              <a:gd name="textAreaRight" fmla="*/ 3770640 w 377028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3770217" h="667880">
                <a:moveTo>
                  <a:pt x="350485" y="525780"/>
                </a:moveTo>
                <a:lnTo>
                  <a:pt x="357046" y="525780"/>
                </a:lnTo>
                <a:lnTo>
                  <a:pt x="370063" y="520543"/>
                </a:lnTo>
                <a:lnTo>
                  <a:pt x="443083" y="511265"/>
                </a:lnTo>
                <a:lnTo>
                  <a:pt x="553923" y="510546"/>
                </a:lnTo>
                <a:lnTo>
                  <a:pt x="669494" y="510540"/>
                </a:lnTo>
                <a:lnTo>
                  <a:pt x="775764" y="503234"/>
                </a:lnTo>
                <a:lnTo>
                  <a:pt x="885715" y="496901"/>
                </a:lnTo>
                <a:lnTo>
                  <a:pt x="990672" y="495394"/>
                </a:lnTo>
                <a:lnTo>
                  <a:pt x="1106458" y="489273"/>
                </a:lnTo>
                <a:lnTo>
                  <a:pt x="1211638" y="487773"/>
                </a:lnTo>
                <a:lnTo>
                  <a:pt x="1327437" y="481653"/>
                </a:lnTo>
                <a:lnTo>
                  <a:pt x="1432618" y="480153"/>
                </a:lnTo>
                <a:lnTo>
                  <a:pt x="1827604" y="480060"/>
                </a:lnTo>
                <a:lnTo>
                  <a:pt x="1943138" y="486974"/>
                </a:lnTo>
                <a:lnTo>
                  <a:pt x="2059107" y="493670"/>
                </a:lnTo>
                <a:lnTo>
                  <a:pt x="2175367" y="501765"/>
                </a:lnTo>
                <a:lnTo>
                  <a:pt x="2280987" y="513425"/>
                </a:lnTo>
                <a:lnTo>
                  <a:pt x="2397590" y="523966"/>
                </a:lnTo>
                <a:lnTo>
                  <a:pt x="2532687" y="543588"/>
                </a:lnTo>
                <a:lnTo>
                  <a:pt x="2649911" y="559664"/>
                </a:lnTo>
                <a:lnTo>
                  <a:pt x="2750692" y="577280"/>
                </a:lnTo>
                <a:lnTo>
                  <a:pt x="2833423" y="595822"/>
                </a:lnTo>
                <a:lnTo>
                  <a:pt x="2936547" y="616091"/>
                </a:lnTo>
                <a:lnTo>
                  <a:pt x="3036354" y="634678"/>
                </a:lnTo>
                <a:lnTo>
                  <a:pt x="3188753" y="657851"/>
                </a:lnTo>
                <a:lnTo>
                  <a:pt x="3304429" y="667879"/>
                </a:lnTo>
                <a:lnTo>
                  <a:pt x="3367489" y="667772"/>
                </a:lnTo>
                <a:lnTo>
                  <a:pt x="3477171" y="659178"/>
                </a:lnTo>
                <a:lnTo>
                  <a:pt x="3548955" y="645281"/>
                </a:lnTo>
                <a:lnTo>
                  <a:pt x="3588413" y="629485"/>
                </a:lnTo>
                <a:lnTo>
                  <a:pt x="3635627" y="605438"/>
                </a:lnTo>
                <a:lnTo>
                  <a:pt x="3663201" y="585507"/>
                </a:lnTo>
                <a:lnTo>
                  <a:pt x="3679543" y="568694"/>
                </a:lnTo>
                <a:lnTo>
                  <a:pt x="3695274" y="549933"/>
                </a:lnTo>
                <a:lnTo>
                  <a:pt x="3710732" y="530306"/>
                </a:lnTo>
                <a:lnTo>
                  <a:pt x="3723811" y="510293"/>
                </a:lnTo>
                <a:lnTo>
                  <a:pt x="3735267" y="490111"/>
                </a:lnTo>
                <a:lnTo>
                  <a:pt x="3746004" y="469851"/>
                </a:lnTo>
                <a:lnTo>
                  <a:pt x="3750391" y="458861"/>
                </a:lnTo>
                <a:lnTo>
                  <a:pt x="3754163" y="447300"/>
                </a:lnTo>
                <a:lnTo>
                  <a:pt x="3760611" y="424013"/>
                </a:lnTo>
                <a:lnTo>
                  <a:pt x="3766299" y="402375"/>
                </a:lnTo>
                <a:lnTo>
                  <a:pt x="3769392" y="381469"/>
                </a:lnTo>
                <a:lnTo>
                  <a:pt x="3770216" y="371152"/>
                </a:lnTo>
                <a:lnTo>
                  <a:pt x="3769920" y="360042"/>
                </a:lnTo>
                <a:lnTo>
                  <a:pt x="3768874" y="348401"/>
                </a:lnTo>
                <a:lnTo>
                  <a:pt x="3767331" y="336408"/>
                </a:lnTo>
                <a:lnTo>
                  <a:pt x="3765456" y="325025"/>
                </a:lnTo>
                <a:lnTo>
                  <a:pt x="3763359" y="314050"/>
                </a:lnTo>
                <a:lnTo>
                  <a:pt x="3761114" y="303347"/>
                </a:lnTo>
                <a:lnTo>
                  <a:pt x="3757925" y="292825"/>
                </a:lnTo>
                <a:lnTo>
                  <a:pt x="3749866" y="272102"/>
                </a:lnTo>
                <a:lnTo>
                  <a:pt x="3740639" y="251603"/>
                </a:lnTo>
                <a:lnTo>
                  <a:pt x="3729200" y="231203"/>
                </a:lnTo>
                <a:lnTo>
                  <a:pt x="3712828" y="210848"/>
                </a:lnTo>
                <a:lnTo>
                  <a:pt x="3696520" y="192771"/>
                </a:lnTo>
                <a:lnTo>
                  <a:pt x="3679959" y="176269"/>
                </a:lnTo>
                <a:lnTo>
                  <a:pt x="3661309" y="160468"/>
                </a:lnTo>
                <a:lnTo>
                  <a:pt x="3639473" y="144979"/>
                </a:lnTo>
                <a:lnTo>
                  <a:pt x="3614812" y="129629"/>
                </a:lnTo>
                <a:lnTo>
                  <a:pt x="3586917" y="114339"/>
                </a:lnTo>
                <a:lnTo>
                  <a:pt x="3546698" y="95497"/>
                </a:lnTo>
                <a:lnTo>
                  <a:pt x="3488252" y="74806"/>
                </a:lnTo>
                <a:lnTo>
                  <a:pt x="3367759" y="51298"/>
                </a:lnTo>
                <a:lnTo>
                  <a:pt x="3273836" y="34601"/>
                </a:lnTo>
                <a:lnTo>
                  <a:pt x="3159775" y="24759"/>
                </a:lnTo>
                <a:lnTo>
                  <a:pt x="3044649" y="16187"/>
                </a:lnTo>
                <a:lnTo>
                  <a:pt x="2943723" y="15365"/>
                </a:lnTo>
                <a:lnTo>
                  <a:pt x="2828457" y="8690"/>
                </a:lnTo>
                <a:lnTo>
                  <a:pt x="2721754" y="7761"/>
                </a:lnTo>
                <a:lnTo>
                  <a:pt x="2567544" y="7628"/>
                </a:lnTo>
                <a:lnTo>
                  <a:pt x="2451300" y="1590"/>
                </a:lnTo>
                <a:lnTo>
                  <a:pt x="2336775" y="209"/>
                </a:lnTo>
                <a:lnTo>
                  <a:pt x="551591" y="0"/>
                </a:lnTo>
                <a:lnTo>
                  <a:pt x="436857" y="11351"/>
                </a:lnTo>
                <a:lnTo>
                  <a:pt x="329107" y="30536"/>
                </a:lnTo>
                <a:lnTo>
                  <a:pt x="254200" y="48977"/>
                </a:lnTo>
                <a:lnTo>
                  <a:pt x="193873" y="66727"/>
                </a:lnTo>
                <a:lnTo>
                  <a:pt x="160658" y="84457"/>
                </a:lnTo>
                <a:lnTo>
                  <a:pt x="129638" y="104266"/>
                </a:lnTo>
                <a:lnTo>
                  <a:pt x="99051" y="120095"/>
                </a:lnTo>
                <a:lnTo>
                  <a:pt x="77020" y="138030"/>
                </a:lnTo>
                <a:lnTo>
                  <a:pt x="59391" y="154445"/>
                </a:lnTo>
                <a:lnTo>
                  <a:pt x="33118" y="180275"/>
                </a:lnTo>
                <a:lnTo>
                  <a:pt x="17785" y="199606"/>
                </a:lnTo>
                <a:lnTo>
                  <a:pt x="12118" y="214020"/>
                </a:lnTo>
                <a:lnTo>
                  <a:pt x="6671" y="234158"/>
                </a:lnTo>
                <a:lnTo>
                  <a:pt x="2946" y="246310"/>
                </a:lnTo>
                <a:lnTo>
                  <a:pt x="1290" y="260178"/>
                </a:lnTo>
                <a:lnTo>
                  <a:pt x="554" y="274808"/>
                </a:lnTo>
                <a:lnTo>
                  <a:pt x="227" y="289777"/>
                </a:lnTo>
                <a:lnTo>
                  <a:pt x="0" y="323644"/>
                </a:lnTo>
                <a:lnTo>
                  <a:pt x="4021" y="343968"/>
                </a:lnTo>
                <a:lnTo>
                  <a:pt x="8259" y="358615"/>
                </a:lnTo>
                <a:lnTo>
                  <a:pt x="10574" y="366076"/>
                </a:lnTo>
                <a:lnTo>
                  <a:pt x="14658" y="372744"/>
                </a:lnTo>
                <a:lnTo>
                  <a:pt x="31694" y="390219"/>
                </a:lnTo>
                <a:lnTo>
                  <a:pt x="48689" y="406121"/>
                </a:lnTo>
                <a:lnTo>
                  <a:pt x="76758" y="426665"/>
                </a:lnTo>
                <a:lnTo>
                  <a:pt x="103717" y="441944"/>
                </a:lnTo>
                <a:lnTo>
                  <a:pt x="146707" y="462277"/>
                </a:lnTo>
                <a:lnTo>
                  <a:pt x="199978" y="482599"/>
                </a:lnTo>
                <a:lnTo>
                  <a:pt x="350485" y="5334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d9d9d9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Properties Summary: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 are number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271440" y="3595680"/>
            <a:ext cx="8839080" cy="1557000"/>
          </a:xfrm>
          <a:prstGeom prst="rect">
            <a:avLst/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mutati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perty of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Ex 1) 3 + 7 = 7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mutativ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Property of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= b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Ex 2) 3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 = 7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533520" y="838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+6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549360" y="156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+5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533520" y="251460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+56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+10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4800600" y="91440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 x 3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x 5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x 8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x 6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079"/>
          <p:cNvGrpSpPr/>
          <p:nvPr/>
        </p:nvGrpSpPr>
        <p:grpSpPr>
          <a:xfrm>
            <a:off x="716040" y="739800"/>
            <a:ext cx="6667560" cy="2833560"/>
            <a:chOff x="716040" y="739800"/>
            <a:chExt cx="6667560" cy="2833560"/>
          </a:xfrm>
        </p:grpSpPr>
        <p:sp>
          <p:nvSpPr>
            <p:cNvPr id="50" name="SMARTInkAnnotation155"/>
            <p:cNvSpPr/>
            <p:nvPr/>
          </p:nvSpPr>
          <p:spPr>
            <a:xfrm>
              <a:off x="1744560" y="975600"/>
              <a:ext cx="45720" cy="2206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45721" h="220981">
                  <a:moveTo>
                    <a:pt x="45720" y="0"/>
                  </a:moveTo>
                  <a:lnTo>
                    <a:pt x="41675" y="4045"/>
                  </a:lnTo>
                  <a:lnTo>
                    <a:pt x="40483" y="6930"/>
                  </a:lnTo>
                  <a:lnTo>
                    <a:pt x="39689" y="10547"/>
                  </a:lnTo>
                  <a:lnTo>
                    <a:pt x="39159" y="14651"/>
                  </a:lnTo>
                  <a:lnTo>
                    <a:pt x="38806" y="19081"/>
                  </a:lnTo>
                  <a:lnTo>
                    <a:pt x="38571" y="23727"/>
                  </a:lnTo>
                  <a:lnTo>
                    <a:pt x="38414" y="28518"/>
                  </a:lnTo>
                  <a:lnTo>
                    <a:pt x="37463" y="34252"/>
                  </a:lnTo>
                  <a:lnTo>
                    <a:pt x="35982" y="40615"/>
                  </a:lnTo>
                  <a:lnTo>
                    <a:pt x="34148" y="47397"/>
                  </a:lnTo>
                  <a:lnTo>
                    <a:pt x="32079" y="53611"/>
                  </a:lnTo>
                  <a:lnTo>
                    <a:pt x="29853" y="59447"/>
                  </a:lnTo>
                  <a:lnTo>
                    <a:pt x="27522" y="65032"/>
                  </a:lnTo>
                  <a:lnTo>
                    <a:pt x="25968" y="72141"/>
                  </a:lnTo>
                  <a:lnTo>
                    <a:pt x="24932" y="80267"/>
                  </a:lnTo>
                  <a:lnTo>
                    <a:pt x="24242" y="89072"/>
                  </a:lnTo>
                  <a:lnTo>
                    <a:pt x="22934" y="97481"/>
                  </a:lnTo>
                  <a:lnTo>
                    <a:pt x="21216" y="105628"/>
                  </a:lnTo>
                  <a:lnTo>
                    <a:pt x="12376" y="140997"/>
                  </a:lnTo>
                  <a:lnTo>
                    <a:pt x="9944" y="149878"/>
                  </a:lnTo>
                  <a:lnTo>
                    <a:pt x="4984" y="166519"/>
                  </a:lnTo>
                  <a:lnTo>
                    <a:pt x="3323" y="173666"/>
                  </a:lnTo>
                  <a:lnTo>
                    <a:pt x="2215" y="180124"/>
                  </a:lnTo>
                  <a:lnTo>
                    <a:pt x="1477" y="186123"/>
                  </a:lnTo>
                  <a:lnTo>
                    <a:pt x="985" y="191815"/>
                  </a:lnTo>
                  <a:lnTo>
                    <a:pt x="656" y="197303"/>
                  </a:lnTo>
                  <a:lnTo>
                    <a:pt x="292" y="207071"/>
                  </a:lnTo>
                  <a:lnTo>
                    <a:pt x="0" y="2209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SMARTInkAnnotation156"/>
            <p:cNvSpPr/>
            <p:nvPr/>
          </p:nvSpPr>
          <p:spPr>
            <a:xfrm>
              <a:off x="1904760" y="991080"/>
              <a:ext cx="30240" cy="1980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30481" h="198121">
                  <a:moveTo>
                    <a:pt x="30480" y="0"/>
                  </a:moveTo>
                  <a:lnTo>
                    <a:pt x="30480" y="69907"/>
                  </a:lnTo>
                  <a:lnTo>
                    <a:pt x="29633" y="77085"/>
                  </a:lnTo>
                  <a:lnTo>
                    <a:pt x="28222" y="84410"/>
                  </a:lnTo>
                  <a:lnTo>
                    <a:pt x="26435" y="91833"/>
                  </a:lnTo>
                  <a:lnTo>
                    <a:pt x="24397" y="99322"/>
                  </a:lnTo>
                  <a:lnTo>
                    <a:pt x="19874" y="114417"/>
                  </a:lnTo>
                  <a:lnTo>
                    <a:pt x="18330" y="121998"/>
                  </a:lnTo>
                  <a:lnTo>
                    <a:pt x="17300" y="129592"/>
                  </a:lnTo>
                  <a:lnTo>
                    <a:pt x="16613" y="137195"/>
                  </a:lnTo>
                  <a:lnTo>
                    <a:pt x="15309" y="144803"/>
                  </a:lnTo>
                  <a:lnTo>
                    <a:pt x="13593" y="152416"/>
                  </a:lnTo>
                  <a:lnTo>
                    <a:pt x="11602" y="160030"/>
                  </a:lnTo>
                  <a:lnTo>
                    <a:pt x="10275" y="166800"/>
                  </a:lnTo>
                  <a:lnTo>
                    <a:pt x="9390" y="173007"/>
                  </a:lnTo>
                  <a:lnTo>
                    <a:pt x="8800" y="178838"/>
                  </a:lnTo>
                  <a:lnTo>
                    <a:pt x="7560" y="183572"/>
                  </a:lnTo>
                  <a:lnTo>
                    <a:pt x="5887" y="187575"/>
                  </a:lnTo>
                  <a:lnTo>
                    <a:pt x="0" y="198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SMARTInkAnnotation157"/>
            <p:cNvSpPr/>
            <p:nvPr/>
          </p:nvSpPr>
          <p:spPr>
            <a:xfrm>
              <a:off x="1531080" y="1699560"/>
              <a:ext cx="75960" cy="2055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76201" h="205741">
                  <a:moveTo>
                    <a:pt x="76200" y="0"/>
                  </a:moveTo>
                  <a:lnTo>
                    <a:pt x="76200" y="4045"/>
                  </a:lnTo>
                  <a:lnTo>
                    <a:pt x="75353" y="6084"/>
                  </a:lnTo>
                  <a:lnTo>
                    <a:pt x="73942" y="8289"/>
                  </a:lnTo>
                  <a:lnTo>
                    <a:pt x="72155" y="10606"/>
                  </a:lnTo>
                  <a:lnTo>
                    <a:pt x="70963" y="12998"/>
                  </a:lnTo>
                  <a:lnTo>
                    <a:pt x="69639" y="17912"/>
                  </a:lnTo>
                  <a:lnTo>
                    <a:pt x="69286" y="21255"/>
                  </a:lnTo>
                  <a:lnTo>
                    <a:pt x="69051" y="25177"/>
                  </a:lnTo>
                  <a:lnTo>
                    <a:pt x="68894" y="29484"/>
                  </a:lnTo>
                  <a:lnTo>
                    <a:pt x="67943" y="34896"/>
                  </a:lnTo>
                  <a:lnTo>
                    <a:pt x="66462" y="41044"/>
                  </a:lnTo>
                  <a:lnTo>
                    <a:pt x="62558" y="55495"/>
                  </a:lnTo>
                  <a:lnTo>
                    <a:pt x="58002" y="73207"/>
                  </a:lnTo>
                  <a:lnTo>
                    <a:pt x="54754" y="82671"/>
                  </a:lnTo>
                  <a:lnTo>
                    <a:pt x="50896" y="92368"/>
                  </a:lnTo>
                  <a:lnTo>
                    <a:pt x="46631" y="102218"/>
                  </a:lnTo>
                  <a:lnTo>
                    <a:pt x="42941" y="112172"/>
                  </a:lnTo>
                  <a:lnTo>
                    <a:pt x="39634" y="122195"/>
                  </a:lnTo>
                  <a:lnTo>
                    <a:pt x="36583" y="132263"/>
                  </a:lnTo>
                  <a:lnTo>
                    <a:pt x="32855" y="142362"/>
                  </a:lnTo>
                  <a:lnTo>
                    <a:pt x="28677" y="152481"/>
                  </a:lnTo>
                  <a:lnTo>
                    <a:pt x="20365" y="171063"/>
                  </a:lnTo>
                  <a:lnTo>
                    <a:pt x="13849" y="184966"/>
                  </a:lnTo>
                  <a:lnTo>
                    <a:pt x="10926" y="190197"/>
                  </a:lnTo>
                  <a:lnTo>
                    <a:pt x="8131" y="194531"/>
                  </a:lnTo>
                  <a:lnTo>
                    <a:pt x="0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SMARTInkAnnotation158"/>
            <p:cNvSpPr/>
            <p:nvPr/>
          </p:nvSpPr>
          <p:spPr>
            <a:xfrm>
              <a:off x="1683720" y="1752840"/>
              <a:ext cx="60840" cy="1904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60961" h="190501">
                  <a:moveTo>
                    <a:pt x="60960" y="0"/>
                  </a:moveTo>
                  <a:lnTo>
                    <a:pt x="60960" y="26969"/>
                  </a:lnTo>
                  <a:lnTo>
                    <a:pt x="60113" y="33219"/>
                  </a:lnTo>
                  <a:lnTo>
                    <a:pt x="58702" y="39926"/>
                  </a:lnTo>
                  <a:lnTo>
                    <a:pt x="56915" y="46937"/>
                  </a:lnTo>
                  <a:lnTo>
                    <a:pt x="54030" y="54152"/>
                  </a:lnTo>
                  <a:lnTo>
                    <a:pt x="50413" y="61501"/>
                  </a:lnTo>
                  <a:lnTo>
                    <a:pt x="46309" y="68941"/>
                  </a:lnTo>
                  <a:lnTo>
                    <a:pt x="42726" y="77287"/>
                  </a:lnTo>
                  <a:lnTo>
                    <a:pt x="39491" y="86238"/>
                  </a:lnTo>
                  <a:lnTo>
                    <a:pt x="36487" y="95592"/>
                  </a:lnTo>
                  <a:lnTo>
                    <a:pt x="32791" y="105215"/>
                  </a:lnTo>
                  <a:lnTo>
                    <a:pt x="28634" y="115016"/>
                  </a:lnTo>
                  <a:lnTo>
                    <a:pt x="24170" y="124938"/>
                  </a:lnTo>
                  <a:lnTo>
                    <a:pt x="14693" y="147250"/>
                  </a:lnTo>
                  <a:lnTo>
                    <a:pt x="9796" y="159127"/>
                  </a:lnTo>
                  <a:lnTo>
                    <a:pt x="6530" y="167891"/>
                  </a:lnTo>
                  <a:lnTo>
                    <a:pt x="4354" y="174581"/>
                  </a:lnTo>
                  <a:lnTo>
                    <a:pt x="0" y="1905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MARTInkAnnotation159"/>
            <p:cNvSpPr/>
            <p:nvPr/>
          </p:nvSpPr>
          <p:spPr>
            <a:xfrm>
              <a:off x="1900800" y="2621160"/>
              <a:ext cx="262800" cy="25524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262877" h="255549">
                  <a:moveTo>
                    <a:pt x="102856" y="0"/>
                  </a:moveTo>
                  <a:lnTo>
                    <a:pt x="98811" y="4045"/>
                  </a:lnTo>
                  <a:lnTo>
                    <a:pt x="97619" y="6084"/>
                  </a:lnTo>
                  <a:lnTo>
                    <a:pt x="95095" y="12998"/>
                  </a:lnTo>
                  <a:lnTo>
                    <a:pt x="91505" y="17912"/>
                  </a:lnTo>
                  <a:lnTo>
                    <a:pt x="87087" y="25177"/>
                  </a:lnTo>
                  <a:lnTo>
                    <a:pt x="84723" y="29485"/>
                  </a:lnTo>
                  <a:lnTo>
                    <a:pt x="81454" y="34896"/>
                  </a:lnTo>
                  <a:lnTo>
                    <a:pt x="73306" y="47683"/>
                  </a:lnTo>
                  <a:lnTo>
                    <a:pt x="44294" y="91612"/>
                  </a:lnTo>
                  <a:lnTo>
                    <a:pt x="39262" y="100022"/>
                  </a:lnTo>
                  <a:lnTo>
                    <a:pt x="34213" y="109014"/>
                  </a:lnTo>
                  <a:lnTo>
                    <a:pt x="29154" y="118396"/>
                  </a:lnTo>
                  <a:lnTo>
                    <a:pt x="24088" y="127191"/>
                  </a:lnTo>
                  <a:lnTo>
                    <a:pt x="19017" y="135594"/>
                  </a:lnTo>
                  <a:lnTo>
                    <a:pt x="13943" y="143736"/>
                  </a:lnTo>
                  <a:lnTo>
                    <a:pt x="10561" y="152551"/>
                  </a:lnTo>
                  <a:lnTo>
                    <a:pt x="8306" y="161814"/>
                  </a:lnTo>
                  <a:lnTo>
                    <a:pt x="6803" y="171376"/>
                  </a:lnTo>
                  <a:lnTo>
                    <a:pt x="4954" y="179444"/>
                  </a:lnTo>
                  <a:lnTo>
                    <a:pt x="2874" y="186516"/>
                  </a:lnTo>
                  <a:lnTo>
                    <a:pt x="642" y="192924"/>
                  </a:lnTo>
                  <a:lnTo>
                    <a:pt x="0" y="199736"/>
                  </a:lnTo>
                  <a:lnTo>
                    <a:pt x="418" y="206818"/>
                  </a:lnTo>
                  <a:lnTo>
                    <a:pt x="1544" y="214078"/>
                  </a:lnTo>
                  <a:lnTo>
                    <a:pt x="3142" y="220612"/>
                  </a:lnTo>
                  <a:lnTo>
                    <a:pt x="5053" y="226661"/>
                  </a:lnTo>
                  <a:lnTo>
                    <a:pt x="7174" y="232388"/>
                  </a:lnTo>
                  <a:lnTo>
                    <a:pt x="11128" y="237052"/>
                  </a:lnTo>
                  <a:lnTo>
                    <a:pt x="16304" y="241008"/>
                  </a:lnTo>
                  <a:lnTo>
                    <a:pt x="22295" y="244492"/>
                  </a:lnTo>
                  <a:lnTo>
                    <a:pt x="27982" y="246815"/>
                  </a:lnTo>
                  <a:lnTo>
                    <a:pt x="33466" y="248363"/>
                  </a:lnTo>
                  <a:lnTo>
                    <a:pt x="38816" y="249395"/>
                  </a:lnTo>
                  <a:lnTo>
                    <a:pt x="45769" y="250084"/>
                  </a:lnTo>
                  <a:lnTo>
                    <a:pt x="53792" y="250543"/>
                  </a:lnTo>
                  <a:lnTo>
                    <a:pt x="70043" y="251052"/>
                  </a:lnTo>
                  <a:lnTo>
                    <a:pt x="82910" y="251279"/>
                  </a:lnTo>
                  <a:lnTo>
                    <a:pt x="89559" y="249646"/>
                  </a:lnTo>
                  <a:lnTo>
                    <a:pt x="96531" y="246864"/>
                  </a:lnTo>
                  <a:lnTo>
                    <a:pt x="103719" y="243316"/>
                  </a:lnTo>
                  <a:lnTo>
                    <a:pt x="111051" y="240104"/>
                  </a:lnTo>
                  <a:lnTo>
                    <a:pt x="118480" y="237116"/>
                  </a:lnTo>
                  <a:lnTo>
                    <a:pt x="125972" y="234277"/>
                  </a:lnTo>
                  <a:lnTo>
                    <a:pt x="131813" y="230691"/>
                  </a:lnTo>
                  <a:lnTo>
                    <a:pt x="136554" y="226608"/>
                  </a:lnTo>
                  <a:lnTo>
                    <a:pt x="140561" y="222192"/>
                  </a:lnTo>
                  <a:lnTo>
                    <a:pt x="145014" y="215028"/>
                  </a:lnTo>
                  <a:lnTo>
                    <a:pt x="147840" y="209021"/>
                  </a:lnTo>
                  <a:lnTo>
                    <a:pt x="151918" y="203529"/>
                  </a:lnTo>
                  <a:lnTo>
                    <a:pt x="154295" y="198266"/>
                  </a:lnTo>
                  <a:lnTo>
                    <a:pt x="155820" y="192034"/>
                  </a:lnTo>
                  <a:lnTo>
                    <a:pt x="155099" y="190676"/>
                  </a:lnTo>
                  <a:lnTo>
                    <a:pt x="152039" y="186909"/>
                  </a:lnTo>
                  <a:lnTo>
                    <a:pt x="150885" y="186413"/>
                  </a:lnTo>
                  <a:lnTo>
                    <a:pt x="150115" y="186929"/>
                  </a:lnTo>
                  <a:lnTo>
                    <a:pt x="149602" y="188119"/>
                  </a:lnTo>
                  <a:lnTo>
                    <a:pt x="148414" y="188913"/>
                  </a:lnTo>
                  <a:lnTo>
                    <a:pt x="144835" y="189795"/>
                  </a:lnTo>
                  <a:lnTo>
                    <a:pt x="143542" y="190877"/>
                  </a:lnTo>
                  <a:lnTo>
                    <a:pt x="142680" y="192444"/>
                  </a:lnTo>
                  <a:lnTo>
                    <a:pt x="142105" y="194336"/>
                  </a:lnTo>
                  <a:lnTo>
                    <a:pt x="139209" y="198696"/>
                  </a:lnTo>
                  <a:lnTo>
                    <a:pt x="137251" y="201044"/>
                  </a:lnTo>
                  <a:lnTo>
                    <a:pt x="135946" y="203456"/>
                  </a:lnTo>
                  <a:lnTo>
                    <a:pt x="134496" y="208394"/>
                  </a:lnTo>
                  <a:lnTo>
                    <a:pt x="134956" y="211743"/>
                  </a:lnTo>
                  <a:lnTo>
                    <a:pt x="136109" y="215668"/>
                  </a:lnTo>
                  <a:lnTo>
                    <a:pt x="137725" y="219979"/>
                  </a:lnTo>
                  <a:lnTo>
                    <a:pt x="141777" y="227026"/>
                  </a:lnTo>
                  <a:lnTo>
                    <a:pt x="144044" y="230091"/>
                  </a:lnTo>
                  <a:lnTo>
                    <a:pt x="151077" y="235754"/>
                  </a:lnTo>
                  <a:lnTo>
                    <a:pt x="155323" y="238449"/>
                  </a:lnTo>
                  <a:lnTo>
                    <a:pt x="160694" y="241093"/>
                  </a:lnTo>
                  <a:lnTo>
                    <a:pt x="166815" y="243702"/>
                  </a:lnTo>
                  <a:lnTo>
                    <a:pt x="173435" y="246288"/>
                  </a:lnTo>
                  <a:lnTo>
                    <a:pt x="180389" y="248012"/>
                  </a:lnTo>
                  <a:lnTo>
                    <a:pt x="187565" y="249161"/>
                  </a:lnTo>
                  <a:lnTo>
                    <a:pt x="194888" y="249927"/>
                  </a:lnTo>
                  <a:lnTo>
                    <a:pt x="203157" y="251285"/>
                  </a:lnTo>
                  <a:lnTo>
                    <a:pt x="212057" y="253037"/>
                  </a:lnTo>
                  <a:lnTo>
                    <a:pt x="221377" y="255051"/>
                  </a:lnTo>
                  <a:lnTo>
                    <a:pt x="230130" y="255548"/>
                  </a:lnTo>
                  <a:lnTo>
                    <a:pt x="238505" y="255032"/>
                  </a:lnTo>
                  <a:lnTo>
                    <a:pt x="262876" y="2514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MARTInkAnnotation160"/>
            <p:cNvSpPr/>
            <p:nvPr/>
          </p:nvSpPr>
          <p:spPr>
            <a:xfrm>
              <a:off x="2240280" y="2666880"/>
              <a:ext cx="172800" cy="2314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73047" h="231829">
                  <a:moveTo>
                    <a:pt x="37655" y="0"/>
                  </a:moveTo>
                  <a:lnTo>
                    <a:pt x="37655" y="10606"/>
                  </a:lnTo>
                  <a:lnTo>
                    <a:pt x="35398" y="17696"/>
                  </a:lnTo>
                  <a:lnTo>
                    <a:pt x="33610" y="21957"/>
                  </a:lnTo>
                  <a:lnTo>
                    <a:pt x="31572" y="26491"/>
                  </a:lnTo>
                  <a:lnTo>
                    <a:pt x="27049" y="36045"/>
                  </a:lnTo>
                  <a:lnTo>
                    <a:pt x="24658" y="42657"/>
                  </a:lnTo>
                  <a:lnTo>
                    <a:pt x="22217" y="50451"/>
                  </a:lnTo>
                  <a:lnTo>
                    <a:pt x="17247" y="67296"/>
                  </a:lnTo>
                  <a:lnTo>
                    <a:pt x="12216" y="83250"/>
                  </a:lnTo>
                  <a:lnTo>
                    <a:pt x="9689" y="91906"/>
                  </a:lnTo>
                  <a:lnTo>
                    <a:pt x="4624" y="110556"/>
                  </a:lnTo>
                  <a:lnTo>
                    <a:pt x="2934" y="119424"/>
                  </a:lnTo>
                  <a:lnTo>
                    <a:pt x="1808" y="127876"/>
                  </a:lnTo>
                  <a:lnTo>
                    <a:pt x="1057" y="136051"/>
                  </a:lnTo>
                  <a:lnTo>
                    <a:pt x="556" y="144040"/>
                  </a:lnTo>
                  <a:lnTo>
                    <a:pt x="0" y="159691"/>
                  </a:lnTo>
                  <a:lnTo>
                    <a:pt x="699" y="166574"/>
                  </a:lnTo>
                  <a:lnTo>
                    <a:pt x="2011" y="172856"/>
                  </a:lnTo>
                  <a:lnTo>
                    <a:pt x="3732" y="178737"/>
                  </a:lnTo>
                  <a:lnTo>
                    <a:pt x="6573" y="185198"/>
                  </a:lnTo>
                  <a:lnTo>
                    <a:pt x="10160" y="192045"/>
                  </a:lnTo>
                  <a:lnTo>
                    <a:pt x="14245" y="199150"/>
                  </a:lnTo>
                  <a:lnTo>
                    <a:pt x="19509" y="204734"/>
                  </a:lnTo>
                  <a:lnTo>
                    <a:pt x="25558" y="209302"/>
                  </a:lnTo>
                  <a:lnTo>
                    <a:pt x="32130" y="213195"/>
                  </a:lnTo>
                  <a:lnTo>
                    <a:pt x="39052" y="216637"/>
                  </a:lnTo>
                  <a:lnTo>
                    <a:pt x="46206" y="219778"/>
                  </a:lnTo>
                  <a:lnTo>
                    <a:pt x="53516" y="222719"/>
                  </a:lnTo>
                  <a:lnTo>
                    <a:pt x="68411" y="228244"/>
                  </a:lnTo>
                  <a:lnTo>
                    <a:pt x="75939" y="230903"/>
                  </a:lnTo>
                  <a:lnTo>
                    <a:pt x="83498" y="231828"/>
                  </a:lnTo>
                  <a:lnTo>
                    <a:pt x="91077" y="231599"/>
                  </a:lnTo>
                  <a:lnTo>
                    <a:pt x="98670" y="230599"/>
                  </a:lnTo>
                  <a:lnTo>
                    <a:pt x="106271" y="229086"/>
                  </a:lnTo>
                  <a:lnTo>
                    <a:pt x="113879" y="227231"/>
                  </a:lnTo>
                  <a:lnTo>
                    <a:pt x="121491" y="225147"/>
                  </a:lnTo>
                  <a:lnTo>
                    <a:pt x="129106" y="222065"/>
                  </a:lnTo>
                  <a:lnTo>
                    <a:pt x="136722" y="218317"/>
                  </a:lnTo>
                  <a:lnTo>
                    <a:pt x="144340" y="214125"/>
                  </a:lnTo>
                  <a:lnTo>
                    <a:pt x="150265" y="209636"/>
                  </a:lnTo>
                  <a:lnTo>
                    <a:pt x="155062" y="204951"/>
                  </a:lnTo>
                  <a:lnTo>
                    <a:pt x="159106" y="200134"/>
                  </a:lnTo>
                  <a:lnTo>
                    <a:pt x="162649" y="195229"/>
                  </a:lnTo>
                  <a:lnTo>
                    <a:pt x="165858" y="190266"/>
                  </a:lnTo>
                  <a:lnTo>
                    <a:pt x="168844" y="185264"/>
                  </a:lnTo>
                  <a:lnTo>
                    <a:pt x="170834" y="180236"/>
                  </a:lnTo>
                  <a:lnTo>
                    <a:pt x="172161" y="175191"/>
                  </a:lnTo>
                  <a:lnTo>
                    <a:pt x="173046" y="170134"/>
                  </a:lnTo>
                  <a:lnTo>
                    <a:pt x="172789" y="165916"/>
                  </a:lnTo>
                  <a:lnTo>
                    <a:pt x="171771" y="162257"/>
                  </a:lnTo>
                  <a:lnTo>
                    <a:pt x="170245" y="158971"/>
                  </a:lnTo>
                  <a:lnTo>
                    <a:pt x="167535" y="155088"/>
                  </a:lnTo>
                  <a:lnTo>
                    <a:pt x="164035" y="150805"/>
                  </a:lnTo>
                  <a:lnTo>
                    <a:pt x="160009" y="146257"/>
                  </a:lnTo>
                  <a:lnTo>
                    <a:pt x="154784" y="143225"/>
                  </a:lnTo>
                  <a:lnTo>
                    <a:pt x="148761" y="141203"/>
                  </a:lnTo>
                  <a:lnTo>
                    <a:pt x="142206" y="139855"/>
                  </a:lnTo>
                  <a:lnTo>
                    <a:pt x="136142" y="138957"/>
                  </a:lnTo>
                  <a:lnTo>
                    <a:pt x="130406" y="138358"/>
                  </a:lnTo>
                  <a:lnTo>
                    <a:pt x="124890" y="137959"/>
                  </a:lnTo>
                  <a:lnTo>
                    <a:pt x="118671" y="138539"/>
                  </a:lnTo>
                  <a:lnTo>
                    <a:pt x="111986" y="139773"/>
                  </a:lnTo>
                  <a:lnTo>
                    <a:pt x="104989" y="141442"/>
                  </a:lnTo>
                  <a:lnTo>
                    <a:pt x="98631" y="143401"/>
                  </a:lnTo>
                  <a:lnTo>
                    <a:pt x="92699" y="145554"/>
                  </a:lnTo>
                  <a:lnTo>
                    <a:pt x="87051" y="147836"/>
                  </a:lnTo>
                  <a:lnTo>
                    <a:pt x="81593" y="151051"/>
                  </a:lnTo>
                  <a:lnTo>
                    <a:pt x="76260" y="154887"/>
                  </a:lnTo>
                  <a:lnTo>
                    <a:pt x="71012" y="159138"/>
                  </a:lnTo>
                  <a:lnTo>
                    <a:pt x="67513" y="163666"/>
                  </a:lnTo>
                  <a:lnTo>
                    <a:pt x="65180" y="168377"/>
                  </a:lnTo>
                  <a:lnTo>
                    <a:pt x="63625" y="173212"/>
                  </a:lnTo>
                  <a:lnTo>
                    <a:pt x="63435" y="178127"/>
                  </a:lnTo>
                  <a:lnTo>
                    <a:pt x="64155" y="183099"/>
                  </a:lnTo>
                  <a:lnTo>
                    <a:pt x="65482" y="188106"/>
                  </a:lnTo>
                  <a:lnTo>
                    <a:pt x="68060" y="193137"/>
                  </a:lnTo>
                  <a:lnTo>
                    <a:pt x="71471" y="198185"/>
                  </a:lnTo>
                  <a:lnTo>
                    <a:pt x="75439" y="203243"/>
                  </a:lnTo>
                  <a:lnTo>
                    <a:pt x="78931" y="207462"/>
                  </a:lnTo>
                  <a:lnTo>
                    <a:pt x="82106" y="211121"/>
                  </a:lnTo>
                  <a:lnTo>
                    <a:pt x="90995" y="2209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MARTInkAnnotation161"/>
            <p:cNvSpPr/>
            <p:nvPr/>
          </p:nvSpPr>
          <p:spPr>
            <a:xfrm>
              <a:off x="1844280" y="3299400"/>
              <a:ext cx="189720" cy="26640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89921" h="266701">
                  <a:moveTo>
                    <a:pt x="113720" y="0"/>
                  </a:moveTo>
                  <a:lnTo>
                    <a:pt x="113720" y="10606"/>
                  </a:lnTo>
                  <a:lnTo>
                    <a:pt x="111462" y="17696"/>
                  </a:lnTo>
                  <a:lnTo>
                    <a:pt x="109675" y="21957"/>
                  </a:lnTo>
                  <a:lnTo>
                    <a:pt x="106790" y="27338"/>
                  </a:lnTo>
                  <a:lnTo>
                    <a:pt x="103174" y="33466"/>
                  </a:lnTo>
                  <a:lnTo>
                    <a:pt x="94639" y="47047"/>
                  </a:lnTo>
                  <a:lnTo>
                    <a:pt x="85202" y="61550"/>
                  </a:lnTo>
                  <a:lnTo>
                    <a:pt x="79468" y="68973"/>
                  </a:lnTo>
                  <a:lnTo>
                    <a:pt x="73105" y="76462"/>
                  </a:lnTo>
                  <a:lnTo>
                    <a:pt x="66324" y="83995"/>
                  </a:lnTo>
                  <a:lnTo>
                    <a:pt x="60109" y="92404"/>
                  </a:lnTo>
                  <a:lnTo>
                    <a:pt x="54273" y="101396"/>
                  </a:lnTo>
                  <a:lnTo>
                    <a:pt x="48688" y="110777"/>
                  </a:lnTo>
                  <a:lnTo>
                    <a:pt x="37968" y="127975"/>
                  </a:lnTo>
                  <a:lnTo>
                    <a:pt x="32738" y="136116"/>
                  </a:lnTo>
                  <a:lnTo>
                    <a:pt x="27559" y="144931"/>
                  </a:lnTo>
                  <a:lnTo>
                    <a:pt x="22413" y="154194"/>
                  </a:lnTo>
                  <a:lnTo>
                    <a:pt x="17288" y="163756"/>
                  </a:lnTo>
                  <a:lnTo>
                    <a:pt x="13026" y="172671"/>
                  </a:lnTo>
                  <a:lnTo>
                    <a:pt x="9337" y="181154"/>
                  </a:lnTo>
                  <a:lnTo>
                    <a:pt x="6032" y="189350"/>
                  </a:lnTo>
                  <a:lnTo>
                    <a:pt x="3828" y="196506"/>
                  </a:lnTo>
                  <a:lnTo>
                    <a:pt x="2358" y="202971"/>
                  </a:lnTo>
                  <a:lnTo>
                    <a:pt x="1379" y="208974"/>
                  </a:lnTo>
                  <a:lnTo>
                    <a:pt x="726" y="214669"/>
                  </a:lnTo>
                  <a:lnTo>
                    <a:pt x="291" y="220160"/>
                  </a:lnTo>
                  <a:lnTo>
                    <a:pt x="0" y="225513"/>
                  </a:lnTo>
                  <a:lnTo>
                    <a:pt x="653" y="230775"/>
                  </a:lnTo>
                  <a:lnTo>
                    <a:pt x="1936" y="235977"/>
                  </a:lnTo>
                  <a:lnTo>
                    <a:pt x="3637" y="241138"/>
                  </a:lnTo>
                  <a:lnTo>
                    <a:pt x="7785" y="249130"/>
                  </a:lnTo>
                  <a:lnTo>
                    <a:pt x="10077" y="252447"/>
                  </a:lnTo>
                  <a:lnTo>
                    <a:pt x="14145" y="254658"/>
                  </a:lnTo>
                  <a:lnTo>
                    <a:pt x="19396" y="256132"/>
                  </a:lnTo>
                  <a:lnTo>
                    <a:pt x="25438" y="257115"/>
                  </a:lnTo>
                  <a:lnTo>
                    <a:pt x="31159" y="257770"/>
                  </a:lnTo>
                  <a:lnTo>
                    <a:pt x="36666" y="258207"/>
                  </a:lnTo>
                  <a:lnTo>
                    <a:pt x="42030" y="258498"/>
                  </a:lnTo>
                  <a:lnTo>
                    <a:pt x="57022" y="258821"/>
                  </a:lnTo>
                  <a:lnTo>
                    <a:pt x="65762" y="258908"/>
                  </a:lnTo>
                  <a:lnTo>
                    <a:pt x="73281" y="258118"/>
                  </a:lnTo>
                  <a:lnTo>
                    <a:pt x="79988" y="256746"/>
                  </a:lnTo>
                  <a:lnTo>
                    <a:pt x="86152" y="254984"/>
                  </a:lnTo>
                  <a:lnTo>
                    <a:pt x="91955" y="252116"/>
                  </a:lnTo>
                  <a:lnTo>
                    <a:pt x="97516" y="248511"/>
                  </a:lnTo>
                  <a:lnTo>
                    <a:pt x="102918" y="244414"/>
                  </a:lnTo>
                  <a:lnTo>
                    <a:pt x="115692" y="235346"/>
                  </a:lnTo>
                  <a:lnTo>
                    <a:pt x="132454" y="223818"/>
                  </a:lnTo>
                  <a:lnTo>
                    <a:pt x="137004" y="219983"/>
                  </a:lnTo>
                  <a:lnTo>
                    <a:pt x="139403" y="217776"/>
                  </a:lnTo>
                  <a:lnTo>
                    <a:pt x="141002" y="215457"/>
                  </a:lnTo>
                  <a:lnTo>
                    <a:pt x="143779" y="207187"/>
                  </a:lnTo>
                  <a:lnTo>
                    <a:pt x="143073" y="206705"/>
                  </a:lnTo>
                  <a:lnTo>
                    <a:pt x="140030" y="206169"/>
                  </a:lnTo>
                  <a:lnTo>
                    <a:pt x="137187" y="206026"/>
                  </a:lnTo>
                  <a:lnTo>
                    <a:pt x="129512" y="205867"/>
                  </a:lnTo>
                  <a:lnTo>
                    <a:pt x="125095" y="206672"/>
                  </a:lnTo>
                  <a:lnTo>
                    <a:pt x="120456" y="208055"/>
                  </a:lnTo>
                  <a:lnTo>
                    <a:pt x="115671" y="209823"/>
                  </a:lnTo>
                  <a:lnTo>
                    <a:pt x="111634" y="211849"/>
                  </a:lnTo>
                  <a:lnTo>
                    <a:pt x="108096" y="214046"/>
                  </a:lnTo>
                  <a:lnTo>
                    <a:pt x="104891" y="216358"/>
                  </a:lnTo>
                  <a:lnTo>
                    <a:pt x="99071" y="221184"/>
                  </a:lnTo>
                  <a:lnTo>
                    <a:pt x="96334" y="223656"/>
                  </a:lnTo>
                  <a:lnTo>
                    <a:pt x="94510" y="226150"/>
                  </a:lnTo>
                  <a:lnTo>
                    <a:pt x="92482" y="231180"/>
                  </a:lnTo>
                  <a:lnTo>
                    <a:pt x="91581" y="238496"/>
                  </a:lnTo>
                  <a:lnTo>
                    <a:pt x="91341" y="242818"/>
                  </a:lnTo>
                  <a:lnTo>
                    <a:pt x="92874" y="246545"/>
                  </a:lnTo>
                  <a:lnTo>
                    <a:pt x="95589" y="249877"/>
                  </a:lnTo>
                  <a:lnTo>
                    <a:pt x="99093" y="252944"/>
                  </a:lnTo>
                  <a:lnTo>
                    <a:pt x="103969" y="254990"/>
                  </a:lnTo>
                  <a:lnTo>
                    <a:pt x="109759" y="256353"/>
                  </a:lnTo>
                  <a:lnTo>
                    <a:pt x="116160" y="257262"/>
                  </a:lnTo>
                  <a:lnTo>
                    <a:pt x="122966" y="258715"/>
                  </a:lnTo>
                  <a:lnTo>
                    <a:pt x="130044" y="260530"/>
                  </a:lnTo>
                  <a:lnTo>
                    <a:pt x="137303" y="262587"/>
                  </a:lnTo>
                  <a:lnTo>
                    <a:pt x="143835" y="263958"/>
                  </a:lnTo>
                  <a:lnTo>
                    <a:pt x="149884" y="264872"/>
                  </a:lnTo>
                  <a:lnTo>
                    <a:pt x="155609" y="265481"/>
                  </a:lnTo>
                  <a:lnTo>
                    <a:pt x="161966" y="265887"/>
                  </a:lnTo>
                  <a:lnTo>
                    <a:pt x="168744" y="266159"/>
                  </a:lnTo>
                  <a:lnTo>
                    <a:pt x="189920" y="2667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SMARTInkAnnotation162"/>
            <p:cNvSpPr/>
            <p:nvPr/>
          </p:nvSpPr>
          <p:spPr>
            <a:xfrm>
              <a:off x="2118600" y="3360240"/>
              <a:ext cx="181440" cy="21312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181618" h="213361">
                  <a:moveTo>
                    <a:pt x="83270" y="0"/>
                  </a:moveTo>
                  <a:lnTo>
                    <a:pt x="75964" y="0"/>
                  </a:lnTo>
                  <a:lnTo>
                    <a:pt x="71698" y="4046"/>
                  </a:lnTo>
                  <a:lnTo>
                    <a:pt x="53701" y="21957"/>
                  </a:lnTo>
                  <a:lnTo>
                    <a:pt x="49164" y="27338"/>
                  </a:lnTo>
                  <a:lnTo>
                    <a:pt x="44446" y="33465"/>
                  </a:lnTo>
                  <a:lnTo>
                    <a:pt x="39607" y="40091"/>
                  </a:lnTo>
                  <a:lnTo>
                    <a:pt x="35535" y="47047"/>
                  </a:lnTo>
                  <a:lnTo>
                    <a:pt x="31973" y="54225"/>
                  </a:lnTo>
                  <a:lnTo>
                    <a:pt x="28752" y="61550"/>
                  </a:lnTo>
                  <a:lnTo>
                    <a:pt x="24912" y="68973"/>
                  </a:lnTo>
                  <a:lnTo>
                    <a:pt x="20657" y="76462"/>
                  </a:lnTo>
                  <a:lnTo>
                    <a:pt x="16128" y="83995"/>
                  </a:lnTo>
                  <a:lnTo>
                    <a:pt x="12262" y="91557"/>
                  </a:lnTo>
                  <a:lnTo>
                    <a:pt x="8838" y="99138"/>
                  </a:lnTo>
                  <a:lnTo>
                    <a:pt x="5709" y="106732"/>
                  </a:lnTo>
                  <a:lnTo>
                    <a:pt x="3623" y="113488"/>
                  </a:lnTo>
                  <a:lnTo>
                    <a:pt x="2232" y="119685"/>
                  </a:lnTo>
                  <a:lnTo>
                    <a:pt x="1305" y="125510"/>
                  </a:lnTo>
                  <a:lnTo>
                    <a:pt x="686" y="131933"/>
                  </a:lnTo>
                  <a:lnTo>
                    <a:pt x="274" y="138756"/>
                  </a:lnTo>
                  <a:lnTo>
                    <a:pt x="0" y="145844"/>
                  </a:lnTo>
                  <a:lnTo>
                    <a:pt x="1510" y="152263"/>
                  </a:lnTo>
                  <a:lnTo>
                    <a:pt x="4210" y="158235"/>
                  </a:lnTo>
                  <a:lnTo>
                    <a:pt x="7703" y="163910"/>
                  </a:lnTo>
                  <a:lnTo>
                    <a:pt x="10879" y="168540"/>
                  </a:lnTo>
                  <a:lnTo>
                    <a:pt x="13843" y="172473"/>
                  </a:lnTo>
                  <a:lnTo>
                    <a:pt x="16665" y="175942"/>
                  </a:lnTo>
                  <a:lnTo>
                    <a:pt x="21087" y="179101"/>
                  </a:lnTo>
                  <a:lnTo>
                    <a:pt x="26575" y="182054"/>
                  </a:lnTo>
                  <a:lnTo>
                    <a:pt x="32773" y="184870"/>
                  </a:lnTo>
                  <a:lnTo>
                    <a:pt x="40292" y="187593"/>
                  </a:lnTo>
                  <a:lnTo>
                    <a:pt x="48691" y="190256"/>
                  </a:lnTo>
                  <a:lnTo>
                    <a:pt x="57678" y="192877"/>
                  </a:lnTo>
                  <a:lnTo>
                    <a:pt x="67055" y="193778"/>
                  </a:lnTo>
                  <a:lnTo>
                    <a:pt x="76694" y="193532"/>
                  </a:lnTo>
                  <a:lnTo>
                    <a:pt x="86506" y="192521"/>
                  </a:lnTo>
                  <a:lnTo>
                    <a:pt x="95587" y="191001"/>
                  </a:lnTo>
                  <a:lnTo>
                    <a:pt x="104181" y="189141"/>
                  </a:lnTo>
                  <a:lnTo>
                    <a:pt x="112451" y="187054"/>
                  </a:lnTo>
                  <a:lnTo>
                    <a:pt x="120504" y="184816"/>
                  </a:lnTo>
                  <a:lnTo>
                    <a:pt x="136225" y="180072"/>
                  </a:lnTo>
                  <a:lnTo>
                    <a:pt x="143974" y="176775"/>
                  </a:lnTo>
                  <a:lnTo>
                    <a:pt x="151679" y="172883"/>
                  </a:lnTo>
                  <a:lnTo>
                    <a:pt x="159356" y="168595"/>
                  </a:lnTo>
                  <a:lnTo>
                    <a:pt x="165320" y="164044"/>
                  </a:lnTo>
                  <a:lnTo>
                    <a:pt x="170144" y="159316"/>
                  </a:lnTo>
                  <a:lnTo>
                    <a:pt x="174206" y="154470"/>
                  </a:lnTo>
                  <a:lnTo>
                    <a:pt x="176914" y="150394"/>
                  </a:lnTo>
                  <a:lnTo>
                    <a:pt x="178719" y="146829"/>
                  </a:lnTo>
                  <a:lnTo>
                    <a:pt x="180725" y="140611"/>
                  </a:lnTo>
                  <a:lnTo>
                    <a:pt x="181617" y="135024"/>
                  </a:lnTo>
                  <a:lnTo>
                    <a:pt x="180161" y="133197"/>
                  </a:lnTo>
                  <a:lnTo>
                    <a:pt x="177498" y="131978"/>
                  </a:lnTo>
                  <a:lnTo>
                    <a:pt x="174028" y="131165"/>
                  </a:lnTo>
                  <a:lnTo>
                    <a:pt x="170022" y="130623"/>
                  </a:lnTo>
                  <a:lnTo>
                    <a:pt x="165658" y="130262"/>
                  </a:lnTo>
                  <a:lnTo>
                    <a:pt x="161055" y="130022"/>
                  </a:lnTo>
                  <a:lnTo>
                    <a:pt x="151426" y="129754"/>
                  </a:lnTo>
                  <a:lnTo>
                    <a:pt x="146487" y="129683"/>
                  </a:lnTo>
                  <a:lnTo>
                    <a:pt x="141502" y="130482"/>
                  </a:lnTo>
                  <a:lnTo>
                    <a:pt x="136484" y="131861"/>
                  </a:lnTo>
                  <a:lnTo>
                    <a:pt x="131446" y="133628"/>
                  </a:lnTo>
                  <a:lnTo>
                    <a:pt x="126394" y="135652"/>
                  </a:lnTo>
                  <a:lnTo>
                    <a:pt x="121333" y="137848"/>
                  </a:lnTo>
                  <a:lnTo>
                    <a:pt x="116265" y="140159"/>
                  </a:lnTo>
                  <a:lnTo>
                    <a:pt x="111193" y="143392"/>
                  </a:lnTo>
                  <a:lnTo>
                    <a:pt x="106119" y="147241"/>
                  </a:lnTo>
                  <a:lnTo>
                    <a:pt x="101043" y="151501"/>
                  </a:lnTo>
                  <a:lnTo>
                    <a:pt x="97658" y="155188"/>
                  </a:lnTo>
                  <a:lnTo>
                    <a:pt x="93898" y="161541"/>
                  </a:lnTo>
                  <a:lnTo>
                    <a:pt x="92896" y="165267"/>
                  </a:lnTo>
                  <a:lnTo>
                    <a:pt x="92227" y="169445"/>
                  </a:lnTo>
                  <a:lnTo>
                    <a:pt x="91781" y="173924"/>
                  </a:lnTo>
                  <a:lnTo>
                    <a:pt x="93178" y="177756"/>
                  </a:lnTo>
                  <a:lnTo>
                    <a:pt x="95802" y="181157"/>
                  </a:lnTo>
                  <a:lnTo>
                    <a:pt x="99245" y="184271"/>
                  </a:lnTo>
                  <a:lnTo>
                    <a:pt x="107585" y="192247"/>
                  </a:lnTo>
                  <a:lnTo>
                    <a:pt x="122693" y="207120"/>
                  </a:lnTo>
                  <a:lnTo>
                    <a:pt x="125638" y="209200"/>
                  </a:lnTo>
                  <a:lnTo>
                    <a:pt x="128449" y="210587"/>
                  </a:lnTo>
                  <a:lnTo>
                    <a:pt x="136610" y="2133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SMARTInkAnnotation163"/>
            <p:cNvSpPr/>
            <p:nvPr/>
          </p:nvSpPr>
          <p:spPr>
            <a:xfrm>
              <a:off x="6172200" y="1044360"/>
              <a:ext cx="198000" cy="2664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98121" h="266701">
                  <a:moveTo>
                    <a:pt x="198120" y="0"/>
                  </a:moveTo>
                  <a:lnTo>
                    <a:pt x="187515" y="10606"/>
                  </a:lnTo>
                  <a:lnTo>
                    <a:pt x="182682" y="17696"/>
                  </a:lnTo>
                  <a:lnTo>
                    <a:pt x="180208" y="21957"/>
                  </a:lnTo>
                  <a:lnTo>
                    <a:pt x="175202" y="31208"/>
                  </a:lnTo>
                  <a:lnTo>
                    <a:pt x="172681" y="36045"/>
                  </a:lnTo>
                  <a:lnTo>
                    <a:pt x="169307" y="40964"/>
                  </a:lnTo>
                  <a:lnTo>
                    <a:pt x="165365" y="45936"/>
                  </a:lnTo>
                  <a:lnTo>
                    <a:pt x="161044" y="50944"/>
                  </a:lnTo>
                  <a:lnTo>
                    <a:pt x="156469" y="56822"/>
                  </a:lnTo>
                  <a:lnTo>
                    <a:pt x="151726" y="63282"/>
                  </a:lnTo>
                  <a:lnTo>
                    <a:pt x="146871" y="70128"/>
                  </a:lnTo>
                  <a:lnTo>
                    <a:pt x="141094" y="76385"/>
                  </a:lnTo>
                  <a:lnTo>
                    <a:pt x="134703" y="82250"/>
                  </a:lnTo>
                  <a:lnTo>
                    <a:pt x="127902" y="87853"/>
                  </a:lnTo>
                  <a:lnTo>
                    <a:pt x="121674" y="94129"/>
                  </a:lnTo>
                  <a:lnTo>
                    <a:pt x="115831" y="100853"/>
                  </a:lnTo>
                  <a:lnTo>
                    <a:pt x="103973" y="115943"/>
                  </a:lnTo>
                  <a:lnTo>
                    <a:pt x="90237" y="133939"/>
                  </a:lnTo>
                  <a:lnTo>
                    <a:pt x="83865" y="141786"/>
                  </a:lnTo>
                  <a:lnTo>
                    <a:pt x="77924" y="148711"/>
                  </a:lnTo>
                  <a:lnTo>
                    <a:pt x="72269" y="155021"/>
                  </a:lnTo>
                  <a:lnTo>
                    <a:pt x="65960" y="162614"/>
                  </a:lnTo>
                  <a:lnTo>
                    <a:pt x="52176" y="180082"/>
                  </a:lnTo>
                  <a:lnTo>
                    <a:pt x="46637" y="187788"/>
                  </a:lnTo>
                  <a:lnTo>
                    <a:pt x="42098" y="194619"/>
                  </a:lnTo>
                  <a:lnTo>
                    <a:pt x="33950" y="207571"/>
                  </a:lnTo>
                  <a:lnTo>
                    <a:pt x="24685" y="221794"/>
                  </a:lnTo>
                  <a:lnTo>
                    <a:pt x="20690" y="228296"/>
                  </a:lnTo>
                  <a:lnTo>
                    <a:pt x="17180" y="234324"/>
                  </a:lnTo>
                  <a:lnTo>
                    <a:pt x="13993" y="240036"/>
                  </a:lnTo>
                  <a:lnTo>
                    <a:pt x="11022" y="244691"/>
                  </a:lnTo>
                  <a:lnTo>
                    <a:pt x="5463" y="252120"/>
                  </a:lnTo>
                  <a:lnTo>
                    <a:pt x="2429" y="258244"/>
                  </a:lnTo>
                  <a:lnTo>
                    <a:pt x="0" y="2667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SMARTInkAnnotation164"/>
            <p:cNvSpPr/>
            <p:nvPr/>
          </p:nvSpPr>
          <p:spPr>
            <a:xfrm>
              <a:off x="6485400" y="975600"/>
              <a:ext cx="204480" cy="29988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04799" h="300175">
                  <a:moveTo>
                    <a:pt x="204798" y="0"/>
                  </a:moveTo>
                  <a:lnTo>
                    <a:pt x="200753" y="4045"/>
                  </a:lnTo>
                  <a:lnTo>
                    <a:pt x="197868" y="6083"/>
                  </a:lnTo>
                  <a:lnTo>
                    <a:pt x="194251" y="8289"/>
                  </a:lnTo>
                  <a:lnTo>
                    <a:pt x="190147" y="10606"/>
                  </a:lnTo>
                  <a:lnTo>
                    <a:pt x="186564" y="12151"/>
                  </a:lnTo>
                  <a:lnTo>
                    <a:pt x="180325" y="13867"/>
                  </a:lnTo>
                  <a:lnTo>
                    <a:pt x="176630" y="16018"/>
                  </a:lnTo>
                  <a:lnTo>
                    <a:pt x="172473" y="19145"/>
                  </a:lnTo>
                  <a:lnTo>
                    <a:pt x="168008" y="22924"/>
                  </a:lnTo>
                  <a:lnTo>
                    <a:pt x="162492" y="27982"/>
                  </a:lnTo>
                  <a:lnTo>
                    <a:pt x="149589" y="40377"/>
                  </a:lnTo>
                  <a:lnTo>
                    <a:pt x="72224" y="117345"/>
                  </a:lnTo>
                  <a:lnTo>
                    <a:pt x="63075" y="127337"/>
                  </a:lnTo>
                  <a:lnTo>
                    <a:pt x="54436" y="137385"/>
                  </a:lnTo>
                  <a:lnTo>
                    <a:pt x="46137" y="147470"/>
                  </a:lnTo>
                  <a:lnTo>
                    <a:pt x="38911" y="157580"/>
                  </a:lnTo>
                  <a:lnTo>
                    <a:pt x="32400" y="167707"/>
                  </a:lnTo>
                  <a:lnTo>
                    <a:pt x="26366" y="177845"/>
                  </a:lnTo>
                  <a:lnTo>
                    <a:pt x="20650" y="187990"/>
                  </a:lnTo>
                  <a:lnTo>
                    <a:pt x="9783" y="208293"/>
                  </a:lnTo>
                  <a:lnTo>
                    <a:pt x="6208" y="217602"/>
                  </a:lnTo>
                  <a:lnTo>
                    <a:pt x="3825" y="226348"/>
                  </a:lnTo>
                  <a:lnTo>
                    <a:pt x="2236" y="234719"/>
                  </a:lnTo>
                  <a:lnTo>
                    <a:pt x="1177" y="242839"/>
                  </a:lnTo>
                  <a:lnTo>
                    <a:pt x="470" y="250793"/>
                  </a:lnTo>
                  <a:lnTo>
                    <a:pt x="0" y="258635"/>
                  </a:lnTo>
                  <a:lnTo>
                    <a:pt x="533" y="265557"/>
                  </a:lnTo>
                  <a:lnTo>
                    <a:pt x="1735" y="271865"/>
                  </a:lnTo>
                  <a:lnTo>
                    <a:pt x="3383" y="277763"/>
                  </a:lnTo>
                  <a:lnTo>
                    <a:pt x="6175" y="282542"/>
                  </a:lnTo>
                  <a:lnTo>
                    <a:pt x="9730" y="286575"/>
                  </a:lnTo>
                  <a:lnTo>
                    <a:pt x="13792" y="290110"/>
                  </a:lnTo>
                  <a:lnTo>
                    <a:pt x="19887" y="293313"/>
                  </a:lnTo>
                  <a:lnTo>
                    <a:pt x="27338" y="296296"/>
                  </a:lnTo>
                  <a:lnTo>
                    <a:pt x="35691" y="299130"/>
                  </a:lnTo>
                  <a:lnTo>
                    <a:pt x="43801" y="300174"/>
                  </a:lnTo>
                  <a:lnTo>
                    <a:pt x="51747" y="300022"/>
                  </a:lnTo>
                  <a:lnTo>
                    <a:pt x="59584" y="299075"/>
                  </a:lnTo>
                  <a:lnTo>
                    <a:pt x="67349" y="297597"/>
                  </a:lnTo>
                  <a:lnTo>
                    <a:pt x="75065" y="295764"/>
                  </a:lnTo>
                  <a:lnTo>
                    <a:pt x="82750" y="293696"/>
                  </a:lnTo>
                  <a:lnTo>
                    <a:pt x="90413" y="290624"/>
                  </a:lnTo>
                  <a:lnTo>
                    <a:pt x="98061" y="286883"/>
                  </a:lnTo>
                  <a:lnTo>
                    <a:pt x="105700" y="282695"/>
                  </a:lnTo>
                  <a:lnTo>
                    <a:pt x="113332" y="278210"/>
                  </a:lnTo>
                  <a:lnTo>
                    <a:pt x="128587" y="268711"/>
                  </a:lnTo>
                  <a:lnTo>
                    <a:pt x="134517" y="263808"/>
                  </a:lnTo>
                  <a:lnTo>
                    <a:pt x="139318" y="258845"/>
                  </a:lnTo>
                  <a:lnTo>
                    <a:pt x="143364" y="253843"/>
                  </a:lnTo>
                  <a:lnTo>
                    <a:pt x="146909" y="248816"/>
                  </a:lnTo>
                  <a:lnTo>
                    <a:pt x="150119" y="243770"/>
                  </a:lnTo>
                  <a:lnTo>
                    <a:pt x="153105" y="238714"/>
                  </a:lnTo>
                  <a:lnTo>
                    <a:pt x="155096" y="233649"/>
                  </a:lnTo>
                  <a:lnTo>
                    <a:pt x="156423" y="228579"/>
                  </a:lnTo>
                  <a:lnTo>
                    <a:pt x="157898" y="219278"/>
                  </a:lnTo>
                  <a:lnTo>
                    <a:pt x="158554" y="212321"/>
                  </a:lnTo>
                  <a:lnTo>
                    <a:pt x="157882" y="209281"/>
                  </a:lnTo>
                  <a:lnTo>
                    <a:pt x="154878" y="203645"/>
                  </a:lnTo>
                  <a:lnTo>
                    <a:pt x="152044" y="201803"/>
                  </a:lnTo>
                  <a:lnTo>
                    <a:pt x="148463" y="200576"/>
                  </a:lnTo>
                  <a:lnTo>
                    <a:pt x="144381" y="199757"/>
                  </a:lnTo>
                  <a:lnTo>
                    <a:pt x="139967" y="200058"/>
                  </a:lnTo>
                  <a:lnTo>
                    <a:pt x="135331" y="201105"/>
                  </a:lnTo>
                  <a:lnTo>
                    <a:pt x="130547" y="202650"/>
                  </a:lnTo>
                  <a:lnTo>
                    <a:pt x="125664" y="205374"/>
                  </a:lnTo>
                  <a:lnTo>
                    <a:pt x="120715" y="208882"/>
                  </a:lnTo>
                  <a:lnTo>
                    <a:pt x="115723" y="212915"/>
                  </a:lnTo>
                  <a:lnTo>
                    <a:pt x="110701" y="216450"/>
                  </a:lnTo>
                  <a:lnTo>
                    <a:pt x="105660" y="219653"/>
                  </a:lnTo>
                  <a:lnTo>
                    <a:pt x="100607" y="222636"/>
                  </a:lnTo>
                  <a:lnTo>
                    <a:pt x="96391" y="226317"/>
                  </a:lnTo>
                  <a:lnTo>
                    <a:pt x="92733" y="230465"/>
                  </a:lnTo>
                  <a:lnTo>
                    <a:pt x="89448" y="234923"/>
                  </a:lnTo>
                  <a:lnTo>
                    <a:pt x="87259" y="239589"/>
                  </a:lnTo>
                  <a:lnTo>
                    <a:pt x="85799" y="244393"/>
                  </a:lnTo>
                  <a:lnTo>
                    <a:pt x="84825" y="249289"/>
                  </a:lnTo>
                  <a:lnTo>
                    <a:pt x="85869" y="254246"/>
                  </a:lnTo>
                  <a:lnTo>
                    <a:pt x="88259" y="259244"/>
                  </a:lnTo>
                  <a:lnTo>
                    <a:pt x="91546" y="264269"/>
                  </a:lnTo>
                  <a:lnTo>
                    <a:pt x="95430" y="268466"/>
                  </a:lnTo>
                  <a:lnTo>
                    <a:pt x="99713" y="272111"/>
                  </a:lnTo>
                  <a:lnTo>
                    <a:pt x="104261" y="275387"/>
                  </a:lnTo>
                  <a:lnTo>
                    <a:pt x="110680" y="278418"/>
                  </a:lnTo>
                  <a:lnTo>
                    <a:pt x="118346" y="281285"/>
                  </a:lnTo>
                  <a:lnTo>
                    <a:pt x="126844" y="284044"/>
                  </a:lnTo>
                  <a:lnTo>
                    <a:pt x="135049" y="285882"/>
                  </a:lnTo>
                  <a:lnTo>
                    <a:pt x="143059" y="287108"/>
                  </a:lnTo>
                  <a:lnTo>
                    <a:pt x="150938" y="287926"/>
                  </a:lnTo>
                  <a:lnTo>
                    <a:pt x="157884" y="289317"/>
                  </a:lnTo>
                  <a:lnTo>
                    <a:pt x="164210" y="291091"/>
                  </a:lnTo>
                  <a:lnTo>
                    <a:pt x="170119" y="293121"/>
                  </a:lnTo>
                  <a:lnTo>
                    <a:pt x="176599" y="293627"/>
                  </a:lnTo>
                  <a:lnTo>
                    <a:pt x="183458" y="293118"/>
                  </a:lnTo>
                  <a:lnTo>
                    <a:pt x="204798" y="2895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SMARTInkAnnotation165"/>
            <p:cNvSpPr/>
            <p:nvPr/>
          </p:nvSpPr>
          <p:spPr>
            <a:xfrm>
              <a:off x="6842880" y="1036440"/>
              <a:ext cx="227880" cy="2696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28010" h="269782">
                  <a:moveTo>
                    <a:pt x="68568" y="0"/>
                  </a:moveTo>
                  <a:lnTo>
                    <a:pt x="68568" y="4045"/>
                  </a:lnTo>
                  <a:lnTo>
                    <a:pt x="67722" y="6083"/>
                  </a:lnTo>
                  <a:lnTo>
                    <a:pt x="63331" y="12997"/>
                  </a:lnTo>
                  <a:lnTo>
                    <a:pt x="60807" y="20408"/>
                  </a:lnTo>
                  <a:lnTo>
                    <a:pt x="55074" y="28813"/>
                  </a:lnTo>
                  <a:lnTo>
                    <a:pt x="50435" y="37077"/>
                  </a:lnTo>
                  <a:lnTo>
                    <a:pt x="43063" y="51249"/>
                  </a:lnTo>
                  <a:lnTo>
                    <a:pt x="39712" y="56180"/>
                  </a:lnTo>
                  <a:lnTo>
                    <a:pt x="35784" y="61160"/>
                  </a:lnTo>
                  <a:lnTo>
                    <a:pt x="31472" y="66173"/>
                  </a:lnTo>
                  <a:lnTo>
                    <a:pt x="24424" y="74001"/>
                  </a:lnTo>
                  <a:lnTo>
                    <a:pt x="18469" y="81149"/>
                  </a:lnTo>
                  <a:lnTo>
                    <a:pt x="15695" y="85426"/>
                  </a:lnTo>
                  <a:lnTo>
                    <a:pt x="10355" y="93847"/>
                  </a:lnTo>
                  <a:lnTo>
                    <a:pt x="5160" y="100412"/>
                  </a:lnTo>
                  <a:lnTo>
                    <a:pt x="3436" y="104195"/>
                  </a:lnTo>
                  <a:lnTo>
                    <a:pt x="2287" y="108410"/>
                  </a:lnTo>
                  <a:lnTo>
                    <a:pt x="0" y="121851"/>
                  </a:lnTo>
                  <a:lnTo>
                    <a:pt x="28506" y="93400"/>
                  </a:lnTo>
                  <a:lnTo>
                    <a:pt x="34240" y="88513"/>
                  </a:lnTo>
                  <a:lnTo>
                    <a:pt x="40602" y="83562"/>
                  </a:lnTo>
                  <a:lnTo>
                    <a:pt x="47384" y="78568"/>
                  </a:lnTo>
                  <a:lnTo>
                    <a:pt x="55293" y="74392"/>
                  </a:lnTo>
                  <a:lnTo>
                    <a:pt x="63951" y="70761"/>
                  </a:lnTo>
                  <a:lnTo>
                    <a:pt x="98135" y="58851"/>
                  </a:lnTo>
                  <a:lnTo>
                    <a:pt x="106060" y="57014"/>
                  </a:lnTo>
                  <a:lnTo>
                    <a:pt x="113882" y="55789"/>
                  </a:lnTo>
                  <a:lnTo>
                    <a:pt x="121639" y="54973"/>
                  </a:lnTo>
                  <a:lnTo>
                    <a:pt x="129347" y="55275"/>
                  </a:lnTo>
                  <a:lnTo>
                    <a:pt x="137028" y="56323"/>
                  </a:lnTo>
                  <a:lnTo>
                    <a:pt x="144688" y="57869"/>
                  </a:lnTo>
                  <a:lnTo>
                    <a:pt x="151488" y="59746"/>
                  </a:lnTo>
                  <a:lnTo>
                    <a:pt x="157715" y="61844"/>
                  </a:lnTo>
                  <a:lnTo>
                    <a:pt x="163558" y="64089"/>
                  </a:lnTo>
                  <a:lnTo>
                    <a:pt x="169149" y="67279"/>
                  </a:lnTo>
                  <a:lnTo>
                    <a:pt x="174568" y="71100"/>
                  </a:lnTo>
                  <a:lnTo>
                    <a:pt x="179875" y="75340"/>
                  </a:lnTo>
                  <a:lnTo>
                    <a:pt x="185106" y="79860"/>
                  </a:lnTo>
                  <a:lnTo>
                    <a:pt x="190286" y="84567"/>
                  </a:lnTo>
                  <a:lnTo>
                    <a:pt x="195434" y="89398"/>
                  </a:lnTo>
                  <a:lnTo>
                    <a:pt x="200559" y="95159"/>
                  </a:lnTo>
                  <a:lnTo>
                    <a:pt x="205668" y="101539"/>
                  </a:lnTo>
                  <a:lnTo>
                    <a:pt x="210769" y="108333"/>
                  </a:lnTo>
                  <a:lnTo>
                    <a:pt x="215015" y="114555"/>
                  </a:lnTo>
                  <a:lnTo>
                    <a:pt x="218693" y="120397"/>
                  </a:lnTo>
                  <a:lnTo>
                    <a:pt x="221991" y="125985"/>
                  </a:lnTo>
                  <a:lnTo>
                    <a:pt x="224190" y="133096"/>
                  </a:lnTo>
                  <a:lnTo>
                    <a:pt x="225656" y="141224"/>
                  </a:lnTo>
                  <a:lnTo>
                    <a:pt x="226634" y="150029"/>
                  </a:lnTo>
                  <a:lnTo>
                    <a:pt x="227285" y="158440"/>
                  </a:lnTo>
                  <a:lnTo>
                    <a:pt x="227720" y="166586"/>
                  </a:lnTo>
                  <a:lnTo>
                    <a:pt x="228009" y="174558"/>
                  </a:lnTo>
                  <a:lnTo>
                    <a:pt x="226508" y="182412"/>
                  </a:lnTo>
                  <a:lnTo>
                    <a:pt x="223814" y="190188"/>
                  </a:lnTo>
                  <a:lnTo>
                    <a:pt x="220326" y="197912"/>
                  </a:lnTo>
                  <a:lnTo>
                    <a:pt x="216307" y="204754"/>
                  </a:lnTo>
                  <a:lnTo>
                    <a:pt x="211933" y="211010"/>
                  </a:lnTo>
                  <a:lnTo>
                    <a:pt x="207326" y="216873"/>
                  </a:lnTo>
                  <a:lnTo>
                    <a:pt x="202559" y="222475"/>
                  </a:lnTo>
                  <a:lnTo>
                    <a:pt x="197689" y="227904"/>
                  </a:lnTo>
                  <a:lnTo>
                    <a:pt x="192748" y="233216"/>
                  </a:lnTo>
                  <a:lnTo>
                    <a:pt x="186915" y="238450"/>
                  </a:lnTo>
                  <a:lnTo>
                    <a:pt x="180486" y="243634"/>
                  </a:lnTo>
                  <a:lnTo>
                    <a:pt x="173660" y="248782"/>
                  </a:lnTo>
                  <a:lnTo>
                    <a:pt x="166570" y="253061"/>
                  </a:lnTo>
                  <a:lnTo>
                    <a:pt x="159302" y="256761"/>
                  </a:lnTo>
                  <a:lnTo>
                    <a:pt x="151917" y="260074"/>
                  </a:lnTo>
                  <a:lnTo>
                    <a:pt x="144455" y="263129"/>
                  </a:lnTo>
                  <a:lnTo>
                    <a:pt x="136939" y="266013"/>
                  </a:lnTo>
                  <a:lnTo>
                    <a:pt x="129388" y="268782"/>
                  </a:lnTo>
                  <a:lnTo>
                    <a:pt x="122662" y="269781"/>
                  </a:lnTo>
                  <a:lnTo>
                    <a:pt x="116485" y="269601"/>
                  </a:lnTo>
                  <a:lnTo>
                    <a:pt x="110673" y="268634"/>
                  </a:lnTo>
                  <a:lnTo>
                    <a:pt x="104257" y="267142"/>
                  </a:lnTo>
                  <a:lnTo>
                    <a:pt x="97441" y="265302"/>
                  </a:lnTo>
                  <a:lnTo>
                    <a:pt x="90357" y="263228"/>
                  </a:lnTo>
                  <a:lnTo>
                    <a:pt x="83940" y="261845"/>
                  </a:lnTo>
                  <a:lnTo>
                    <a:pt x="77971" y="260923"/>
                  </a:lnTo>
                  <a:lnTo>
                    <a:pt x="60948" y="2590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SMARTInkAnnotation166"/>
            <p:cNvSpPr/>
            <p:nvPr/>
          </p:nvSpPr>
          <p:spPr>
            <a:xfrm>
              <a:off x="6934320" y="1028880"/>
              <a:ext cx="357840" cy="3780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58141" h="38101">
                  <a:moveTo>
                    <a:pt x="0" y="0"/>
                  </a:moveTo>
                  <a:lnTo>
                    <a:pt x="44881" y="0"/>
                  </a:lnTo>
                  <a:lnTo>
                    <a:pt x="53628" y="847"/>
                  </a:lnTo>
                  <a:lnTo>
                    <a:pt x="62846" y="2258"/>
                  </a:lnTo>
                  <a:lnTo>
                    <a:pt x="72377" y="4045"/>
                  </a:lnTo>
                  <a:lnTo>
                    <a:pt x="82965" y="5237"/>
                  </a:lnTo>
                  <a:lnTo>
                    <a:pt x="94257" y="6031"/>
                  </a:lnTo>
                  <a:lnTo>
                    <a:pt x="106018" y="6561"/>
                  </a:lnTo>
                  <a:lnTo>
                    <a:pt x="118092" y="7761"/>
                  </a:lnTo>
                  <a:lnTo>
                    <a:pt x="130375" y="9407"/>
                  </a:lnTo>
                  <a:lnTo>
                    <a:pt x="142796" y="11351"/>
                  </a:lnTo>
                  <a:lnTo>
                    <a:pt x="155311" y="12648"/>
                  </a:lnTo>
                  <a:lnTo>
                    <a:pt x="167887" y="13512"/>
                  </a:lnTo>
                  <a:lnTo>
                    <a:pt x="180505" y="14088"/>
                  </a:lnTo>
                  <a:lnTo>
                    <a:pt x="193997" y="15319"/>
                  </a:lnTo>
                  <a:lnTo>
                    <a:pt x="208071" y="16986"/>
                  </a:lnTo>
                  <a:lnTo>
                    <a:pt x="222534" y="18944"/>
                  </a:lnTo>
                  <a:lnTo>
                    <a:pt x="235562" y="21096"/>
                  </a:lnTo>
                  <a:lnTo>
                    <a:pt x="247635" y="23377"/>
                  </a:lnTo>
                  <a:lnTo>
                    <a:pt x="259070" y="25745"/>
                  </a:lnTo>
                  <a:lnTo>
                    <a:pt x="270080" y="27323"/>
                  </a:lnTo>
                  <a:lnTo>
                    <a:pt x="280806" y="28376"/>
                  </a:lnTo>
                  <a:lnTo>
                    <a:pt x="291344" y="29077"/>
                  </a:lnTo>
                  <a:lnTo>
                    <a:pt x="309827" y="29857"/>
                  </a:lnTo>
                  <a:lnTo>
                    <a:pt x="318311" y="30064"/>
                  </a:lnTo>
                  <a:lnTo>
                    <a:pt x="325661" y="31050"/>
                  </a:lnTo>
                  <a:lnTo>
                    <a:pt x="332254" y="32553"/>
                  </a:lnTo>
                  <a:lnTo>
                    <a:pt x="338342" y="34402"/>
                  </a:lnTo>
                  <a:lnTo>
                    <a:pt x="343249" y="35635"/>
                  </a:lnTo>
                  <a:lnTo>
                    <a:pt x="347366" y="36457"/>
                  </a:lnTo>
                  <a:lnTo>
                    <a:pt x="358140" y="381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MARTInkAnnotation167"/>
            <p:cNvSpPr/>
            <p:nvPr/>
          </p:nvSpPr>
          <p:spPr>
            <a:xfrm>
              <a:off x="6332040" y="1714680"/>
              <a:ext cx="129240" cy="3045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304560"/>
                <a:gd name="textAreaBottom" fmla="*/ 304560 h 304560"/>
              </a:gdLst>
              <a:ahLst/>
              <a:rect l="textAreaLeft" t="textAreaTop" r="textAreaRight" b="textAreaBottom"/>
              <a:pathLst>
                <a:path w="129541" h="304801">
                  <a:moveTo>
                    <a:pt x="129540" y="0"/>
                  </a:moveTo>
                  <a:lnTo>
                    <a:pt x="122979" y="0"/>
                  </a:lnTo>
                  <a:lnTo>
                    <a:pt x="122626" y="847"/>
                  </a:lnTo>
                  <a:lnTo>
                    <a:pt x="122233" y="4045"/>
                  </a:lnTo>
                  <a:lnTo>
                    <a:pt x="121283" y="6084"/>
                  </a:lnTo>
                  <a:lnTo>
                    <a:pt x="117968" y="10606"/>
                  </a:lnTo>
                  <a:lnTo>
                    <a:pt x="115899" y="13844"/>
                  </a:lnTo>
                  <a:lnTo>
                    <a:pt x="113673" y="17696"/>
                  </a:lnTo>
                  <a:lnTo>
                    <a:pt x="108941" y="26492"/>
                  </a:lnTo>
                  <a:lnTo>
                    <a:pt x="104016" y="36045"/>
                  </a:lnTo>
                  <a:lnTo>
                    <a:pt x="100671" y="41810"/>
                  </a:lnTo>
                  <a:lnTo>
                    <a:pt x="92439" y="54989"/>
                  </a:lnTo>
                  <a:lnTo>
                    <a:pt x="88719" y="62059"/>
                  </a:lnTo>
                  <a:lnTo>
                    <a:pt x="85393" y="69313"/>
                  </a:lnTo>
                  <a:lnTo>
                    <a:pt x="82329" y="76689"/>
                  </a:lnTo>
                  <a:lnTo>
                    <a:pt x="78593" y="84146"/>
                  </a:lnTo>
                  <a:lnTo>
                    <a:pt x="74408" y="91657"/>
                  </a:lnTo>
                  <a:lnTo>
                    <a:pt x="69926" y="99205"/>
                  </a:lnTo>
                  <a:lnTo>
                    <a:pt x="66091" y="106777"/>
                  </a:lnTo>
                  <a:lnTo>
                    <a:pt x="62688" y="114364"/>
                  </a:lnTo>
                  <a:lnTo>
                    <a:pt x="59572" y="121963"/>
                  </a:lnTo>
                  <a:lnTo>
                    <a:pt x="55801" y="130415"/>
                  </a:lnTo>
                  <a:lnTo>
                    <a:pt x="47096" y="148838"/>
                  </a:lnTo>
                  <a:lnTo>
                    <a:pt x="43251" y="158492"/>
                  </a:lnTo>
                  <a:lnTo>
                    <a:pt x="39840" y="168315"/>
                  </a:lnTo>
                  <a:lnTo>
                    <a:pt x="36720" y="178250"/>
                  </a:lnTo>
                  <a:lnTo>
                    <a:pt x="32947" y="188260"/>
                  </a:lnTo>
                  <a:lnTo>
                    <a:pt x="28738" y="198320"/>
                  </a:lnTo>
                  <a:lnTo>
                    <a:pt x="24239" y="208413"/>
                  </a:lnTo>
                  <a:lnTo>
                    <a:pt x="20393" y="217682"/>
                  </a:lnTo>
                  <a:lnTo>
                    <a:pt x="16981" y="226401"/>
                  </a:lnTo>
                  <a:lnTo>
                    <a:pt x="10934" y="242863"/>
                  </a:lnTo>
                  <a:lnTo>
                    <a:pt x="5424" y="258646"/>
                  </a:lnTo>
                  <a:lnTo>
                    <a:pt x="3616" y="265564"/>
                  </a:lnTo>
                  <a:lnTo>
                    <a:pt x="2412" y="271869"/>
                  </a:lnTo>
                  <a:lnTo>
                    <a:pt x="1608" y="277766"/>
                  </a:lnTo>
                  <a:lnTo>
                    <a:pt x="715" y="286576"/>
                  </a:lnTo>
                  <a:lnTo>
                    <a:pt x="318" y="293314"/>
                  </a:lnTo>
                  <a:lnTo>
                    <a:pt x="0" y="3048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SMARTInkAnnotation168"/>
            <p:cNvSpPr/>
            <p:nvPr/>
          </p:nvSpPr>
          <p:spPr>
            <a:xfrm>
              <a:off x="6576480" y="1737360"/>
              <a:ext cx="273600" cy="30456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304560"/>
                <a:gd name="textAreaBottom" fmla="*/ 304560 h 304560"/>
              </a:gdLst>
              <a:ahLst/>
              <a:rect l="textAreaLeft" t="textAreaTop" r="textAreaRight" b="textAreaBottom"/>
              <a:pathLst>
                <a:path w="273734" h="304801">
                  <a:moveTo>
                    <a:pt x="144193" y="0"/>
                  </a:moveTo>
                  <a:lnTo>
                    <a:pt x="144193" y="6561"/>
                  </a:lnTo>
                  <a:lnTo>
                    <a:pt x="138110" y="14341"/>
                  </a:lnTo>
                  <a:lnTo>
                    <a:pt x="130349" y="27486"/>
                  </a:lnTo>
                  <a:lnTo>
                    <a:pt x="122236" y="40156"/>
                  </a:lnTo>
                  <a:lnTo>
                    <a:pt x="116855" y="47091"/>
                  </a:lnTo>
                  <a:lnTo>
                    <a:pt x="110727" y="54254"/>
                  </a:lnTo>
                  <a:lnTo>
                    <a:pt x="104103" y="61570"/>
                  </a:lnTo>
                  <a:lnTo>
                    <a:pt x="97993" y="69833"/>
                  </a:lnTo>
                  <a:lnTo>
                    <a:pt x="92227" y="78729"/>
                  </a:lnTo>
                  <a:lnTo>
                    <a:pt x="86689" y="88046"/>
                  </a:lnTo>
                  <a:lnTo>
                    <a:pt x="81304" y="97644"/>
                  </a:lnTo>
                  <a:lnTo>
                    <a:pt x="70804" y="117340"/>
                  </a:lnTo>
                  <a:lnTo>
                    <a:pt x="64787" y="127333"/>
                  </a:lnTo>
                  <a:lnTo>
                    <a:pt x="58236" y="137382"/>
                  </a:lnTo>
                  <a:lnTo>
                    <a:pt x="51328" y="147468"/>
                  </a:lnTo>
                  <a:lnTo>
                    <a:pt x="45030" y="157579"/>
                  </a:lnTo>
                  <a:lnTo>
                    <a:pt x="39138" y="167706"/>
                  </a:lnTo>
                  <a:lnTo>
                    <a:pt x="33516" y="177844"/>
                  </a:lnTo>
                  <a:lnTo>
                    <a:pt x="28075" y="187143"/>
                  </a:lnTo>
                  <a:lnTo>
                    <a:pt x="17514" y="204248"/>
                  </a:lnTo>
                  <a:lnTo>
                    <a:pt x="13173" y="212366"/>
                  </a:lnTo>
                  <a:lnTo>
                    <a:pt x="9434" y="220317"/>
                  </a:lnTo>
                  <a:lnTo>
                    <a:pt x="6093" y="228158"/>
                  </a:lnTo>
                  <a:lnTo>
                    <a:pt x="3867" y="235079"/>
                  </a:lnTo>
                  <a:lnTo>
                    <a:pt x="2382" y="241386"/>
                  </a:lnTo>
                  <a:lnTo>
                    <a:pt x="1393" y="247284"/>
                  </a:lnTo>
                  <a:lnTo>
                    <a:pt x="732" y="252910"/>
                  </a:lnTo>
                  <a:lnTo>
                    <a:pt x="293" y="258353"/>
                  </a:lnTo>
                  <a:lnTo>
                    <a:pt x="0" y="263676"/>
                  </a:lnTo>
                  <a:lnTo>
                    <a:pt x="651" y="268071"/>
                  </a:lnTo>
                  <a:lnTo>
                    <a:pt x="3632" y="275212"/>
                  </a:lnTo>
                  <a:lnTo>
                    <a:pt x="5612" y="277455"/>
                  </a:lnTo>
                  <a:lnTo>
                    <a:pt x="7780" y="278950"/>
                  </a:lnTo>
                  <a:lnTo>
                    <a:pt x="10071" y="279947"/>
                  </a:lnTo>
                  <a:lnTo>
                    <a:pt x="14138" y="280611"/>
                  </a:lnTo>
                  <a:lnTo>
                    <a:pt x="19390" y="281054"/>
                  </a:lnTo>
                  <a:lnTo>
                    <a:pt x="25431" y="281350"/>
                  </a:lnTo>
                  <a:lnTo>
                    <a:pt x="31152" y="280700"/>
                  </a:lnTo>
                  <a:lnTo>
                    <a:pt x="36659" y="279420"/>
                  </a:lnTo>
                  <a:lnTo>
                    <a:pt x="42023" y="277720"/>
                  </a:lnTo>
                  <a:lnTo>
                    <a:pt x="47294" y="275740"/>
                  </a:lnTo>
                  <a:lnTo>
                    <a:pt x="52500" y="273573"/>
                  </a:lnTo>
                  <a:lnTo>
                    <a:pt x="57664" y="271283"/>
                  </a:lnTo>
                  <a:lnTo>
                    <a:pt x="63648" y="268062"/>
                  </a:lnTo>
                  <a:lnTo>
                    <a:pt x="70176" y="264222"/>
                  </a:lnTo>
                  <a:lnTo>
                    <a:pt x="77069" y="259968"/>
                  </a:lnTo>
                  <a:lnTo>
                    <a:pt x="83357" y="255439"/>
                  </a:lnTo>
                  <a:lnTo>
                    <a:pt x="89243" y="250726"/>
                  </a:lnTo>
                  <a:lnTo>
                    <a:pt x="94860" y="245891"/>
                  </a:lnTo>
                  <a:lnTo>
                    <a:pt x="98604" y="240127"/>
                  </a:lnTo>
                  <a:lnTo>
                    <a:pt x="101100" y="233745"/>
                  </a:lnTo>
                  <a:lnTo>
                    <a:pt x="102765" y="226950"/>
                  </a:lnTo>
                  <a:lnTo>
                    <a:pt x="104721" y="221574"/>
                  </a:lnTo>
                  <a:lnTo>
                    <a:pt x="109152" y="213342"/>
                  </a:lnTo>
                  <a:lnTo>
                    <a:pt x="111686" y="206861"/>
                  </a:lnTo>
                  <a:lnTo>
                    <a:pt x="113312" y="199847"/>
                  </a:lnTo>
                  <a:lnTo>
                    <a:pt x="112600" y="199271"/>
                  </a:lnTo>
                  <a:lnTo>
                    <a:pt x="107117" y="198272"/>
                  </a:lnTo>
                  <a:lnTo>
                    <a:pt x="104290" y="200446"/>
                  </a:lnTo>
                  <a:lnTo>
                    <a:pt x="97939" y="206429"/>
                  </a:lnTo>
                  <a:lnTo>
                    <a:pt x="95578" y="208740"/>
                  </a:lnTo>
                  <a:lnTo>
                    <a:pt x="94002" y="211973"/>
                  </a:lnTo>
                  <a:lnTo>
                    <a:pt x="92252" y="220082"/>
                  </a:lnTo>
                  <a:lnTo>
                    <a:pt x="91475" y="229330"/>
                  </a:lnTo>
                  <a:lnTo>
                    <a:pt x="91268" y="234167"/>
                  </a:lnTo>
                  <a:lnTo>
                    <a:pt x="92823" y="239931"/>
                  </a:lnTo>
                  <a:lnTo>
                    <a:pt x="95553" y="246314"/>
                  </a:lnTo>
                  <a:lnTo>
                    <a:pt x="99066" y="253110"/>
                  </a:lnTo>
                  <a:lnTo>
                    <a:pt x="103949" y="259333"/>
                  </a:lnTo>
                  <a:lnTo>
                    <a:pt x="109744" y="265176"/>
                  </a:lnTo>
                  <a:lnTo>
                    <a:pt x="116147" y="270764"/>
                  </a:lnTo>
                  <a:lnTo>
                    <a:pt x="122956" y="275336"/>
                  </a:lnTo>
                  <a:lnTo>
                    <a:pt x="130034" y="279231"/>
                  </a:lnTo>
                  <a:lnTo>
                    <a:pt x="137294" y="282674"/>
                  </a:lnTo>
                  <a:lnTo>
                    <a:pt x="145520" y="285816"/>
                  </a:lnTo>
                  <a:lnTo>
                    <a:pt x="154391" y="288758"/>
                  </a:lnTo>
                  <a:lnTo>
                    <a:pt x="163692" y="291565"/>
                  </a:lnTo>
                  <a:lnTo>
                    <a:pt x="174126" y="294284"/>
                  </a:lnTo>
                  <a:lnTo>
                    <a:pt x="197009" y="299562"/>
                  </a:lnTo>
                  <a:lnTo>
                    <a:pt x="209036" y="301308"/>
                  </a:lnTo>
                  <a:lnTo>
                    <a:pt x="221288" y="302472"/>
                  </a:lnTo>
                  <a:lnTo>
                    <a:pt x="243651" y="303766"/>
                  </a:lnTo>
                  <a:lnTo>
                    <a:pt x="273733" y="3048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SMARTInkAnnotation169"/>
            <p:cNvSpPr/>
            <p:nvPr/>
          </p:nvSpPr>
          <p:spPr>
            <a:xfrm>
              <a:off x="6972480" y="1791000"/>
              <a:ext cx="240840" cy="26496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41070" h="265033">
                  <a:moveTo>
                    <a:pt x="53235" y="0"/>
                  </a:moveTo>
                  <a:lnTo>
                    <a:pt x="53235" y="37077"/>
                  </a:lnTo>
                  <a:lnTo>
                    <a:pt x="51542" y="41651"/>
                  </a:lnTo>
                  <a:lnTo>
                    <a:pt x="48720" y="46394"/>
                  </a:lnTo>
                  <a:lnTo>
                    <a:pt x="45146" y="51249"/>
                  </a:lnTo>
                  <a:lnTo>
                    <a:pt x="41915" y="56180"/>
                  </a:lnTo>
                  <a:lnTo>
                    <a:pt x="38915" y="61160"/>
                  </a:lnTo>
                  <a:lnTo>
                    <a:pt x="36069" y="66173"/>
                  </a:lnTo>
                  <a:lnTo>
                    <a:pt x="30647" y="76259"/>
                  </a:lnTo>
                  <a:lnTo>
                    <a:pt x="20269" y="96532"/>
                  </a:lnTo>
                  <a:lnTo>
                    <a:pt x="15159" y="104428"/>
                  </a:lnTo>
                  <a:lnTo>
                    <a:pt x="12611" y="107718"/>
                  </a:lnTo>
                  <a:lnTo>
                    <a:pt x="9780" y="113633"/>
                  </a:lnTo>
                  <a:lnTo>
                    <a:pt x="9025" y="116395"/>
                  </a:lnTo>
                  <a:lnTo>
                    <a:pt x="5928" y="121722"/>
                  </a:lnTo>
                  <a:lnTo>
                    <a:pt x="0" y="129405"/>
                  </a:lnTo>
                  <a:lnTo>
                    <a:pt x="3971" y="125455"/>
                  </a:lnTo>
                  <a:lnTo>
                    <a:pt x="5153" y="123430"/>
                  </a:lnTo>
                  <a:lnTo>
                    <a:pt x="6465" y="118922"/>
                  </a:lnTo>
                  <a:lnTo>
                    <a:pt x="11564" y="111839"/>
                  </a:lnTo>
                  <a:lnTo>
                    <a:pt x="15294" y="107579"/>
                  </a:lnTo>
                  <a:lnTo>
                    <a:pt x="19474" y="103046"/>
                  </a:lnTo>
                  <a:lnTo>
                    <a:pt x="28635" y="93494"/>
                  </a:lnTo>
                  <a:lnTo>
                    <a:pt x="34295" y="88576"/>
                  </a:lnTo>
                  <a:lnTo>
                    <a:pt x="40609" y="83604"/>
                  </a:lnTo>
                  <a:lnTo>
                    <a:pt x="47357" y="78596"/>
                  </a:lnTo>
                  <a:lnTo>
                    <a:pt x="54397" y="74411"/>
                  </a:lnTo>
                  <a:lnTo>
                    <a:pt x="61630" y="70774"/>
                  </a:lnTo>
                  <a:lnTo>
                    <a:pt x="68992" y="67503"/>
                  </a:lnTo>
                  <a:lnTo>
                    <a:pt x="77286" y="65322"/>
                  </a:lnTo>
                  <a:lnTo>
                    <a:pt x="86202" y="63868"/>
                  </a:lnTo>
                  <a:lnTo>
                    <a:pt x="95533" y="62898"/>
                  </a:lnTo>
                  <a:lnTo>
                    <a:pt x="104293" y="62252"/>
                  </a:lnTo>
                  <a:lnTo>
                    <a:pt x="112674" y="61822"/>
                  </a:lnTo>
                  <a:lnTo>
                    <a:pt x="120802" y="61534"/>
                  </a:lnTo>
                  <a:lnTo>
                    <a:pt x="129606" y="62190"/>
                  </a:lnTo>
                  <a:lnTo>
                    <a:pt x="138862" y="63473"/>
                  </a:lnTo>
                  <a:lnTo>
                    <a:pt x="148420" y="65175"/>
                  </a:lnTo>
                  <a:lnTo>
                    <a:pt x="156485" y="67157"/>
                  </a:lnTo>
                  <a:lnTo>
                    <a:pt x="163555" y="69325"/>
                  </a:lnTo>
                  <a:lnTo>
                    <a:pt x="169962" y="71616"/>
                  </a:lnTo>
                  <a:lnTo>
                    <a:pt x="176773" y="74837"/>
                  </a:lnTo>
                  <a:lnTo>
                    <a:pt x="183854" y="78679"/>
                  </a:lnTo>
                  <a:lnTo>
                    <a:pt x="191114" y="82932"/>
                  </a:lnTo>
                  <a:lnTo>
                    <a:pt x="197648" y="88308"/>
                  </a:lnTo>
                  <a:lnTo>
                    <a:pt x="203697" y="94432"/>
                  </a:lnTo>
                  <a:lnTo>
                    <a:pt x="209423" y="101055"/>
                  </a:lnTo>
                  <a:lnTo>
                    <a:pt x="214087" y="107163"/>
                  </a:lnTo>
                  <a:lnTo>
                    <a:pt x="218044" y="112929"/>
                  </a:lnTo>
                  <a:lnTo>
                    <a:pt x="225543" y="124697"/>
                  </a:lnTo>
                  <a:lnTo>
                    <a:pt x="234521" y="138394"/>
                  </a:lnTo>
                  <a:lnTo>
                    <a:pt x="237592" y="145603"/>
                  </a:lnTo>
                  <a:lnTo>
                    <a:pt x="239640" y="152949"/>
                  </a:lnTo>
                  <a:lnTo>
                    <a:pt x="241005" y="160386"/>
                  </a:lnTo>
                  <a:lnTo>
                    <a:pt x="241069" y="167884"/>
                  </a:lnTo>
                  <a:lnTo>
                    <a:pt x="240264" y="175423"/>
                  </a:lnTo>
                  <a:lnTo>
                    <a:pt x="238882" y="182988"/>
                  </a:lnTo>
                  <a:lnTo>
                    <a:pt x="237112" y="189726"/>
                  </a:lnTo>
                  <a:lnTo>
                    <a:pt x="235087" y="195910"/>
                  </a:lnTo>
                  <a:lnTo>
                    <a:pt x="232889" y="201727"/>
                  </a:lnTo>
                  <a:lnTo>
                    <a:pt x="229731" y="208144"/>
                  </a:lnTo>
                  <a:lnTo>
                    <a:pt x="225932" y="214963"/>
                  </a:lnTo>
                  <a:lnTo>
                    <a:pt x="221707" y="222049"/>
                  </a:lnTo>
                  <a:lnTo>
                    <a:pt x="217196" y="228466"/>
                  </a:lnTo>
                  <a:lnTo>
                    <a:pt x="212496" y="234437"/>
                  </a:lnTo>
                  <a:lnTo>
                    <a:pt x="207670" y="240111"/>
                  </a:lnTo>
                  <a:lnTo>
                    <a:pt x="201911" y="244741"/>
                  </a:lnTo>
                  <a:lnTo>
                    <a:pt x="195533" y="248674"/>
                  </a:lnTo>
                  <a:lnTo>
                    <a:pt x="188739" y="252143"/>
                  </a:lnTo>
                  <a:lnTo>
                    <a:pt x="181672" y="255302"/>
                  </a:lnTo>
                  <a:lnTo>
                    <a:pt x="174419" y="258255"/>
                  </a:lnTo>
                  <a:lnTo>
                    <a:pt x="167045" y="261070"/>
                  </a:lnTo>
                  <a:lnTo>
                    <a:pt x="159588" y="262947"/>
                  </a:lnTo>
                  <a:lnTo>
                    <a:pt x="152076" y="264198"/>
                  </a:lnTo>
                  <a:lnTo>
                    <a:pt x="144530" y="265032"/>
                  </a:lnTo>
                  <a:lnTo>
                    <a:pt x="136959" y="264741"/>
                  </a:lnTo>
                  <a:lnTo>
                    <a:pt x="129371" y="263701"/>
                  </a:lnTo>
                  <a:lnTo>
                    <a:pt x="121772" y="262161"/>
                  </a:lnTo>
                  <a:lnTo>
                    <a:pt x="115013" y="260287"/>
                  </a:lnTo>
                  <a:lnTo>
                    <a:pt x="108814" y="258191"/>
                  </a:lnTo>
                  <a:lnTo>
                    <a:pt x="102987" y="255948"/>
                  </a:lnTo>
                  <a:lnTo>
                    <a:pt x="98256" y="254452"/>
                  </a:lnTo>
                  <a:lnTo>
                    <a:pt x="94256" y="253454"/>
                  </a:lnTo>
                  <a:lnTo>
                    <a:pt x="83715" y="2514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MARTInkAnnotation170"/>
            <p:cNvSpPr/>
            <p:nvPr/>
          </p:nvSpPr>
          <p:spPr>
            <a:xfrm>
              <a:off x="7048440" y="1783080"/>
              <a:ext cx="335160" cy="2268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335281" h="22861">
                  <a:moveTo>
                    <a:pt x="0" y="22860"/>
                  </a:moveTo>
                  <a:lnTo>
                    <a:pt x="10606" y="22860"/>
                  </a:lnTo>
                  <a:lnTo>
                    <a:pt x="13844" y="22014"/>
                  </a:lnTo>
                  <a:lnTo>
                    <a:pt x="17696" y="20602"/>
                  </a:lnTo>
                  <a:lnTo>
                    <a:pt x="21957" y="18815"/>
                  </a:lnTo>
                  <a:lnTo>
                    <a:pt x="27338" y="17623"/>
                  </a:lnTo>
                  <a:lnTo>
                    <a:pt x="33466" y="16829"/>
                  </a:lnTo>
                  <a:lnTo>
                    <a:pt x="40091" y="16300"/>
                  </a:lnTo>
                  <a:lnTo>
                    <a:pt x="47894" y="15946"/>
                  </a:lnTo>
                  <a:lnTo>
                    <a:pt x="65595" y="15554"/>
                  </a:lnTo>
                  <a:lnTo>
                    <a:pt x="74210" y="14603"/>
                  </a:lnTo>
                  <a:lnTo>
                    <a:pt x="82493" y="13122"/>
                  </a:lnTo>
                  <a:lnTo>
                    <a:pt x="90556" y="11288"/>
                  </a:lnTo>
                  <a:lnTo>
                    <a:pt x="100164" y="10065"/>
                  </a:lnTo>
                  <a:lnTo>
                    <a:pt x="110803" y="9250"/>
                  </a:lnTo>
                  <a:lnTo>
                    <a:pt x="122128" y="8707"/>
                  </a:lnTo>
                  <a:lnTo>
                    <a:pt x="146001" y="8103"/>
                  </a:lnTo>
                  <a:lnTo>
                    <a:pt x="199866" y="7716"/>
                  </a:lnTo>
                  <a:lnTo>
                    <a:pt x="212831" y="6837"/>
                  </a:lnTo>
                  <a:lnTo>
                    <a:pt x="224861" y="5405"/>
                  </a:lnTo>
                  <a:lnTo>
                    <a:pt x="236267" y="3603"/>
                  </a:lnTo>
                  <a:lnTo>
                    <a:pt x="247258" y="2402"/>
                  </a:lnTo>
                  <a:lnTo>
                    <a:pt x="257973" y="1602"/>
                  </a:lnTo>
                  <a:lnTo>
                    <a:pt x="268502" y="1068"/>
                  </a:lnTo>
                  <a:lnTo>
                    <a:pt x="289232" y="475"/>
                  </a:lnTo>
                  <a:lnTo>
                    <a:pt x="3352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SMARTInkAnnotation171"/>
            <p:cNvSpPr/>
            <p:nvPr/>
          </p:nvSpPr>
          <p:spPr>
            <a:xfrm>
              <a:off x="6143400" y="2491560"/>
              <a:ext cx="219240" cy="1202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219347" h="120480">
                  <a:moveTo>
                    <a:pt x="97426" y="0"/>
                  </a:moveTo>
                  <a:lnTo>
                    <a:pt x="93380" y="0"/>
                  </a:lnTo>
                  <a:lnTo>
                    <a:pt x="91343" y="846"/>
                  </a:lnTo>
                  <a:lnTo>
                    <a:pt x="86820" y="4045"/>
                  </a:lnTo>
                  <a:lnTo>
                    <a:pt x="85276" y="6083"/>
                  </a:lnTo>
                  <a:lnTo>
                    <a:pt x="84245" y="8288"/>
                  </a:lnTo>
                  <a:lnTo>
                    <a:pt x="83559" y="10605"/>
                  </a:lnTo>
                  <a:lnTo>
                    <a:pt x="81408" y="12997"/>
                  </a:lnTo>
                  <a:lnTo>
                    <a:pt x="78281" y="15438"/>
                  </a:lnTo>
                  <a:lnTo>
                    <a:pt x="74503" y="17912"/>
                  </a:lnTo>
                  <a:lnTo>
                    <a:pt x="71137" y="21254"/>
                  </a:lnTo>
                  <a:lnTo>
                    <a:pt x="68046" y="25176"/>
                  </a:lnTo>
                  <a:lnTo>
                    <a:pt x="65140" y="29484"/>
                  </a:lnTo>
                  <a:lnTo>
                    <a:pt x="61509" y="33203"/>
                  </a:lnTo>
                  <a:lnTo>
                    <a:pt x="57395" y="36528"/>
                  </a:lnTo>
                  <a:lnTo>
                    <a:pt x="52958" y="39592"/>
                  </a:lnTo>
                  <a:lnTo>
                    <a:pt x="48308" y="43328"/>
                  </a:lnTo>
                  <a:lnTo>
                    <a:pt x="43514" y="47512"/>
                  </a:lnTo>
                  <a:lnTo>
                    <a:pt x="38624" y="51994"/>
                  </a:lnTo>
                  <a:lnTo>
                    <a:pt x="28677" y="61491"/>
                  </a:lnTo>
                  <a:lnTo>
                    <a:pt x="3882" y="85945"/>
                  </a:lnTo>
                  <a:lnTo>
                    <a:pt x="2043" y="89470"/>
                  </a:lnTo>
                  <a:lnTo>
                    <a:pt x="817" y="93513"/>
                  </a:lnTo>
                  <a:lnTo>
                    <a:pt x="0" y="97902"/>
                  </a:lnTo>
                  <a:lnTo>
                    <a:pt x="302" y="100828"/>
                  </a:lnTo>
                  <a:lnTo>
                    <a:pt x="1350" y="102779"/>
                  </a:lnTo>
                  <a:lnTo>
                    <a:pt x="5619" y="105793"/>
                  </a:lnTo>
                  <a:lnTo>
                    <a:pt x="9128" y="107782"/>
                  </a:lnTo>
                  <a:lnTo>
                    <a:pt x="13160" y="109954"/>
                  </a:lnTo>
                  <a:lnTo>
                    <a:pt x="18389" y="112249"/>
                  </a:lnTo>
                  <a:lnTo>
                    <a:pt x="24415" y="114626"/>
                  </a:lnTo>
                  <a:lnTo>
                    <a:pt x="30972" y="117058"/>
                  </a:lnTo>
                  <a:lnTo>
                    <a:pt x="39576" y="118678"/>
                  </a:lnTo>
                  <a:lnTo>
                    <a:pt x="49546" y="119759"/>
                  </a:lnTo>
                  <a:lnTo>
                    <a:pt x="60426" y="120479"/>
                  </a:lnTo>
                  <a:lnTo>
                    <a:pt x="71913" y="120113"/>
                  </a:lnTo>
                  <a:lnTo>
                    <a:pt x="83804" y="119022"/>
                  </a:lnTo>
                  <a:lnTo>
                    <a:pt x="95964" y="117448"/>
                  </a:lnTo>
                  <a:lnTo>
                    <a:pt x="109152" y="116398"/>
                  </a:lnTo>
                  <a:lnTo>
                    <a:pt x="123024" y="115699"/>
                  </a:lnTo>
                  <a:lnTo>
                    <a:pt x="137351" y="115232"/>
                  </a:lnTo>
                  <a:lnTo>
                    <a:pt x="151137" y="114075"/>
                  </a:lnTo>
                  <a:lnTo>
                    <a:pt x="164559" y="112457"/>
                  </a:lnTo>
                  <a:lnTo>
                    <a:pt x="177742" y="110531"/>
                  </a:lnTo>
                  <a:lnTo>
                    <a:pt x="188223" y="108400"/>
                  </a:lnTo>
                  <a:lnTo>
                    <a:pt x="196904" y="106134"/>
                  </a:lnTo>
                  <a:lnTo>
                    <a:pt x="219346" y="990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SMARTInkAnnotation172"/>
            <p:cNvSpPr/>
            <p:nvPr/>
          </p:nvSpPr>
          <p:spPr>
            <a:xfrm>
              <a:off x="6363000" y="2461320"/>
              <a:ext cx="68040" cy="2818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68201" h="281941">
                  <a:moveTo>
                    <a:pt x="68200" y="0"/>
                  </a:moveTo>
                  <a:lnTo>
                    <a:pt x="68200" y="6561"/>
                  </a:lnTo>
                  <a:lnTo>
                    <a:pt x="67353" y="7761"/>
                  </a:lnTo>
                  <a:lnTo>
                    <a:pt x="65942" y="9407"/>
                  </a:lnTo>
                  <a:lnTo>
                    <a:pt x="64155" y="11352"/>
                  </a:lnTo>
                  <a:lnTo>
                    <a:pt x="62963" y="13495"/>
                  </a:lnTo>
                  <a:lnTo>
                    <a:pt x="61639" y="18133"/>
                  </a:lnTo>
                  <a:lnTo>
                    <a:pt x="61051" y="25275"/>
                  </a:lnTo>
                  <a:lnTo>
                    <a:pt x="60893" y="29550"/>
                  </a:lnTo>
                  <a:lnTo>
                    <a:pt x="59943" y="34940"/>
                  </a:lnTo>
                  <a:lnTo>
                    <a:pt x="58462" y="41074"/>
                  </a:lnTo>
                  <a:lnTo>
                    <a:pt x="56628" y="47703"/>
                  </a:lnTo>
                  <a:lnTo>
                    <a:pt x="52333" y="61841"/>
                  </a:lnTo>
                  <a:lnTo>
                    <a:pt x="42676" y="91614"/>
                  </a:lnTo>
                  <a:lnTo>
                    <a:pt x="40178" y="100023"/>
                  </a:lnTo>
                  <a:lnTo>
                    <a:pt x="32615" y="127191"/>
                  </a:lnTo>
                  <a:lnTo>
                    <a:pt x="27549" y="143737"/>
                  </a:lnTo>
                  <a:lnTo>
                    <a:pt x="24165" y="151704"/>
                  </a:lnTo>
                  <a:lnTo>
                    <a:pt x="20217" y="159557"/>
                  </a:lnTo>
                  <a:lnTo>
                    <a:pt x="15891" y="167331"/>
                  </a:lnTo>
                  <a:lnTo>
                    <a:pt x="13008" y="175054"/>
                  </a:lnTo>
                  <a:lnTo>
                    <a:pt x="11085" y="182743"/>
                  </a:lnTo>
                  <a:lnTo>
                    <a:pt x="9803" y="190409"/>
                  </a:lnTo>
                  <a:lnTo>
                    <a:pt x="8102" y="198906"/>
                  </a:lnTo>
                  <a:lnTo>
                    <a:pt x="3954" y="217379"/>
                  </a:lnTo>
                  <a:lnTo>
                    <a:pt x="2510" y="225353"/>
                  </a:lnTo>
                  <a:lnTo>
                    <a:pt x="1546" y="232362"/>
                  </a:lnTo>
                  <a:lnTo>
                    <a:pt x="904" y="238728"/>
                  </a:lnTo>
                  <a:lnTo>
                    <a:pt x="476" y="244666"/>
                  </a:lnTo>
                  <a:lnTo>
                    <a:pt x="190" y="250317"/>
                  </a:lnTo>
                  <a:lnTo>
                    <a:pt x="0" y="255778"/>
                  </a:lnTo>
                  <a:lnTo>
                    <a:pt x="1567" y="260266"/>
                  </a:lnTo>
                  <a:lnTo>
                    <a:pt x="4305" y="264104"/>
                  </a:lnTo>
                  <a:lnTo>
                    <a:pt x="16821" y="276347"/>
                  </a:lnTo>
                  <a:lnTo>
                    <a:pt x="19553" y="278212"/>
                  </a:lnTo>
                  <a:lnTo>
                    <a:pt x="22221" y="279455"/>
                  </a:lnTo>
                  <a:lnTo>
                    <a:pt x="30100" y="2819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SMARTInkAnnotation173"/>
            <p:cNvSpPr/>
            <p:nvPr/>
          </p:nvSpPr>
          <p:spPr>
            <a:xfrm>
              <a:off x="6543360" y="2468880"/>
              <a:ext cx="222120" cy="1141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22171" h="114158">
                  <a:moveTo>
                    <a:pt x="169874" y="0"/>
                  </a:moveTo>
                  <a:lnTo>
                    <a:pt x="165829" y="0"/>
                  </a:lnTo>
                  <a:lnTo>
                    <a:pt x="163791" y="847"/>
                  </a:lnTo>
                  <a:lnTo>
                    <a:pt x="156030" y="6084"/>
                  </a:lnTo>
                  <a:lnTo>
                    <a:pt x="152179" y="8289"/>
                  </a:lnTo>
                  <a:lnTo>
                    <a:pt x="147917" y="10606"/>
                  </a:lnTo>
                  <a:lnTo>
                    <a:pt x="142537" y="13844"/>
                  </a:lnTo>
                  <a:lnTo>
                    <a:pt x="129784" y="21957"/>
                  </a:lnTo>
                  <a:lnTo>
                    <a:pt x="121980" y="26492"/>
                  </a:lnTo>
                  <a:lnTo>
                    <a:pt x="104279" y="36045"/>
                  </a:lnTo>
                  <a:lnTo>
                    <a:pt x="95664" y="40964"/>
                  </a:lnTo>
                  <a:lnTo>
                    <a:pt x="87380" y="45936"/>
                  </a:lnTo>
                  <a:lnTo>
                    <a:pt x="79319" y="50944"/>
                  </a:lnTo>
                  <a:lnTo>
                    <a:pt x="71403" y="55130"/>
                  </a:lnTo>
                  <a:lnTo>
                    <a:pt x="63586" y="58766"/>
                  </a:lnTo>
                  <a:lnTo>
                    <a:pt x="55836" y="62038"/>
                  </a:lnTo>
                  <a:lnTo>
                    <a:pt x="48128" y="65912"/>
                  </a:lnTo>
                  <a:lnTo>
                    <a:pt x="40451" y="70188"/>
                  </a:lnTo>
                  <a:lnTo>
                    <a:pt x="32791" y="74732"/>
                  </a:lnTo>
                  <a:lnTo>
                    <a:pt x="25993" y="79455"/>
                  </a:lnTo>
                  <a:lnTo>
                    <a:pt x="19766" y="84297"/>
                  </a:lnTo>
                  <a:lnTo>
                    <a:pt x="13923" y="89218"/>
                  </a:lnTo>
                  <a:lnTo>
                    <a:pt x="9179" y="93345"/>
                  </a:lnTo>
                  <a:lnTo>
                    <a:pt x="1651" y="100189"/>
                  </a:lnTo>
                  <a:lnTo>
                    <a:pt x="152" y="103200"/>
                  </a:lnTo>
                  <a:lnTo>
                    <a:pt x="0" y="106053"/>
                  </a:lnTo>
                  <a:lnTo>
                    <a:pt x="744" y="108802"/>
                  </a:lnTo>
                  <a:lnTo>
                    <a:pt x="2088" y="110635"/>
                  </a:lnTo>
                  <a:lnTo>
                    <a:pt x="3830" y="111857"/>
                  </a:lnTo>
                  <a:lnTo>
                    <a:pt x="5838" y="112671"/>
                  </a:lnTo>
                  <a:lnTo>
                    <a:pt x="12585" y="113576"/>
                  </a:lnTo>
                  <a:lnTo>
                    <a:pt x="16755" y="113818"/>
                  </a:lnTo>
                  <a:lnTo>
                    <a:pt x="30419" y="114086"/>
                  </a:lnTo>
                  <a:lnTo>
                    <a:pt x="38804" y="114157"/>
                  </a:lnTo>
                  <a:lnTo>
                    <a:pt x="48628" y="113358"/>
                  </a:lnTo>
                  <a:lnTo>
                    <a:pt x="59409" y="111979"/>
                  </a:lnTo>
                  <a:lnTo>
                    <a:pt x="70831" y="110213"/>
                  </a:lnTo>
                  <a:lnTo>
                    <a:pt x="81832" y="108188"/>
                  </a:lnTo>
                  <a:lnTo>
                    <a:pt x="103086" y="103682"/>
                  </a:lnTo>
                  <a:lnTo>
                    <a:pt x="114342" y="100448"/>
                  </a:lnTo>
                  <a:lnTo>
                    <a:pt x="126079" y="96599"/>
                  </a:lnTo>
                  <a:lnTo>
                    <a:pt x="138138" y="92339"/>
                  </a:lnTo>
                  <a:lnTo>
                    <a:pt x="148717" y="87806"/>
                  </a:lnTo>
                  <a:lnTo>
                    <a:pt x="158309" y="83091"/>
                  </a:lnTo>
                  <a:lnTo>
                    <a:pt x="167244" y="78254"/>
                  </a:lnTo>
                  <a:lnTo>
                    <a:pt x="175741" y="73336"/>
                  </a:lnTo>
                  <a:lnTo>
                    <a:pt x="191955" y="63356"/>
                  </a:lnTo>
                  <a:lnTo>
                    <a:pt x="198987" y="58324"/>
                  </a:lnTo>
                  <a:lnTo>
                    <a:pt x="205370" y="53276"/>
                  </a:lnTo>
                  <a:lnTo>
                    <a:pt x="211318" y="48218"/>
                  </a:lnTo>
                  <a:lnTo>
                    <a:pt x="215283" y="43152"/>
                  </a:lnTo>
                  <a:lnTo>
                    <a:pt x="217927" y="38081"/>
                  </a:lnTo>
                  <a:lnTo>
                    <a:pt x="219689" y="33008"/>
                  </a:lnTo>
                  <a:lnTo>
                    <a:pt x="220864" y="28779"/>
                  </a:lnTo>
                  <a:lnTo>
                    <a:pt x="221647" y="25112"/>
                  </a:lnTo>
                  <a:lnTo>
                    <a:pt x="222170" y="21822"/>
                  </a:lnTo>
                  <a:lnTo>
                    <a:pt x="221671" y="19628"/>
                  </a:lnTo>
                  <a:lnTo>
                    <a:pt x="220492" y="18165"/>
                  </a:lnTo>
                  <a:lnTo>
                    <a:pt x="218859" y="17190"/>
                  </a:lnTo>
                  <a:lnTo>
                    <a:pt x="214788" y="16107"/>
                  </a:lnTo>
                  <a:lnTo>
                    <a:pt x="210156" y="15625"/>
                  </a:lnTo>
                  <a:lnTo>
                    <a:pt x="207735" y="15497"/>
                  </a:lnTo>
                  <a:lnTo>
                    <a:pt x="200354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SMARTInkAnnotation174"/>
            <p:cNvSpPr/>
            <p:nvPr/>
          </p:nvSpPr>
          <p:spPr>
            <a:xfrm>
              <a:off x="6593040" y="2590920"/>
              <a:ext cx="165240" cy="1746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65358" h="174682">
                  <a:moveTo>
                    <a:pt x="105016" y="45719"/>
                  </a:moveTo>
                  <a:lnTo>
                    <a:pt x="93664" y="45719"/>
                  </a:lnTo>
                  <a:lnTo>
                    <a:pt x="91522" y="46566"/>
                  </a:lnTo>
                  <a:lnTo>
                    <a:pt x="83614" y="51803"/>
                  </a:lnTo>
                  <a:lnTo>
                    <a:pt x="79742" y="54008"/>
                  </a:lnTo>
                  <a:lnTo>
                    <a:pt x="75467" y="56326"/>
                  </a:lnTo>
                  <a:lnTo>
                    <a:pt x="70923" y="59564"/>
                  </a:lnTo>
                  <a:lnTo>
                    <a:pt x="66201" y="63415"/>
                  </a:lnTo>
                  <a:lnTo>
                    <a:pt x="61359" y="67677"/>
                  </a:lnTo>
                  <a:lnTo>
                    <a:pt x="55592" y="72211"/>
                  </a:lnTo>
                  <a:lnTo>
                    <a:pt x="49207" y="76927"/>
                  </a:lnTo>
                  <a:lnTo>
                    <a:pt x="42410" y="81765"/>
                  </a:lnTo>
                  <a:lnTo>
                    <a:pt x="36185" y="86683"/>
                  </a:lnTo>
                  <a:lnTo>
                    <a:pt x="30343" y="91655"/>
                  </a:lnTo>
                  <a:lnTo>
                    <a:pt x="24754" y="96663"/>
                  </a:lnTo>
                  <a:lnTo>
                    <a:pt x="20181" y="101696"/>
                  </a:lnTo>
                  <a:lnTo>
                    <a:pt x="16287" y="106744"/>
                  </a:lnTo>
                  <a:lnTo>
                    <a:pt x="12843" y="111802"/>
                  </a:lnTo>
                  <a:lnTo>
                    <a:pt x="9701" y="116868"/>
                  </a:lnTo>
                  <a:lnTo>
                    <a:pt x="6759" y="121939"/>
                  </a:lnTo>
                  <a:lnTo>
                    <a:pt x="3951" y="127012"/>
                  </a:lnTo>
                  <a:lnTo>
                    <a:pt x="2079" y="132088"/>
                  </a:lnTo>
                  <a:lnTo>
                    <a:pt x="832" y="137165"/>
                  </a:lnTo>
                  <a:lnTo>
                    <a:pt x="0" y="142243"/>
                  </a:lnTo>
                  <a:lnTo>
                    <a:pt x="292" y="147322"/>
                  </a:lnTo>
                  <a:lnTo>
                    <a:pt x="1333" y="152401"/>
                  </a:lnTo>
                  <a:lnTo>
                    <a:pt x="2874" y="157480"/>
                  </a:lnTo>
                  <a:lnTo>
                    <a:pt x="5595" y="161714"/>
                  </a:lnTo>
                  <a:lnTo>
                    <a:pt x="9102" y="165382"/>
                  </a:lnTo>
                  <a:lnTo>
                    <a:pt x="13134" y="168675"/>
                  </a:lnTo>
                  <a:lnTo>
                    <a:pt x="18361" y="170870"/>
                  </a:lnTo>
                  <a:lnTo>
                    <a:pt x="24386" y="172333"/>
                  </a:lnTo>
                  <a:lnTo>
                    <a:pt x="30943" y="173308"/>
                  </a:lnTo>
                  <a:lnTo>
                    <a:pt x="37854" y="173959"/>
                  </a:lnTo>
                  <a:lnTo>
                    <a:pt x="45001" y="174392"/>
                  </a:lnTo>
                  <a:lnTo>
                    <a:pt x="52306" y="174681"/>
                  </a:lnTo>
                  <a:lnTo>
                    <a:pt x="60563" y="174028"/>
                  </a:lnTo>
                  <a:lnTo>
                    <a:pt x="69453" y="172745"/>
                  </a:lnTo>
                  <a:lnTo>
                    <a:pt x="78768" y="171043"/>
                  </a:lnTo>
                  <a:lnTo>
                    <a:pt x="87517" y="168215"/>
                  </a:lnTo>
                  <a:lnTo>
                    <a:pt x="95891" y="164637"/>
                  </a:lnTo>
                  <a:lnTo>
                    <a:pt x="104012" y="160558"/>
                  </a:lnTo>
                  <a:lnTo>
                    <a:pt x="111967" y="155298"/>
                  </a:lnTo>
                  <a:lnTo>
                    <a:pt x="119810" y="149252"/>
                  </a:lnTo>
                  <a:lnTo>
                    <a:pt x="127578" y="142681"/>
                  </a:lnTo>
                  <a:lnTo>
                    <a:pt x="134451" y="135760"/>
                  </a:lnTo>
                  <a:lnTo>
                    <a:pt x="140726" y="128607"/>
                  </a:lnTo>
                  <a:lnTo>
                    <a:pt x="146602" y="121298"/>
                  </a:lnTo>
                  <a:lnTo>
                    <a:pt x="151368" y="113885"/>
                  </a:lnTo>
                  <a:lnTo>
                    <a:pt x="155391" y="106403"/>
                  </a:lnTo>
                  <a:lnTo>
                    <a:pt x="158919" y="98876"/>
                  </a:lnTo>
                  <a:lnTo>
                    <a:pt x="161271" y="91317"/>
                  </a:lnTo>
                  <a:lnTo>
                    <a:pt x="162840" y="83738"/>
                  </a:lnTo>
                  <a:lnTo>
                    <a:pt x="163886" y="76145"/>
                  </a:lnTo>
                  <a:lnTo>
                    <a:pt x="164582" y="69390"/>
                  </a:lnTo>
                  <a:lnTo>
                    <a:pt x="165047" y="63193"/>
                  </a:lnTo>
                  <a:lnTo>
                    <a:pt x="165357" y="57369"/>
                  </a:lnTo>
                  <a:lnTo>
                    <a:pt x="163869" y="50946"/>
                  </a:lnTo>
                  <a:lnTo>
                    <a:pt x="161186" y="44124"/>
                  </a:lnTo>
                  <a:lnTo>
                    <a:pt x="157702" y="37036"/>
                  </a:lnTo>
                  <a:lnTo>
                    <a:pt x="154533" y="31464"/>
                  </a:lnTo>
                  <a:lnTo>
                    <a:pt x="151575" y="26902"/>
                  </a:lnTo>
                  <a:lnTo>
                    <a:pt x="148755" y="23015"/>
                  </a:lnTo>
                  <a:lnTo>
                    <a:pt x="144336" y="19576"/>
                  </a:lnTo>
                  <a:lnTo>
                    <a:pt x="138849" y="16438"/>
                  </a:lnTo>
                  <a:lnTo>
                    <a:pt x="132651" y="13498"/>
                  </a:lnTo>
                  <a:lnTo>
                    <a:pt x="125979" y="10692"/>
                  </a:lnTo>
                  <a:lnTo>
                    <a:pt x="118992" y="7975"/>
                  </a:lnTo>
                  <a:lnTo>
                    <a:pt x="111793" y="5316"/>
                  </a:lnTo>
                  <a:lnTo>
                    <a:pt x="105301" y="3544"/>
                  </a:lnTo>
                  <a:lnTo>
                    <a:pt x="99279" y="2363"/>
                  </a:lnTo>
                  <a:lnTo>
                    <a:pt x="8215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SMARTInkAnnotation175"/>
            <p:cNvSpPr/>
            <p:nvPr/>
          </p:nvSpPr>
          <p:spPr>
            <a:xfrm>
              <a:off x="5937480" y="3192480"/>
              <a:ext cx="318240" cy="12168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318525" h="121918">
                  <a:moveTo>
                    <a:pt x="105164" y="0"/>
                  </a:moveTo>
                  <a:lnTo>
                    <a:pt x="105164" y="4045"/>
                  </a:lnTo>
                  <a:lnTo>
                    <a:pt x="104317" y="5237"/>
                  </a:lnTo>
                  <a:lnTo>
                    <a:pt x="102906" y="6031"/>
                  </a:lnTo>
                  <a:lnTo>
                    <a:pt x="98603" y="7306"/>
                  </a:lnTo>
                  <a:lnTo>
                    <a:pt x="95757" y="9738"/>
                  </a:lnTo>
                  <a:lnTo>
                    <a:pt x="91670" y="13641"/>
                  </a:lnTo>
                  <a:lnTo>
                    <a:pt x="79660" y="25524"/>
                  </a:lnTo>
                  <a:lnTo>
                    <a:pt x="76308" y="28023"/>
                  </a:lnTo>
                  <a:lnTo>
                    <a:pt x="72380" y="30535"/>
                  </a:lnTo>
                  <a:lnTo>
                    <a:pt x="68068" y="33057"/>
                  </a:lnTo>
                  <a:lnTo>
                    <a:pt x="63500" y="36431"/>
                  </a:lnTo>
                  <a:lnTo>
                    <a:pt x="58762" y="40374"/>
                  </a:lnTo>
                  <a:lnTo>
                    <a:pt x="53908" y="44696"/>
                  </a:lnTo>
                  <a:lnTo>
                    <a:pt x="48981" y="48424"/>
                  </a:lnTo>
                  <a:lnTo>
                    <a:pt x="44002" y="51756"/>
                  </a:lnTo>
                  <a:lnTo>
                    <a:pt x="38989" y="54824"/>
                  </a:lnTo>
                  <a:lnTo>
                    <a:pt x="34801" y="57716"/>
                  </a:lnTo>
                  <a:lnTo>
                    <a:pt x="31162" y="60491"/>
                  </a:lnTo>
                  <a:lnTo>
                    <a:pt x="27889" y="63187"/>
                  </a:lnTo>
                  <a:lnTo>
                    <a:pt x="24861" y="66678"/>
                  </a:lnTo>
                  <a:lnTo>
                    <a:pt x="21995" y="70699"/>
                  </a:lnTo>
                  <a:lnTo>
                    <a:pt x="19238" y="75072"/>
                  </a:lnTo>
                  <a:lnTo>
                    <a:pt x="16553" y="78835"/>
                  </a:lnTo>
                  <a:lnTo>
                    <a:pt x="13917" y="82190"/>
                  </a:lnTo>
                  <a:lnTo>
                    <a:pt x="11313" y="85273"/>
                  </a:lnTo>
                  <a:lnTo>
                    <a:pt x="8730" y="88176"/>
                  </a:lnTo>
                  <a:lnTo>
                    <a:pt x="3602" y="93658"/>
                  </a:lnTo>
                  <a:lnTo>
                    <a:pt x="1896" y="96305"/>
                  </a:lnTo>
                  <a:lnTo>
                    <a:pt x="759" y="98917"/>
                  </a:lnTo>
                  <a:lnTo>
                    <a:pt x="0" y="101505"/>
                  </a:lnTo>
                  <a:lnTo>
                    <a:pt x="342" y="104077"/>
                  </a:lnTo>
                  <a:lnTo>
                    <a:pt x="1416" y="106638"/>
                  </a:lnTo>
                  <a:lnTo>
                    <a:pt x="2979" y="109192"/>
                  </a:lnTo>
                  <a:lnTo>
                    <a:pt x="5714" y="110895"/>
                  </a:lnTo>
                  <a:lnTo>
                    <a:pt x="17654" y="114138"/>
                  </a:lnTo>
                  <a:lnTo>
                    <a:pt x="27042" y="117897"/>
                  </a:lnTo>
                  <a:lnTo>
                    <a:pt x="33610" y="119238"/>
                  </a:lnTo>
                  <a:lnTo>
                    <a:pt x="41374" y="120132"/>
                  </a:lnTo>
                  <a:lnTo>
                    <a:pt x="49937" y="120728"/>
                  </a:lnTo>
                  <a:lnTo>
                    <a:pt x="59880" y="121125"/>
                  </a:lnTo>
                  <a:lnTo>
                    <a:pt x="82216" y="121567"/>
                  </a:lnTo>
                  <a:lnTo>
                    <a:pt x="232183" y="121917"/>
                  </a:lnTo>
                  <a:lnTo>
                    <a:pt x="243183" y="121072"/>
                  </a:lnTo>
                  <a:lnTo>
                    <a:pt x="253057" y="119661"/>
                  </a:lnTo>
                  <a:lnTo>
                    <a:pt x="262179" y="117874"/>
                  </a:lnTo>
                  <a:lnTo>
                    <a:pt x="270801" y="115836"/>
                  </a:lnTo>
                  <a:lnTo>
                    <a:pt x="279089" y="113631"/>
                  </a:lnTo>
                  <a:lnTo>
                    <a:pt x="287154" y="111314"/>
                  </a:lnTo>
                  <a:lnTo>
                    <a:pt x="293378" y="108923"/>
                  </a:lnTo>
                  <a:lnTo>
                    <a:pt x="298373" y="106482"/>
                  </a:lnTo>
                  <a:lnTo>
                    <a:pt x="302550" y="104008"/>
                  </a:lnTo>
                  <a:lnTo>
                    <a:pt x="309449" y="101259"/>
                  </a:lnTo>
                  <a:lnTo>
                    <a:pt x="312474" y="100526"/>
                  </a:lnTo>
                  <a:lnTo>
                    <a:pt x="314491" y="99191"/>
                  </a:lnTo>
                  <a:lnTo>
                    <a:pt x="315835" y="97454"/>
                  </a:lnTo>
                  <a:lnTo>
                    <a:pt x="318524" y="914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MARTInkAnnotation176"/>
            <p:cNvSpPr/>
            <p:nvPr/>
          </p:nvSpPr>
          <p:spPr>
            <a:xfrm>
              <a:off x="6179760" y="3184920"/>
              <a:ext cx="114120" cy="31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14232" h="320041">
                  <a:moveTo>
                    <a:pt x="114231" y="0"/>
                  </a:moveTo>
                  <a:lnTo>
                    <a:pt x="114231" y="11352"/>
                  </a:lnTo>
                  <a:lnTo>
                    <a:pt x="111974" y="18027"/>
                  </a:lnTo>
                  <a:lnTo>
                    <a:pt x="110186" y="22178"/>
                  </a:lnTo>
                  <a:lnTo>
                    <a:pt x="105943" y="31306"/>
                  </a:lnTo>
                  <a:lnTo>
                    <a:pt x="96319" y="50963"/>
                  </a:lnTo>
                  <a:lnTo>
                    <a:pt x="93823" y="56835"/>
                  </a:lnTo>
                  <a:lnTo>
                    <a:pt x="91312" y="63290"/>
                  </a:lnTo>
                  <a:lnTo>
                    <a:pt x="88792" y="70133"/>
                  </a:lnTo>
                  <a:lnTo>
                    <a:pt x="85418" y="77236"/>
                  </a:lnTo>
                  <a:lnTo>
                    <a:pt x="81476" y="84511"/>
                  </a:lnTo>
                  <a:lnTo>
                    <a:pt x="77155" y="91900"/>
                  </a:lnTo>
                  <a:lnTo>
                    <a:pt x="73427" y="100214"/>
                  </a:lnTo>
                  <a:lnTo>
                    <a:pt x="70095" y="109142"/>
                  </a:lnTo>
                  <a:lnTo>
                    <a:pt x="67027" y="118482"/>
                  </a:lnTo>
                  <a:lnTo>
                    <a:pt x="63288" y="127248"/>
                  </a:lnTo>
                  <a:lnTo>
                    <a:pt x="59103" y="135632"/>
                  </a:lnTo>
                  <a:lnTo>
                    <a:pt x="54619" y="143761"/>
                  </a:lnTo>
                  <a:lnTo>
                    <a:pt x="50783" y="153414"/>
                  </a:lnTo>
                  <a:lnTo>
                    <a:pt x="47380" y="164083"/>
                  </a:lnTo>
                  <a:lnTo>
                    <a:pt x="44264" y="175429"/>
                  </a:lnTo>
                  <a:lnTo>
                    <a:pt x="40492" y="185532"/>
                  </a:lnTo>
                  <a:lnTo>
                    <a:pt x="36286" y="194808"/>
                  </a:lnTo>
                  <a:lnTo>
                    <a:pt x="31787" y="203532"/>
                  </a:lnTo>
                  <a:lnTo>
                    <a:pt x="27942" y="212735"/>
                  </a:lnTo>
                  <a:lnTo>
                    <a:pt x="24532" y="222257"/>
                  </a:lnTo>
                  <a:lnTo>
                    <a:pt x="21411" y="231991"/>
                  </a:lnTo>
                  <a:lnTo>
                    <a:pt x="17638" y="241021"/>
                  </a:lnTo>
                  <a:lnTo>
                    <a:pt x="13429" y="249581"/>
                  </a:lnTo>
                  <a:lnTo>
                    <a:pt x="8929" y="257827"/>
                  </a:lnTo>
                  <a:lnTo>
                    <a:pt x="5930" y="265018"/>
                  </a:lnTo>
                  <a:lnTo>
                    <a:pt x="3930" y="271506"/>
                  </a:lnTo>
                  <a:lnTo>
                    <a:pt x="2598" y="277524"/>
                  </a:lnTo>
                  <a:lnTo>
                    <a:pt x="1708" y="283229"/>
                  </a:lnTo>
                  <a:lnTo>
                    <a:pt x="1116" y="288726"/>
                  </a:lnTo>
                  <a:lnTo>
                    <a:pt x="457" y="298503"/>
                  </a:lnTo>
                  <a:lnTo>
                    <a:pt x="166" y="305670"/>
                  </a:lnTo>
                  <a:lnTo>
                    <a:pt x="0" y="314465"/>
                  </a:lnTo>
                  <a:lnTo>
                    <a:pt x="824" y="316324"/>
                  </a:lnTo>
                  <a:lnTo>
                    <a:pt x="2220" y="317562"/>
                  </a:lnTo>
                  <a:lnTo>
                    <a:pt x="7552" y="3200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SMARTInkAnnotation177"/>
            <p:cNvSpPr/>
            <p:nvPr/>
          </p:nvSpPr>
          <p:spPr>
            <a:xfrm>
              <a:off x="6470280" y="3120120"/>
              <a:ext cx="173160" cy="16344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163440"/>
                <a:gd name="textAreaBottom" fmla="*/ 163440 h 163440"/>
              </a:gdLst>
              <a:ahLst/>
              <a:rect l="textAreaLeft" t="textAreaTop" r="textAreaRight" b="textAreaBottom"/>
              <a:pathLst>
                <a:path w="173381" h="163558">
                  <a:moveTo>
                    <a:pt x="121009" y="49722"/>
                  </a:moveTo>
                  <a:lnTo>
                    <a:pt x="121009" y="45677"/>
                  </a:lnTo>
                  <a:lnTo>
                    <a:pt x="121855" y="43639"/>
                  </a:lnTo>
                  <a:lnTo>
                    <a:pt x="125054" y="39116"/>
                  </a:lnTo>
                  <a:lnTo>
                    <a:pt x="128771" y="34551"/>
                  </a:lnTo>
                  <a:lnTo>
                    <a:pt x="132361" y="30844"/>
                  </a:lnTo>
                  <a:lnTo>
                    <a:pt x="134504" y="29517"/>
                  </a:lnTo>
                  <a:lnTo>
                    <a:pt x="139142" y="28042"/>
                  </a:lnTo>
                  <a:lnTo>
                    <a:pt x="143454" y="26966"/>
                  </a:lnTo>
                  <a:lnTo>
                    <a:pt x="139701" y="26893"/>
                  </a:lnTo>
                  <a:lnTo>
                    <a:pt x="133227" y="26872"/>
                  </a:lnTo>
                  <a:lnTo>
                    <a:pt x="130001" y="27715"/>
                  </a:lnTo>
                  <a:lnTo>
                    <a:pt x="126157" y="29124"/>
                  </a:lnTo>
                  <a:lnTo>
                    <a:pt x="121901" y="30910"/>
                  </a:lnTo>
                  <a:lnTo>
                    <a:pt x="117370" y="32948"/>
                  </a:lnTo>
                  <a:lnTo>
                    <a:pt x="107821" y="37469"/>
                  </a:lnTo>
                  <a:lnTo>
                    <a:pt x="102057" y="40707"/>
                  </a:lnTo>
                  <a:lnTo>
                    <a:pt x="95675" y="44559"/>
                  </a:lnTo>
                  <a:lnTo>
                    <a:pt x="88880" y="48820"/>
                  </a:lnTo>
                  <a:lnTo>
                    <a:pt x="80963" y="53354"/>
                  </a:lnTo>
                  <a:lnTo>
                    <a:pt x="63136" y="62908"/>
                  </a:lnTo>
                  <a:lnTo>
                    <a:pt x="55333" y="67826"/>
                  </a:lnTo>
                  <a:lnTo>
                    <a:pt x="48439" y="72798"/>
                  </a:lnTo>
                  <a:lnTo>
                    <a:pt x="42149" y="77806"/>
                  </a:lnTo>
                  <a:lnTo>
                    <a:pt x="36262" y="82838"/>
                  </a:lnTo>
                  <a:lnTo>
                    <a:pt x="30645" y="87886"/>
                  </a:lnTo>
                  <a:lnTo>
                    <a:pt x="19888" y="98011"/>
                  </a:lnTo>
                  <a:lnTo>
                    <a:pt x="9462" y="108155"/>
                  </a:lnTo>
                  <a:lnTo>
                    <a:pt x="6004" y="114077"/>
                  </a:lnTo>
                  <a:lnTo>
                    <a:pt x="3699" y="120566"/>
                  </a:lnTo>
                  <a:lnTo>
                    <a:pt x="2162" y="127431"/>
                  </a:lnTo>
                  <a:lnTo>
                    <a:pt x="1138" y="132855"/>
                  </a:lnTo>
                  <a:lnTo>
                    <a:pt x="455" y="137317"/>
                  </a:lnTo>
                  <a:lnTo>
                    <a:pt x="0" y="141139"/>
                  </a:lnTo>
                  <a:lnTo>
                    <a:pt x="1390" y="144533"/>
                  </a:lnTo>
                  <a:lnTo>
                    <a:pt x="4010" y="147643"/>
                  </a:lnTo>
                  <a:lnTo>
                    <a:pt x="7450" y="150563"/>
                  </a:lnTo>
                  <a:lnTo>
                    <a:pt x="11436" y="153356"/>
                  </a:lnTo>
                  <a:lnTo>
                    <a:pt x="15787" y="156064"/>
                  </a:lnTo>
                  <a:lnTo>
                    <a:pt x="20381" y="158717"/>
                  </a:lnTo>
                  <a:lnTo>
                    <a:pt x="25984" y="160485"/>
                  </a:lnTo>
                  <a:lnTo>
                    <a:pt x="32259" y="161664"/>
                  </a:lnTo>
                  <a:lnTo>
                    <a:pt x="38982" y="162450"/>
                  </a:lnTo>
                  <a:lnTo>
                    <a:pt x="46852" y="162974"/>
                  </a:lnTo>
                  <a:lnTo>
                    <a:pt x="55484" y="163324"/>
                  </a:lnTo>
                  <a:lnTo>
                    <a:pt x="64626" y="163557"/>
                  </a:lnTo>
                  <a:lnTo>
                    <a:pt x="74107" y="162865"/>
                  </a:lnTo>
                  <a:lnTo>
                    <a:pt x="83815" y="161557"/>
                  </a:lnTo>
                  <a:lnTo>
                    <a:pt x="93673" y="159839"/>
                  </a:lnTo>
                  <a:lnTo>
                    <a:pt x="103632" y="157000"/>
                  </a:lnTo>
                  <a:lnTo>
                    <a:pt x="113658" y="153414"/>
                  </a:lnTo>
                  <a:lnTo>
                    <a:pt x="123728" y="149330"/>
                  </a:lnTo>
                  <a:lnTo>
                    <a:pt x="132135" y="144914"/>
                  </a:lnTo>
                  <a:lnTo>
                    <a:pt x="139433" y="140277"/>
                  </a:lnTo>
                  <a:lnTo>
                    <a:pt x="145992" y="135492"/>
                  </a:lnTo>
                  <a:lnTo>
                    <a:pt x="152057" y="129762"/>
                  </a:lnTo>
                  <a:lnTo>
                    <a:pt x="157794" y="123402"/>
                  </a:lnTo>
                  <a:lnTo>
                    <a:pt x="163313" y="116622"/>
                  </a:lnTo>
                  <a:lnTo>
                    <a:pt x="166991" y="109562"/>
                  </a:lnTo>
                  <a:lnTo>
                    <a:pt x="169445" y="102316"/>
                  </a:lnTo>
                  <a:lnTo>
                    <a:pt x="171080" y="94945"/>
                  </a:lnTo>
                  <a:lnTo>
                    <a:pt x="172169" y="87490"/>
                  </a:lnTo>
                  <a:lnTo>
                    <a:pt x="172896" y="79981"/>
                  </a:lnTo>
                  <a:lnTo>
                    <a:pt x="173380" y="72435"/>
                  </a:lnTo>
                  <a:lnTo>
                    <a:pt x="172857" y="65711"/>
                  </a:lnTo>
                  <a:lnTo>
                    <a:pt x="171661" y="59535"/>
                  </a:lnTo>
                  <a:lnTo>
                    <a:pt x="170017" y="53724"/>
                  </a:lnTo>
                  <a:lnTo>
                    <a:pt x="168074" y="48156"/>
                  </a:lnTo>
                  <a:lnTo>
                    <a:pt x="165932" y="42752"/>
                  </a:lnTo>
                  <a:lnTo>
                    <a:pt x="163658" y="37455"/>
                  </a:lnTo>
                  <a:lnTo>
                    <a:pt x="160448" y="32231"/>
                  </a:lnTo>
                  <a:lnTo>
                    <a:pt x="156615" y="27055"/>
                  </a:lnTo>
                  <a:lnTo>
                    <a:pt x="152367" y="21910"/>
                  </a:lnTo>
                  <a:lnTo>
                    <a:pt x="148688" y="17635"/>
                  </a:lnTo>
                  <a:lnTo>
                    <a:pt x="145388" y="13937"/>
                  </a:lnTo>
                  <a:lnTo>
                    <a:pt x="142342" y="10626"/>
                  </a:lnTo>
                  <a:lnTo>
                    <a:pt x="138617" y="8418"/>
                  </a:lnTo>
                  <a:lnTo>
                    <a:pt x="134442" y="6946"/>
                  </a:lnTo>
                  <a:lnTo>
                    <a:pt x="129965" y="5965"/>
                  </a:lnTo>
                  <a:lnTo>
                    <a:pt x="126133" y="4464"/>
                  </a:lnTo>
                  <a:lnTo>
                    <a:pt x="122731" y="2617"/>
                  </a:lnTo>
                  <a:lnTo>
                    <a:pt x="119618" y="538"/>
                  </a:lnTo>
                  <a:lnTo>
                    <a:pt x="116695" y="0"/>
                  </a:lnTo>
                  <a:lnTo>
                    <a:pt x="113899" y="487"/>
                  </a:lnTo>
                  <a:lnTo>
                    <a:pt x="105770" y="40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MARTInkAnnotation178"/>
            <p:cNvSpPr/>
            <p:nvPr/>
          </p:nvSpPr>
          <p:spPr>
            <a:xfrm>
              <a:off x="6451560" y="3306960"/>
              <a:ext cx="213120" cy="1807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80720"/>
                <a:gd name="textAreaBottom" fmla="*/ 180720 h 180720"/>
              </a:gdLst>
              <a:ahLst/>
              <a:rect l="textAreaLeft" t="textAreaTop" r="textAreaRight" b="textAreaBottom"/>
              <a:pathLst>
                <a:path w="213309" h="180927">
                  <a:moveTo>
                    <a:pt x="124312" y="30480"/>
                  </a:moveTo>
                  <a:lnTo>
                    <a:pt x="124312" y="26435"/>
                  </a:lnTo>
                  <a:lnTo>
                    <a:pt x="123465" y="25243"/>
                  </a:lnTo>
                  <a:lnTo>
                    <a:pt x="122054" y="24449"/>
                  </a:lnTo>
                  <a:lnTo>
                    <a:pt x="120266" y="23919"/>
                  </a:lnTo>
                  <a:lnTo>
                    <a:pt x="118228" y="24413"/>
                  </a:lnTo>
                  <a:lnTo>
                    <a:pt x="113705" y="27219"/>
                  </a:lnTo>
                  <a:lnTo>
                    <a:pt x="110468" y="29153"/>
                  </a:lnTo>
                  <a:lnTo>
                    <a:pt x="106616" y="31288"/>
                  </a:lnTo>
                  <a:lnTo>
                    <a:pt x="102354" y="33559"/>
                  </a:lnTo>
                  <a:lnTo>
                    <a:pt x="96974" y="35919"/>
                  </a:lnTo>
                  <a:lnTo>
                    <a:pt x="90845" y="38339"/>
                  </a:lnTo>
                  <a:lnTo>
                    <a:pt x="84221" y="40799"/>
                  </a:lnTo>
                  <a:lnTo>
                    <a:pt x="78111" y="43286"/>
                  </a:lnTo>
                  <a:lnTo>
                    <a:pt x="72345" y="45791"/>
                  </a:lnTo>
                  <a:lnTo>
                    <a:pt x="66807" y="48307"/>
                  </a:lnTo>
                  <a:lnTo>
                    <a:pt x="60575" y="52525"/>
                  </a:lnTo>
                  <a:lnTo>
                    <a:pt x="53880" y="57877"/>
                  </a:lnTo>
                  <a:lnTo>
                    <a:pt x="46877" y="63984"/>
                  </a:lnTo>
                  <a:lnTo>
                    <a:pt x="40515" y="69750"/>
                  </a:lnTo>
                  <a:lnTo>
                    <a:pt x="28931" y="80671"/>
                  </a:lnTo>
                  <a:lnTo>
                    <a:pt x="23471" y="86801"/>
                  </a:lnTo>
                  <a:lnTo>
                    <a:pt x="18137" y="93427"/>
                  </a:lnTo>
                  <a:lnTo>
                    <a:pt x="12889" y="100385"/>
                  </a:lnTo>
                  <a:lnTo>
                    <a:pt x="8543" y="106716"/>
                  </a:lnTo>
                  <a:lnTo>
                    <a:pt x="4799" y="112631"/>
                  </a:lnTo>
                  <a:lnTo>
                    <a:pt x="1457" y="118268"/>
                  </a:lnTo>
                  <a:lnTo>
                    <a:pt x="75" y="123718"/>
                  </a:lnTo>
                  <a:lnTo>
                    <a:pt x="0" y="129046"/>
                  </a:lnTo>
                  <a:lnTo>
                    <a:pt x="797" y="134291"/>
                  </a:lnTo>
                  <a:lnTo>
                    <a:pt x="2175" y="139480"/>
                  </a:lnTo>
                  <a:lnTo>
                    <a:pt x="3941" y="144633"/>
                  </a:lnTo>
                  <a:lnTo>
                    <a:pt x="5964" y="149762"/>
                  </a:lnTo>
                  <a:lnTo>
                    <a:pt x="9853" y="154875"/>
                  </a:lnTo>
                  <a:lnTo>
                    <a:pt x="14986" y="159977"/>
                  </a:lnTo>
                  <a:lnTo>
                    <a:pt x="20948" y="165071"/>
                  </a:lnTo>
                  <a:lnTo>
                    <a:pt x="28309" y="169314"/>
                  </a:lnTo>
                  <a:lnTo>
                    <a:pt x="36603" y="172989"/>
                  </a:lnTo>
                  <a:lnTo>
                    <a:pt x="45519" y="176286"/>
                  </a:lnTo>
                  <a:lnTo>
                    <a:pt x="54849" y="178484"/>
                  </a:lnTo>
                  <a:lnTo>
                    <a:pt x="64457" y="179949"/>
                  </a:lnTo>
                  <a:lnTo>
                    <a:pt x="74248" y="180926"/>
                  </a:lnTo>
                  <a:lnTo>
                    <a:pt x="85009" y="180731"/>
                  </a:lnTo>
                  <a:lnTo>
                    <a:pt x="96417" y="179754"/>
                  </a:lnTo>
                  <a:lnTo>
                    <a:pt x="108255" y="178256"/>
                  </a:lnTo>
                  <a:lnTo>
                    <a:pt x="119534" y="176410"/>
                  </a:lnTo>
                  <a:lnTo>
                    <a:pt x="130440" y="174333"/>
                  </a:lnTo>
                  <a:lnTo>
                    <a:pt x="141097" y="172103"/>
                  </a:lnTo>
                  <a:lnTo>
                    <a:pt x="150742" y="168075"/>
                  </a:lnTo>
                  <a:lnTo>
                    <a:pt x="159712" y="162850"/>
                  </a:lnTo>
                  <a:lnTo>
                    <a:pt x="168232" y="156826"/>
                  </a:lnTo>
                  <a:lnTo>
                    <a:pt x="176451" y="150271"/>
                  </a:lnTo>
                  <a:lnTo>
                    <a:pt x="184472" y="143361"/>
                  </a:lnTo>
                  <a:lnTo>
                    <a:pt x="192359" y="136214"/>
                  </a:lnTo>
                  <a:lnTo>
                    <a:pt x="198463" y="128909"/>
                  </a:lnTo>
                  <a:lnTo>
                    <a:pt x="203379" y="121499"/>
                  </a:lnTo>
                  <a:lnTo>
                    <a:pt x="207503" y="114020"/>
                  </a:lnTo>
                  <a:lnTo>
                    <a:pt x="210253" y="106493"/>
                  </a:lnTo>
                  <a:lnTo>
                    <a:pt x="212085" y="98935"/>
                  </a:lnTo>
                  <a:lnTo>
                    <a:pt x="213308" y="91357"/>
                  </a:lnTo>
                  <a:lnTo>
                    <a:pt x="213276" y="83765"/>
                  </a:lnTo>
                  <a:lnTo>
                    <a:pt x="212408" y="76163"/>
                  </a:lnTo>
                  <a:lnTo>
                    <a:pt x="210983" y="68555"/>
                  </a:lnTo>
                  <a:lnTo>
                    <a:pt x="208339" y="61790"/>
                  </a:lnTo>
                  <a:lnTo>
                    <a:pt x="204883" y="55587"/>
                  </a:lnTo>
                  <a:lnTo>
                    <a:pt x="200886" y="49758"/>
                  </a:lnTo>
                  <a:lnTo>
                    <a:pt x="195682" y="44179"/>
                  </a:lnTo>
                  <a:lnTo>
                    <a:pt x="189671" y="38766"/>
                  </a:lnTo>
                  <a:lnTo>
                    <a:pt x="183124" y="33464"/>
                  </a:lnTo>
                  <a:lnTo>
                    <a:pt x="175374" y="29083"/>
                  </a:lnTo>
                  <a:lnTo>
                    <a:pt x="166819" y="25315"/>
                  </a:lnTo>
                  <a:lnTo>
                    <a:pt x="157731" y="21957"/>
                  </a:lnTo>
                  <a:lnTo>
                    <a:pt x="150824" y="18871"/>
                  </a:lnTo>
                  <a:lnTo>
                    <a:pt x="145373" y="15968"/>
                  </a:lnTo>
                  <a:lnTo>
                    <a:pt x="140893" y="13185"/>
                  </a:lnTo>
                  <a:lnTo>
                    <a:pt x="136212" y="10483"/>
                  </a:lnTo>
                  <a:lnTo>
                    <a:pt x="11669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MARTInkAnnotation179"/>
            <p:cNvSpPr/>
            <p:nvPr/>
          </p:nvSpPr>
          <p:spPr>
            <a:xfrm>
              <a:off x="761760" y="754920"/>
              <a:ext cx="312120" cy="16740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12421" h="167508">
                  <a:moveTo>
                    <a:pt x="0" y="159887"/>
                  </a:moveTo>
                  <a:lnTo>
                    <a:pt x="0" y="141754"/>
                  </a:lnTo>
                  <a:lnTo>
                    <a:pt x="847" y="139332"/>
                  </a:lnTo>
                  <a:lnTo>
                    <a:pt x="4045" y="134382"/>
                  </a:lnTo>
                  <a:lnTo>
                    <a:pt x="6031" y="129361"/>
                  </a:lnTo>
                  <a:lnTo>
                    <a:pt x="6561" y="126836"/>
                  </a:lnTo>
                  <a:lnTo>
                    <a:pt x="9407" y="121773"/>
                  </a:lnTo>
                  <a:lnTo>
                    <a:pt x="11351" y="119238"/>
                  </a:lnTo>
                  <a:lnTo>
                    <a:pt x="13512" y="114163"/>
                  </a:lnTo>
                  <a:lnTo>
                    <a:pt x="14088" y="111624"/>
                  </a:lnTo>
                  <a:lnTo>
                    <a:pt x="15319" y="108239"/>
                  </a:lnTo>
                  <a:lnTo>
                    <a:pt x="16986" y="104288"/>
                  </a:lnTo>
                  <a:lnTo>
                    <a:pt x="18944" y="99961"/>
                  </a:lnTo>
                  <a:lnTo>
                    <a:pt x="21943" y="96230"/>
                  </a:lnTo>
                  <a:lnTo>
                    <a:pt x="25635" y="92896"/>
                  </a:lnTo>
                  <a:lnTo>
                    <a:pt x="29790" y="89826"/>
                  </a:lnTo>
                  <a:lnTo>
                    <a:pt x="33407" y="86933"/>
                  </a:lnTo>
                  <a:lnTo>
                    <a:pt x="36664" y="84158"/>
                  </a:lnTo>
                  <a:lnTo>
                    <a:pt x="39683" y="81461"/>
                  </a:lnTo>
                  <a:lnTo>
                    <a:pt x="42542" y="77970"/>
                  </a:lnTo>
                  <a:lnTo>
                    <a:pt x="45295" y="73949"/>
                  </a:lnTo>
                  <a:lnTo>
                    <a:pt x="47976" y="69575"/>
                  </a:lnTo>
                  <a:lnTo>
                    <a:pt x="51458" y="65812"/>
                  </a:lnTo>
                  <a:lnTo>
                    <a:pt x="55472" y="62457"/>
                  </a:lnTo>
                  <a:lnTo>
                    <a:pt x="59841" y="59374"/>
                  </a:lnTo>
                  <a:lnTo>
                    <a:pt x="63601" y="56472"/>
                  </a:lnTo>
                  <a:lnTo>
                    <a:pt x="66954" y="53690"/>
                  </a:lnTo>
                  <a:lnTo>
                    <a:pt x="70036" y="50989"/>
                  </a:lnTo>
                  <a:lnTo>
                    <a:pt x="74631" y="47495"/>
                  </a:lnTo>
                  <a:lnTo>
                    <a:pt x="86509" y="39097"/>
                  </a:lnTo>
                  <a:lnTo>
                    <a:pt x="92386" y="35334"/>
                  </a:lnTo>
                  <a:lnTo>
                    <a:pt x="97997" y="31978"/>
                  </a:lnTo>
                  <a:lnTo>
                    <a:pt x="103432" y="28895"/>
                  </a:lnTo>
                  <a:lnTo>
                    <a:pt x="109594" y="25992"/>
                  </a:lnTo>
                  <a:lnTo>
                    <a:pt x="116243" y="23211"/>
                  </a:lnTo>
                  <a:lnTo>
                    <a:pt x="123215" y="20509"/>
                  </a:lnTo>
                  <a:lnTo>
                    <a:pt x="129557" y="17862"/>
                  </a:lnTo>
                  <a:lnTo>
                    <a:pt x="135478" y="15250"/>
                  </a:lnTo>
                  <a:lnTo>
                    <a:pt x="146572" y="10091"/>
                  </a:lnTo>
                  <a:lnTo>
                    <a:pt x="157148" y="4975"/>
                  </a:lnTo>
                  <a:lnTo>
                    <a:pt x="163185" y="3273"/>
                  </a:lnTo>
                  <a:lnTo>
                    <a:pt x="169750" y="2138"/>
                  </a:lnTo>
                  <a:lnTo>
                    <a:pt x="176667" y="1381"/>
                  </a:lnTo>
                  <a:lnTo>
                    <a:pt x="182971" y="876"/>
                  </a:lnTo>
                  <a:lnTo>
                    <a:pt x="188868" y="540"/>
                  </a:lnTo>
                  <a:lnTo>
                    <a:pt x="199935" y="166"/>
                  </a:lnTo>
                  <a:lnTo>
                    <a:pt x="210498" y="0"/>
                  </a:lnTo>
                  <a:lnTo>
                    <a:pt x="215685" y="802"/>
                  </a:lnTo>
                  <a:lnTo>
                    <a:pt x="220837" y="2184"/>
                  </a:lnTo>
                  <a:lnTo>
                    <a:pt x="230230" y="5977"/>
                  </a:lnTo>
                  <a:lnTo>
                    <a:pt x="241125" y="12872"/>
                  </a:lnTo>
                  <a:lnTo>
                    <a:pt x="249971" y="17783"/>
                  </a:lnTo>
                  <a:lnTo>
                    <a:pt x="257289" y="22787"/>
                  </a:lnTo>
                  <a:lnTo>
                    <a:pt x="260426" y="25307"/>
                  </a:lnTo>
                  <a:lnTo>
                    <a:pt x="263364" y="28681"/>
                  </a:lnTo>
                  <a:lnTo>
                    <a:pt x="266170" y="32623"/>
                  </a:lnTo>
                  <a:lnTo>
                    <a:pt x="268886" y="36944"/>
                  </a:lnTo>
                  <a:lnTo>
                    <a:pt x="271544" y="40672"/>
                  </a:lnTo>
                  <a:lnTo>
                    <a:pt x="274163" y="44004"/>
                  </a:lnTo>
                  <a:lnTo>
                    <a:pt x="276755" y="47072"/>
                  </a:lnTo>
                  <a:lnTo>
                    <a:pt x="279330" y="50810"/>
                  </a:lnTo>
                  <a:lnTo>
                    <a:pt x="281894" y="54996"/>
                  </a:lnTo>
                  <a:lnTo>
                    <a:pt x="284449" y="59480"/>
                  </a:lnTo>
                  <a:lnTo>
                    <a:pt x="286153" y="64162"/>
                  </a:lnTo>
                  <a:lnTo>
                    <a:pt x="287289" y="68977"/>
                  </a:lnTo>
                  <a:lnTo>
                    <a:pt x="288046" y="73880"/>
                  </a:lnTo>
                  <a:lnTo>
                    <a:pt x="289397" y="78843"/>
                  </a:lnTo>
                  <a:lnTo>
                    <a:pt x="291145" y="83844"/>
                  </a:lnTo>
                  <a:lnTo>
                    <a:pt x="293157" y="88872"/>
                  </a:lnTo>
                  <a:lnTo>
                    <a:pt x="295344" y="93917"/>
                  </a:lnTo>
                  <a:lnTo>
                    <a:pt x="300033" y="104038"/>
                  </a:lnTo>
                  <a:lnTo>
                    <a:pt x="301622" y="108261"/>
                  </a:lnTo>
                  <a:lnTo>
                    <a:pt x="302682" y="111923"/>
                  </a:lnTo>
                  <a:lnTo>
                    <a:pt x="303388" y="115211"/>
                  </a:lnTo>
                  <a:lnTo>
                    <a:pt x="304705" y="119096"/>
                  </a:lnTo>
                  <a:lnTo>
                    <a:pt x="306430" y="123380"/>
                  </a:lnTo>
                  <a:lnTo>
                    <a:pt x="308427" y="127929"/>
                  </a:lnTo>
                  <a:lnTo>
                    <a:pt x="309758" y="131808"/>
                  </a:lnTo>
                  <a:lnTo>
                    <a:pt x="310646" y="135241"/>
                  </a:lnTo>
                  <a:lnTo>
                    <a:pt x="311237" y="138376"/>
                  </a:lnTo>
                  <a:lnTo>
                    <a:pt x="311632" y="141313"/>
                  </a:lnTo>
                  <a:lnTo>
                    <a:pt x="311894" y="144118"/>
                  </a:lnTo>
                  <a:lnTo>
                    <a:pt x="312069" y="146834"/>
                  </a:lnTo>
                  <a:lnTo>
                    <a:pt x="312186" y="149492"/>
                  </a:lnTo>
                  <a:lnTo>
                    <a:pt x="312316" y="154702"/>
                  </a:lnTo>
                  <a:lnTo>
                    <a:pt x="312420" y="16750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MARTInkAnnotation180"/>
            <p:cNvSpPr/>
            <p:nvPr/>
          </p:nvSpPr>
          <p:spPr>
            <a:xfrm>
              <a:off x="716040" y="1482120"/>
              <a:ext cx="365760" cy="15624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365761" h="156488">
                  <a:moveTo>
                    <a:pt x="0" y="148867"/>
                  </a:moveTo>
                  <a:lnTo>
                    <a:pt x="4046" y="144822"/>
                  </a:lnTo>
                  <a:lnTo>
                    <a:pt x="5237" y="142784"/>
                  </a:lnTo>
                  <a:lnTo>
                    <a:pt x="7761" y="135023"/>
                  </a:lnTo>
                  <a:lnTo>
                    <a:pt x="9407" y="131171"/>
                  </a:lnTo>
                  <a:lnTo>
                    <a:pt x="11352" y="126910"/>
                  </a:lnTo>
                  <a:lnTo>
                    <a:pt x="13494" y="123222"/>
                  </a:lnTo>
                  <a:lnTo>
                    <a:pt x="15770" y="119917"/>
                  </a:lnTo>
                  <a:lnTo>
                    <a:pt x="18133" y="116867"/>
                  </a:lnTo>
                  <a:lnTo>
                    <a:pt x="20556" y="113140"/>
                  </a:lnTo>
                  <a:lnTo>
                    <a:pt x="23017" y="108963"/>
                  </a:lnTo>
                  <a:lnTo>
                    <a:pt x="25505" y="104484"/>
                  </a:lnTo>
                  <a:lnTo>
                    <a:pt x="28857" y="99805"/>
                  </a:lnTo>
                  <a:lnTo>
                    <a:pt x="32784" y="94992"/>
                  </a:lnTo>
                  <a:lnTo>
                    <a:pt x="37096" y="90091"/>
                  </a:lnTo>
                  <a:lnTo>
                    <a:pt x="40818" y="85129"/>
                  </a:lnTo>
                  <a:lnTo>
                    <a:pt x="44145" y="80129"/>
                  </a:lnTo>
                  <a:lnTo>
                    <a:pt x="47210" y="75101"/>
                  </a:lnTo>
                  <a:lnTo>
                    <a:pt x="50947" y="70057"/>
                  </a:lnTo>
                  <a:lnTo>
                    <a:pt x="55131" y="65000"/>
                  </a:lnTo>
                  <a:lnTo>
                    <a:pt x="59614" y="59936"/>
                  </a:lnTo>
                  <a:lnTo>
                    <a:pt x="65143" y="55713"/>
                  </a:lnTo>
                  <a:lnTo>
                    <a:pt x="71369" y="52051"/>
                  </a:lnTo>
                  <a:lnTo>
                    <a:pt x="78059" y="48763"/>
                  </a:lnTo>
                  <a:lnTo>
                    <a:pt x="84213" y="44878"/>
                  </a:lnTo>
                  <a:lnTo>
                    <a:pt x="90009" y="40594"/>
                  </a:lnTo>
                  <a:lnTo>
                    <a:pt x="95566" y="36045"/>
                  </a:lnTo>
                  <a:lnTo>
                    <a:pt x="101811" y="32166"/>
                  </a:lnTo>
                  <a:lnTo>
                    <a:pt x="108514" y="28733"/>
                  </a:lnTo>
                  <a:lnTo>
                    <a:pt x="115523" y="25598"/>
                  </a:lnTo>
                  <a:lnTo>
                    <a:pt x="122735" y="22661"/>
                  </a:lnTo>
                  <a:lnTo>
                    <a:pt x="130083" y="19856"/>
                  </a:lnTo>
                  <a:lnTo>
                    <a:pt x="137522" y="17140"/>
                  </a:lnTo>
                  <a:lnTo>
                    <a:pt x="144175" y="14482"/>
                  </a:lnTo>
                  <a:lnTo>
                    <a:pt x="150303" y="11864"/>
                  </a:lnTo>
                  <a:lnTo>
                    <a:pt x="156082" y="9272"/>
                  </a:lnTo>
                  <a:lnTo>
                    <a:pt x="163321" y="7543"/>
                  </a:lnTo>
                  <a:lnTo>
                    <a:pt x="171534" y="6391"/>
                  </a:lnTo>
                  <a:lnTo>
                    <a:pt x="180396" y="5623"/>
                  </a:lnTo>
                  <a:lnTo>
                    <a:pt x="187998" y="4264"/>
                  </a:lnTo>
                  <a:lnTo>
                    <a:pt x="194758" y="2512"/>
                  </a:lnTo>
                  <a:lnTo>
                    <a:pt x="200959" y="497"/>
                  </a:lnTo>
                  <a:lnTo>
                    <a:pt x="207633" y="0"/>
                  </a:lnTo>
                  <a:lnTo>
                    <a:pt x="214622" y="516"/>
                  </a:lnTo>
                  <a:lnTo>
                    <a:pt x="221821" y="1706"/>
                  </a:lnTo>
                  <a:lnTo>
                    <a:pt x="229161" y="2500"/>
                  </a:lnTo>
                  <a:lnTo>
                    <a:pt x="236594" y="3029"/>
                  </a:lnTo>
                  <a:lnTo>
                    <a:pt x="244089" y="3382"/>
                  </a:lnTo>
                  <a:lnTo>
                    <a:pt x="251626" y="4463"/>
                  </a:lnTo>
                  <a:lnTo>
                    <a:pt x="259191" y="6031"/>
                  </a:lnTo>
                  <a:lnTo>
                    <a:pt x="266774" y="7923"/>
                  </a:lnTo>
                  <a:lnTo>
                    <a:pt x="273523" y="10031"/>
                  </a:lnTo>
                  <a:lnTo>
                    <a:pt x="279715" y="12283"/>
                  </a:lnTo>
                  <a:lnTo>
                    <a:pt x="285537" y="14631"/>
                  </a:lnTo>
                  <a:lnTo>
                    <a:pt x="291111" y="17890"/>
                  </a:lnTo>
                  <a:lnTo>
                    <a:pt x="296521" y="21756"/>
                  </a:lnTo>
                  <a:lnTo>
                    <a:pt x="301821" y="26026"/>
                  </a:lnTo>
                  <a:lnTo>
                    <a:pt x="307047" y="29720"/>
                  </a:lnTo>
                  <a:lnTo>
                    <a:pt x="312225" y="33029"/>
                  </a:lnTo>
                  <a:lnTo>
                    <a:pt x="317370" y="36082"/>
                  </a:lnTo>
                  <a:lnTo>
                    <a:pt x="322493" y="39810"/>
                  </a:lnTo>
                  <a:lnTo>
                    <a:pt x="327602" y="43989"/>
                  </a:lnTo>
                  <a:lnTo>
                    <a:pt x="332701" y="48468"/>
                  </a:lnTo>
                  <a:lnTo>
                    <a:pt x="336101" y="53148"/>
                  </a:lnTo>
                  <a:lnTo>
                    <a:pt x="338367" y="57961"/>
                  </a:lnTo>
                  <a:lnTo>
                    <a:pt x="339878" y="62863"/>
                  </a:lnTo>
                  <a:lnTo>
                    <a:pt x="342579" y="67824"/>
                  </a:lnTo>
                  <a:lnTo>
                    <a:pt x="346073" y="72825"/>
                  </a:lnTo>
                  <a:lnTo>
                    <a:pt x="350095" y="77852"/>
                  </a:lnTo>
                  <a:lnTo>
                    <a:pt x="352777" y="82897"/>
                  </a:lnTo>
                  <a:lnTo>
                    <a:pt x="354564" y="87954"/>
                  </a:lnTo>
                  <a:lnTo>
                    <a:pt x="355756" y="93018"/>
                  </a:lnTo>
                  <a:lnTo>
                    <a:pt x="357397" y="98088"/>
                  </a:lnTo>
                  <a:lnTo>
                    <a:pt x="359338" y="103161"/>
                  </a:lnTo>
                  <a:lnTo>
                    <a:pt x="361479" y="108236"/>
                  </a:lnTo>
                  <a:lnTo>
                    <a:pt x="362906" y="113313"/>
                  </a:lnTo>
                  <a:lnTo>
                    <a:pt x="363857" y="118391"/>
                  </a:lnTo>
                  <a:lnTo>
                    <a:pt x="364491" y="123470"/>
                  </a:lnTo>
                  <a:lnTo>
                    <a:pt x="364914" y="128549"/>
                  </a:lnTo>
                  <a:lnTo>
                    <a:pt x="365196" y="133628"/>
                  </a:lnTo>
                  <a:lnTo>
                    <a:pt x="365509" y="142941"/>
                  </a:lnTo>
                  <a:lnTo>
                    <a:pt x="365760" y="15648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MARTInkAnnotation181"/>
            <p:cNvSpPr/>
            <p:nvPr/>
          </p:nvSpPr>
          <p:spPr>
            <a:xfrm>
              <a:off x="753840" y="2362680"/>
              <a:ext cx="571320" cy="23544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571501" h="235772">
                  <a:moveTo>
                    <a:pt x="0" y="235771"/>
                  </a:moveTo>
                  <a:lnTo>
                    <a:pt x="0" y="221904"/>
                  </a:lnTo>
                  <a:lnTo>
                    <a:pt x="2258" y="218884"/>
                  </a:lnTo>
                  <a:lnTo>
                    <a:pt x="6084" y="213872"/>
                  </a:lnTo>
                  <a:lnTo>
                    <a:pt x="8289" y="210165"/>
                  </a:lnTo>
                  <a:lnTo>
                    <a:pt x="10606" y="206001"/>
                  </a:lnTo>
                  <a:lnTo>
                    <a:pt x="15438" y="196857"/>
                  </a:lnTo>
                  <a:lnTo>
                    <a:pt x="17912" y="192049"/>
                  </a:lnTo>
                  <a:lnTo>
                    <a:pt x="21255" y="187149"/>
                  </a:lnTo>
                  <a:lnTo>
                    <a:pt x="25177" y="182190"/>
                  </a:lnTo>
                  <a:lnTo>
                    <a:pt x="29485" y="177190"/>
                  </a:lnTo>
                  <a:lnTo>
                    <a:pt x="34050" y="172164"/>
                  </a:lnTo>
                  <a:lnTo>
                    <a:pt x="43638" y="162063"/>
                  </a:lnTo>
                  <a:lnTo>
                    <a:pt x="88912" y="116390"/>
                  </a:lnTo>
                  <a:lnTo>
                    <a:pt x="94835" y="111310"/>
                  </a:lnTo>
                  <a:lnTo>
                    <a:pt x="101323" y="106231"/>
                  </a:lnTo>
                  <a:lnTo>
                    <a:pt x="108189" y="101151"/>
                  </a:lnTo>
                  <a:lnTo>
                    <a:pt x="122591" y="90991"/>
                  </a:lnTo>
                  <a:lnTo>
                    <a:pt x="175299" y="55431"/>
                  </a:lnTo>
                  <a:lnTo>
                    <a:pt x="183753" y="50351"/>
                  </a:lnTo>
                  <a:lnTo>
                    <a:pt x="192775" y="45271"/>
                  </a:lnTo>
                  <a:lnTo>
                    <a:pt x="202177" y="40191"/>
                  </a:lnTo>
                  <a:lnTo>
                    <a:pt x="210985" y="35958"/>
                  </a:lnTo>
                  <a:lnTo>
                    <a:pt x="227544" y="28996"/>
                  </a:lnTo>
                  <a:lnTo>
                    <a:pt x="236363" y="25955"/>
                  </a:lnTo>
                  <a:lnTo>
                    <a:pt x="245629" y="23080"/>
                  </a:lnTo>
                  <a:lnTo>
                    <a:pt x="264955" y="17628"/>
                  </a:lnTo>
                  <a:lnTo>
                    <a:pt x="315065" y="4670"/>
                  </a:lnTo>
                  <a:lnTo>
                    <a:pt x="325190" y="2964"/>
                  </a:lnTo>
                  <a:lnTo>
                    <a:pt x="335327" y="1826"/>
                  </a:lnTo>
                  <a:lnTo>
                    <a:pt x="345471" y="1068"/>
                  </a:lnTo>
                  <a:lnTo>
                    <a:pt x="355621" y="562"/>
                  </a:lnTo>
                  <a:lnTo>
                    <a:pt x="375929" y="0"/>
                  </a:lnTo>
                  <a:lnTo>
                    <a:pt x="385240" y="697"/>
                  </a:lnTo>
                  <a:lnTo>
                    <a:pt x="402358" y="3729"/>
                  </a:lnTo>
                  <a:lnTo>
                    <a:pt x="411325" y="4877"/>
                  </a:lnTo>
                  <a:lnTo>
                    <a:pt x="420690" y="5641"/>
                  </a:lnTo>
                  <a:lnTo>
                    <a:pt x="430320" y="6151"/>
                  </a:lnTo>
                  <a:lnTo>
                    <a:pt x="447794" y="11233"/>
                  </a:lnTo>
                  <a:lnTo>
                    <a:pt x="463179" y="18290"/>
                  </a:lnTo>
                  <a:lnTo>
                    <a:pt x="475662" y="24248"/>
                  </a:lnTo>
                  <a:lnTo>
                    <a:pt x="489112" y="29719"/>
                  </a:lnTo>
                  <a:lnTo>
                    <a:pt x="496255" y="32363"/>
                  </a:lnTo>
                  <a:lnTo>
                    <a:pt x="501863" y="35819"/>
                  </a:lnTo>
                  <a:lnTo>
                    <a:pt x="506449" y="39816"/>
                  </a:lnTo>
                  <a:lnTo>
                    <a:pt x="510352" y="44175"/>
                  </a:lnTo>
                  <a:lnTo>
                    <a:pt x="515495" y="48774"/>
                  </a:lnTo>
                  <a:lnTo>
                    <a:pt x="521463" y="53533"/>
                  </a:lnTo>
                  <a:lnTo>
                    <a:pt x="527982" y="58399"/>
                  </a:lnTo>
                  <a:lnTo>
                    <a:pt x="533175" y="63336"/>
                  </a:lnTo>
                  <a:lnTo>
                    <a:pt x="537483" y="68321"/>
                  </a:lnTo>
                  <a:lnTo>
                    <a:pt x="541202" y="73338"/>
                  </a:lnTo>
                  <a:lnTo>
                    <a:pt x="544529" y="78375"/>
                  </a:lnTo>
                  <a:lnTo>
                    <a:pt x="547592" y="83427"/>
                  </a:lnTo>
                  <a:lnTo>
                    <a:pt x="550482" y="88489"/>
                  </a:lnTo>
                  <a:lnTo>
                    <a:pt x="555950" y="98628"/>
                  </a:lnTo>
                  <a:lnTo>
                    <a:pt x="566359" y="118934"/>
                  </a:lnTo>
                  <a:lnTo>
                    <a:pt x="568073" y="124013"/>
                  </a:lnTo>
                  <a:lnTo>
                    <a:pt x="569215" y="129093"/>
                  </a:lnTo>
                  <a:lnTo>
                    <a:pt x="569977" y="134172"/>
                  </a:lnTo>
                  <a:lnTo>
                    <a:pt x="570485" y="138405"/>
                  </a:lnTo>
                  <a:lnTo>
                    <a:pt x="571049" y="145366"/>
                  </a:lnTo>
                  <a:lnTo>
                    <a:pt x="571199" y="149254"/>
                  </a:lnTo>
                  <a:lnTo>
                    <a:pt x="571411" y="161971"/>
                  </a:lnTo>
                  <a:lnTo>
                    <a:pt x="571500" y="19005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MARTInkAnnotation182"/>
            <p:cNvSpPr/>
            <p:nvPr/>
          </p:nvSpPr>
          <p:spPr>
            <a:xfrm>
              <a:off x="792000" y="3093840"/>
              <a:ext cx="586440" cy="197640"/>
            </a:xfrm>
            <a:custGeom>
              <a:avLst/>
              <a:gdLst>
                <a:gd name="textAreaLeft" fmla="*/ 0 w 586440"/>
                <a:gd name="textAreaRight" fmla="*/ 586800 w 58644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586741" h="197986">
                  <a:moveTo>
                    <a:pt x="0" y="190365"/>
                  </a:moveTo>
                  <a:lnTo>
                    <a:pt x="4046" y="190365"/>
                  </a:lnTo>
                  <a:lnTo>
                    <a:pt x="6084" y="189519"/>
                  </a:lnTo>
                  <a:lnTo>
                    <a:pt x="12998" y="185128"/>
                  </a:lnTo>
                  <a:lnTo>
                    <a:pt x="20408" y="182605"/>
                  </a:lnTo>
                  <a:lnTo>
                    <a:pt x="27966" y="176871"/>
                  </a:lnTo>
                  <a:lnTo>
                    <a:pt x="33032" y="172232"/>
                  </a:lnTo>
                  <a:lnTo>
                    <a:pt x="40644" y="164860"/>
                  </a:lnTo>
                  <a:lnTo>
                    <a:pt x="67545" y="138057"/>
                  </a:lnTo>
                  <a:lnTo>
                    <a:pt x="71277" y="133480"/>
                  </a:lnTo>
                  <a:lnTo>
                    <a:pt x="74612" y="128735"/>
                  </a:lnTo>
                  <a:lnTo>
                    <a:pt x="77681" y="123878"/>
                  </a:lnTo>
                  <a:lnTo>
                    <a:pt x="81421" y="119794"/>
                  </a:lnTo>
                  <a:lnTo>
                    <a:pt x="85607" y="116224"/>
                  </a:lnTo>
                  <a:lnTo>
                    <a:pt x="90092" y="112998"/>
                  </a:lnTo>
                  <a:lnTo>
                    <a:pt x="93928" y="109154"/>
                  </a:lnTo>
                  <a:lnTo>
                    <a:pt x="97332" y="104898"/>
                  </a:lnTo>
                  <a:lnTo>
                    <a:pt x="100448" y="100367"/>
                  </a:lnTo>
                  <a:lnTo>
                    <a:pt x="104219" y="95653"/>
                  </a:lnTo>
                  <a:lnTo>
                    <a:pt x="108426" y="90817"/>
                  </a:lnTo>
                  <a:lnTo>
                    <a:pt x="112924" y="85900"/>
                  </a:lnTo>
                  <a:lnTo>
                    <a:pt x="118463" y="80928"/>
                  </a:lnTo>
                  <a:lnTo>
                    <a:pt x="124695" y="75920"/>
                  </a:lnTo>
                  <a:lnTo>
                    <a:pt x="131390" y="70889"/>
                  </a:lnTo>
                  <a:lnTo>
                    <a:pt x="137547" y="65841"/>
                  </a:lnTo>
                  <a:lnTo>
                    <a:pt x="143345" y="60782"/>
                  </a:lnTo>
                  <a:lnTo>
                    <a:pt x="148903" y="55717"/>
                  </a:lnTo>
                  <a:lnTo>
                    <a:pt x="155149" y="51493"/>
                  </a:lnTo>
                  <a:lnTo>
                    <a:pt x="161853" y="47830"/>
                  </a:lnTo>
                  <a:lnTo>
                    <a:pt x="168862" y="44542"/>
                  </a:lnTo>
                  <a:lnTo>
                    <a:pt x="176075" y="40656"/>
                  </a:lnTo>
                  <a:lnTo>
                    <a:pt x="183423" y="36373"/>
                  </a:lnTo>
                  <a:lnTo>
                    <a:pt x="190862" y="31823"/>
                  </a:lnTo>
                  <a:lnTo>
                    <a:pt x="199208" y="27944"/>
                  </a:lnTo>
                  <a:lnTo>
                    <a:pt x="208159" y="24511"/>
                  </a:lnTo>
                  <a:lnTo>
                    <a:pt x="242813" y="12918"/>
                  </a:lnTo>
                  <a:lnTo>
                    <a:pt x="260881" y="7642"/>
                  </a:lnTo>
                  <a:lnTo>
                    <a:pt x="270441" y="5050"/>
                  </a:lnTo>
                  <a:lnTo>
                    <a:pt x="287836" y="2169"/>
                  </a:lnTo>
                  <a:lnTo>
                    <a:pt x="304034" y="889"/>
                  </a:lnTo>
                  <a:lnTo>
                    <a:pt x="319700" y="320"/>
                  </a:lnTo>
                  <a:lnTo>
                    <a:pt x="342799" y="0"/>
                  </a:lnTo>
                  <a:lnTo>
                    <a:pt x="358095" y="2183"/>
                  </a:lnTo>
                  <a:lnTo>
                    <a:pt x="392656" y="10483"/>
                  </a:lnTo>
                  <a:lnTo>
                    <a:pt x="409888" y="15309"/>
                  </a:lnTo>
                  <a:lnTo>
                    <a:pt x="426012" y="21123"/>
                  </a:lnTo>
                  <a:lnTo>
                    <a:pt x="433868" y="25043"/>
                  </a:lnTo>
                  <a:lnTo>
                    <a:pt x="441645" y="29350"/>
                  </a:lnTo>
                  <a:lnTo>
                    <a:pt x="448524" y="33915"/>
                  </a:lnTo>
                  <a:lnTo>
                    <a:pt x="454803" y="38652"/>
                  </a:lnTo>
                  <a:lnTo>
                    <a:pt x="460682" y="43503"/>
                  </a:lnTo>
                  <a:lnTo>
                    <a:pt x="466294" y="48430"/>
                  </a:lnTo>
                  <a:lnTo>
                    <a:pt x="471730" y="53409"/>
                  </a:lnTo>
                  <a:lnTo>
                    <a:pt x="477047" y="58421"/>
                  </a:lnTo>
                  <a:lnTo>
                    <a:pt x="483131" y="63456"/>
                  </a:lnTo>
                  <a:lnTo>
                    <a:pt x="489727" y="68506"/>
                  </a:lnTo>
                  <a:lnTo>
                    <a:pt x="496665" y="73565"/>
                  </a:lnTo>
                  <a:lnTo>
                    <a:pt x="502137" y="79479"/>
                  </a:lnTo>
                  <a:lnTo>
                    <a:pt x="506631" y="85961"/>
                  </a:lnTo>
                  <a:lnTo>
                    <a:pt x="510474" y="92822"/>
                  </a:lnTo>
                  <a:lnTo>
                    <a:pt x="515576" y="99090"/>
                  </a:lnTo>
                  <a:lnTo>
                    <a:pt x="521518" y="104962"/>
                  </a:lnTo>
                  <a:lnTo>
                    <a:pt x="528018" y="110569"/>
                  </a:lnTo>
                  <a:lnTo>
                    <a:pt x="533199" y="116001"/>
                  </a:lnTo>
                  <a:lnTo>
                    <a:pt x="537499" y="121316"/>
                  </a:lnTo>
                  <a:lnTo>
                    <a:pt x="541213" y="126552"/>
                  </a:lnTo>
                  <a:lnTo>
                    <a:pt x="545382" y="131737"/>
                  </a:lnTo>
                  <a:lnTo>
                    <a:pt x="549855" y="136886"/>
                  </a:lnTo>
                  <a:lnTo>
                    <a:pt x="558493" y="146276"/>
                  </a:lnTo>
                  <a:lnTo>
                    <a:pt x="565155" y="153273"/>
                  </a:lnTo>
                  <a:lnTo>
                    <a:pt x="568117" y="157170"/>
                  </a:lnTo>
                  <a:lnTo>
                    <a:pt x="570938" y="161462"/>
                  </a:lnTo>
                  <a:lnTo>
                    <a:pt x="573665" y="166016"/>
                  </a:lnTo>
                  <a:lnTo>
                    <a:pt x="576330" y="170746"/>
                  </a:lnTo>
                  <a:lnTo>
                    <a:pt x="585202" y="187447"/>
                  </a:lnTo>
                  <a:lnTo>
                    <a:pt x="586056" y="191326"/>
                  </a:lnTo>
                  <a:lnTo>
                    <a:pt x="586740" y="19798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SMARTInkAnnotation183"/>
            <p:cNvSpPr/>
            <p:nvPr/>
          </p:nvSpPr>
          <p:spPr>
            <a:xfrm>
              <a:off x="5051880" y="739800"/>
              <a:ext cx="632160" cy="296640"/>
            </a:xfrm>
            <a:custGeom>
              <a:avLst/>
              <a:gdLst>
                <a:gd name="textAreaLeft" fmla="*/ 0 w 632160"/>
                <a:gd name="textAreaRight" fmla="*/ 632520 w 63216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632461" h="297057">
                  <a:moveTo>
                    <a:pt x="0" y="297056"/>
                  </a:moveTo>
                  <a:lnTo>
                    <a:pt x="0" y="293011"/>
                  </a:lnTo>
                  <a:lnTo>
                    <a:pt x="846" y="291819"/>
                  </a:lnTo>
                  <a:lnTo>
                    <a:pt x="2257" y="291025"/>
                  </a:lnTo>
                  <a:lnTo>
                    <a:pt x="4045" y="290495"/>
                  </a:lnTo>
                  <a:lnTo>
                    <a:pt x="5237" y="289296"/>
                  </a:lnTo>
                  <a:lnTo>
                    <a:pt x="6031" y="287649"/>
                  </a:lnTo>
                  <a:lnTo>
                    <a:pt x="6561" y="285705"/>
                  </a:lnTo>
                  <a:lnTo>
                    <a:pt x="9407" y="281287"/>
                  </a:lnTo>
                  <a:lnTo>
                    <a:pt x="15770" y="274039"/>
                  </a:lnTo>
                  <a:lnTo>
                    <a:pt x="18133" y="271552"/>
                  </a:lnTo>
                  <a:lnTo>
                    <a:pt x="19708" y="269046"/>
                  </a:lnTo>
                  <a:lnTo>
                    <a:pt x="22773" y="261475"/>
                  </a:lnTo>
                  <a:lnTo>
                    <a:pt x="28667" y="253023"/>
                  </a:lnTo>
                  <a:lnTo>
                    <a:pt x="33343" y="244748"/>
                  </a:lnTo>
                  <a:lnTo>
                    <a:pt x="38243" y="237684"/>
                  </a:lnTo>
                  <a:lnTo>
                    <a:pt x="45763" y="228947"/>
                  </a:lnTo>
                  <a:lnTo>
                    <a:pt x="50819" y="222759"/>
                  </a:lnTo>
                  <a:lnTo>
                    <a:pt x="55889" y="214364"/>
                  </a:lnTo>
                  <a:lnTo>
                    <a:pt x="60964" y="204988"/>
                  </a:lnTo>
                  <a:lnTo>
                    <a:pt x="66042" y="196024"/>
                  </a:lnTo>
                  <a:lnTo>
                    <a:pt x="71120" y="189217"/>
                  </a:lnTo>
                  <a:lnTo>
                    <a:pt x="78458" y="181112"/>
                  </a:lnTo>
                  <a:lnTo>
                    <a:pt x="86517" y="171865"/>
                  </a:lnTo>
                  <a:lnTo>
                    <a:pt x="89851" y="167029"/>
                  </a:lnTo>
                  <a:lnTo>
                    <a:pt x="92921" y="162111"/>
                  </a:lnTo>
                  <a:lnTo>
                    <a:pt x="100848" y="154389"/>
                  </a:lnTo>
                  <a:lnTo>
                    <a:pt x="105331" y="151145"/>
                  </a:lnTo>
                  <a:lnTo>
                    <a:pt x="112572" y="143024"/>
                  </a:lnTo>
                  <a:lnTo>
                    <a:pt x="119459" y="133771"/>
                  </a:lnTo>
                  <a:lnTo>
                    <a:pt x="123666" y="128933"/>
                  </a:lnTo>
                  <a:lnTo>
                    <a:pt x="132856" y="119888"/>
                  </a:lnTo>
                  <a:lnTo>
                    <a:pt x="142585" y="113046"/>
                  </a:lnTo>
                  <a:lnTo>
                    <a:pt x="152553" y="104925"/>
                  </a:lnTo>
                  <a:lnTo>
                    <a:pt x="162629" y="95671"/>
                  </a:lnTo>
                  <a:lnTo>
                    <a:pt x="172750" y="85914"/>
                  </a:lnTo>
                  <a:lnTo>
                    <a:pt x="182894" y="78191"/>
                  </a:lnTo>
                  <a:lnTo>
                    <a:pt x="198124" y="69083"/>
                  </a:lnTo>
                  <a:lnTo>
                    <a:pt x="209129" y="62808"/>
                  </a:lnTo>
                  <a:lnTo>
                    <a:pt x="222486" y="54375"/>
                  </a:lnTo>
                  <a:lnTo>
                    <a:pt x="234632" y="47240"/>
                  </a:lnTo>
                  <a:lnTo>
                    <a:pt x="253248" y="38463"/>
                  </a:lnTo>
                  <a:lnTo>
                    <a:pt x="267494" y="33112"/>
                  </a:lnTo>
                  <a:lnTo>
                    <a:pt x="297337" y="22779"/>
                  </a:lnTo>
                  <a:lnTo>
                    <a:pt x="311643" y="18522"/>
                  </a:lnTo>
                  <a:lnTo>
                    <a:pt x="330911" y="15279"/>
                  </a:lnTo>
                  <a:lnTo>
                    <a:pt x="348014" y="11519"/>
                  </a:lnTo>
                  <a:lnTo>
                    <a:pt x="362389" y="7026"/>
                  </a:lnTo>
                  <a:lnTo>
                    <a:pt x="368592" y="4643"/>
                  </a:lnTo>
                  <a:lnTo>
                    <a:pt x="384517" y="1995"/>
                  </a:lnTo>
                  <a:lnTo>
                    <a:pt x="401189" y="818"/>
                  </a:lnTo>
                  <a:lnTo>
                    <a:pt x="420943" y="155"/>
                  </a:lnTo>
                  <a:lnTo>
                    <a:pt x="435159" y="0"/>
                  </a:lnTo>
                  <a:lnTo>
                    <a:pt x="449944" y="2189"/>
                  </a:lnTo>
                  <a:lnTo>
                    <a:pt x="464136" y="5137"/>
                  </a:lnTo>
                  <a:lnTo>
                    <a:pt x="482491" y="7644"/>
                  </a:lnTo>
                  <a:lnTo>
                    <a:pt x="496381" y="11231"/>
                  </a:lnTo>
                  <a:lnTo>
                    <a:pt x="520757" y="15195"/>
                  </a:lnTo>
                  <a:lnTo>
                    <a:pt x="534554" y="18820"/>
                  </a:lnTo>
                  <a:lnTo>
                    <a:pt x="552557" y="25621"/>
                  </a:lnTo>
                  <a:lnTo>
                    <a:pt x="563363" y="32767"/>
                  </a:lnTo>
                  <a:lnTo>
                    <a:pt x="572964" y="40741"/>
                  </a:lnTo>
                  <a:lnTo>
                    <a:pt x="583975" y="49990"/>
                  </a:lnTo>
                  <a:lnTo>
                    <a:pt x="592849" y="55451"/>
                  </a:lnTo>
                  <a:lnTo>
                    <a:pt x="600180" y="62958"/>
                  </a:lnTo>
                  <a:lnTo>
                    <a:pt x="606260" y="71093"/>
                  </a:lnTo>
                  <a:lnTo>
                    <a:pt x="611785" y="77530"/>
                  </a:lnTo>
                  <a:lnTo>
                    <a:pt x="617062" y="85471"/>
                  </a:lnTo>
                  <a:lnTo>
                    <a:pt x="621383" y="93798"/>
                  </a:lnTo>
                  <a:lnTo>
                    <a:pt x="623303" y="100321"/>
                  </a:lnTo>
                  <a:lnTo>
                    <a:pt x="626415" y="108301"/>
                  </a:lnTo>
                  <a:lnTo>
                    <a:pt x="629773" y="116645"/>
                  </a:lnTo>
                  <a:lnTo>
                    <a:pt x="631266" y="123176"/>
                  </a:lnTo>
                  <a:lnTo>
                    <a:pt x="631929" y="131158"/>
                  </a:lnTo>
                  <a:lnTo>
                    <a:pt x="632224" y="140350"/>
                  </a:lnTo>
                  <a:lnTo>
                    <a:pt x="632440" y="164887"/>
                  </a:lnTo>
                  <a:lnTo>
                    <a:pt x="632460" y="2208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SMARTInkAnnotation184"/>
            <p:cNvSpPr/>
            <p:nvPr/>
          </p:nvSpPr>
          <p:spPr>
            <a:xfrm>
              <a:off x="4983480" y="1516680"/>
              <a:ext cx="647640" cy="2055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647701" h="205732">
                  <a:moveTo>
                    <a:pt x="0" y="198111"/>
                  </a:moveTo>
                  <a:lnTo>
                    <a:pt x="0" y="187505"/>
                  </a:lnTo>
                  <a:lnTo>
                    <a:pt x="846" y="185960"/>
                  </a:lnTo>
                  <a:lnTo>
                    <a:pt x="2258" y="184930"/>
                  </a:lnTo>
                  <a:lnTo>
                    <a:pt x="4045" y="184244"/>
                  </a:lnTo>
                  <a:lnTo>
                    <a:pt x="5237" y="182940"/>
                  </a:lnTo>
                  <a:lnTo>
                    <a:pt x="6032" y="181223"/>
                  </a:lnTo>
                  <a:lnTo>
                    <a:pt x="6561" y="179233"/>
                  </a:lnTo>
                  <a:lnTo>
                    <a:pt x="9407" y="174763"/>
                  </a:lnTo>
                  <a:lnTo>
                    <a:pt x="14341" y="169108"/>
                  </a:lnTo>
                  <a:lnTo>
                    <a:pt x="25792" y="157250"/>
                  </a:lnTo>
                  <a:lnTo>
                    <a:pt x="54737" y="128141"/>
                  </a:lnTo>
                  <a:lnTo>
                    <a:pt x="59351" y="124371"/>
                  </a:lnTo>
                  <a:lnTo>
                    <a:pt x="64968" y="120164"/>
                  </a:lnTo>
                  <a:lnTo>
                    <a:pt x="71252" y="115667"/>
                  </a:lnTo>
                  <a:lnTo>
                    <a:pt x="76288" y="111821"/>
                  </a:lnTo>
                  <a:lnTo>
                    <a:pt x="80492" y="108411"/>
                  </a:lnTo>
                  <a:lnTo>
                    <a:pt x="84142" y="105291"/>
                  </a:lnTo>
                  <a:lnTo>
                    <a:pt x="88268" y="101518"/>
                  </a:lnTo>
                  <a:lnTo>
                    <a:pt x="97368" y="92810"/>
                  </a:lnTo>
                  <a:lnTo>
                    <a:pt x="103012" y="88963"/>
                  </a:lnTo>
                  <a:lnTo>
                    <a:pt x="109315" y="85553"/>
                  </a:lnTo>
                  <a:lnTo>
                    <a:pt x="116057" y="82432"/>
                  </a:lnTo>
                  <a:lnTo>
                    <a:pt x="123091" y="78659"/>
                  </a:lnTo>
                  <a:lnTo>
                    <a:pt x="130320" y="74449"/>
                  </a:lnTo>
                  <a:lnTo>
                    <a:pt x="137681" y="69950"/>
                  </a:lnTo>
                  <a:lnTo>
                    <a:pt x="144280" y="66104"/>
                  </a:lnTo>
                  <a:lnTo>
                    <a:pt x="156130" y="59572"/>
                  </a:lnTo>
                  <a:lnTo>
                    <a:pt x="172320" y="51135"/>
                  </a:lnTo>
                  <a:lnTo>
                    <a:pt x="184960" y="45864"/>
                  </a:lnTo>
                  <a:lnTo>
                    <a:pt x="199044" y="40699"/>
                  </a:lnTo>
                  <a:lnTo>
                    <a:pt x="213771" y="35581"/>
                  </a:lnTo>
                  <a:lnTo>
                    <a:pt x="226525" y="30485"/>
                  </a:lnTo>
                  <a:lnTo>
                    <a:pt x="237837" y="25397"/>
                  </a:lnTo>
                  <a:lnTo>
                    <a:pt x="248510" y="20314"/>
                  </a:lnTo>
                  <a:lnTo>
                    <a:pt x="261156" y="17490"/>
                  </a:lnTo>
                  <a:lnTo>
                    <a:pt x="275243" y="15389"/>
                  </a:lnTo>
                  <a:lnTo>
                    <a:pt x="289970" y="11632"/>
                  </a:lnTo>
                  <a:lnTo>
                    <a:pt x="304982" y="9398"/>
                  </a:lnTo>
                  <a:lnTo>
                    <a:pt x="319274" y="7559"/>
                  </a:lnTo>
                  <a:lnTo>
                    <a:pt x="337687" y="2610"/>
                  </a:lnTo>
                  <a:lnTo>
                    <a:pt x="351590" y="1155"/>
                  </a:lnTo>
                  <a:lnTo>
                    <a:pt x="369652" y="336"/>
                  </a:lnTo>
                  <a:lnTo>
                    <a:pt x="397009" y="59"/>
                  </a:lnTo>
                  <a:lnTo>
                    <a:pt x="430397" y="0"/>
                  </a:lnTo>
                  <a:lnTo>
                    <a:pt x="441337" y="2253"/>
                  </a:lnTo>
                  <a:lnTo>
                    <a:pt x="466202" y="10598"/>
                  </a:lnTo>
                  <a:lnTo>
                    <a:pt x="489490" y="15163"/>
                  </a:lnTo>
                  <a:lnTo>
                    <a:pt x="505244" y="21043"/>
                  </a:lnTo>
                  <a:lnTo>
                    <a:pt x="515524" y="25717"/>
                  </a:lnTo>
                  <a:lnTo>
                    <a:pt x="530832" y="33108"/>
                  </a:lnTo>
                  <a:lnTo>
                    <a:pt x="538749" y="38134"/>
                  </a:lnTo>
                  <a:lnTo>
                    <a:pt x="545938" y="43190"/>
                  </a:lnTo>
                  <a:lnTo>
                    <a:pt x="554777" y="48260"/>
                  </a:lnTo>
                  <a:lnTo>
                    <a:pt x="558658" y="51643"/>
                  </a:lnTo>
                  <a:lnTo>
                    <a:pt x="562092" y="55593"/>
                  </a:lnTo>
                  <a:lnTo>
                    <a:pt x="565228" y="59919"/>
                  </a:lnTo>
                  <a:lnTo>
                    <a:pt x="568165" y="64496"/>
                  </a:lnTo>
                  <a:lnTo>
                    <a:pt x="570970" y="69241"/>
                  </a:lnTo>
                  <a:lnTo>
                    <a:pt x="573687" y="74098"/>
                  </a:lnTo>
                  <a:lnTo>
                    <a:pt x="576345" y="78182"/>
                  </a:lnTo>
                  <a:lnTo>
                    <a:pt x="578963" y="81752"/>
                  </a:lnTo>
                  <a:lnTo>
                    <a:pt x="584131" y="87976"/>
                  </a:lnTo>
                  <a:lnTo>
                    <a:pt x="589248" y="93564"/>
                  </a:lnTo>
                  <a:lnTo>
                    <a:pt x="591799" y="97086"/>
                  </a:lnTo>
                  <a:lnTo>
                    <a:pt x="594347" y="101128"/>
                  </a:lnTo>
                  <a:lnTo>
                    <a:pt x="596891" y="105516"/>
                  </a:lnTo>
                  <a:lnTo>
                    <a:pt x="599434" y="109288"/>
                  </a:lnTo>
                  <a:lnTo>
                    <a:pt x="601976" y="112649"/>
                  </a:lnTo>
                  <a:lnTo>
                    <a:pt x="604517" y="115736"/>
                  </a:lnTo>
                  <a:lnTo>
                    <a:pt x="607059" y="119488"/>
                  </a:lnTo>
                  <a:lnTo>
                    <a:pt x="609599" y="123682"/>
                  </a:lnTo>
                  <a:lnTo>
                    <a:pt x="612139" y="128172"/>
                  </a:lnTo>
                  <a:lnTo>
                    <a:pt x="614679" y="132012"/>
                  </a:lnTo>
                  <a:lnTo>
                    <a:pt x="617220" y="135418"/>
                  </a:lnTo>
                  <a:lnTo>
                    <a:pt x="619759" y="138536"/>
                  </a:lnTo>
                  <a:lnTo>
                    <a:pt x="622582" y="144258"/>
                  </a:lnTo>
                  <a:lnTo>
                    <a:pt x="623335" y="146969"/>
                  </a:lnTo>
                  <a:lnTo>
                    <a:pt x="626429" y="152239"/>
                  </a:lnTo>
                  <a:lnTo>
                    <a:pt x="628439" y="154830"/>
                  </a:lnTo>
                  <a:lnTo>
                    <a:pt x="629780" y="158250"/>
                  </a:lnTo>
                  <a:lnTo>
                    <a:pt x="630673" y="162224"/>
                  </a:lnTo>
                  <a:lnTo>
                    <a:pt x="631268" y="166566"/>
                  </a:lnTo>
                  <a:lnTo>
                    <a:pt x="632512" y="170308"/>
                  </a:lnTo>
                  <a:lnTo>
                    <a:pt x="636152" y="176723"/>
                  </a:lnTo>
                  <a:lnTo>
                    <a:pt x="638334" y="182396"/>
                  </a:lnTo>
                  <a:lnTo>
                    <a:pt x="639305" y="187740"/>
                  </a:lnTo>
                  <a:lnTo>
                    <a:pt x="639736" y="192937"/>
                  </a:lnTo>
                  <a:lnTo>
                    <a:pt x="640696" y="194662"/>
                  </a:lnTo>
                  <a:lnTo>
                    <a:pt x="642185" y="195812"/>
                  </a:lnTo>
                  <a:lnTo>
                    <a:pt x="644023" y="196578"/>
                  </a:lnTo>
                  <a:lnTo>
                    <a:pt x="645249" y="197936"/>
                  </a:lnTo>
                  <a:lnTo>
                    <a:pt x="646066" y="199687"/>
                  </a:lnTo>
                  <a:lnTo>
                    <a:pt x="647700" y="2057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MARTInkAnnotation185"/>
            <p:cNvSpPr/>
            <p:nvPr/>
          </p:nvSpPr>
          <p:spPr>
            <a:xfrm>
              <a:off x="4998600" y="2339640"/>
              <a:ext cx="571320" cy="15948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571501" h="159668">
                  <a:moveTo>
                    <a:pt x="0" y="159667"/>
                  </a:moveTo>
                  <a:lnTo>
                    <a:pt x="4045" y="159667"/>
                  </a:lnTo>
                  <a:lnTo>
                    <a:pt x="6084" y="158820"/>
                  </a:lnTo>
                  <a:lnTo>
                    <a:pt x="12150" y="154430"/>
                  </a:lnTo>
                  <a:lnTo>
                    <a:pt x="16888" y="150260"/>
                  </a:lnTo>
                  <a:lnTo>
                    <a:pt x="18879" y="148316"/>
                  </a:lnTo>
                  <a:lnTo>
                    <a:pt x="20206" y="146173"/>
                  </a:lnTo>
                  <a:lnTo>
                    <a:pt x="21681" y="141534"/>
                  </a:lnTo>
                  <a:lnTo>
                    <a:pt x="24594" y="136650"/>
                  </a:lnTo>
                  <a:lnTo>
                    <a:pt x="26556" y="134163"/>
                  </a:lnTo>
                  <a:lnTo>
                    <a:pt x="28711" y="130811"/>
                  </a:lnTo>
                  <a:lnTo>
                    <a:pt x="30994" y="126883"/>
                  </a:lnTo>
                  <a:lnTo>
                    <a:pt x="33362" y="122571"/>
                  </a:lnTo>
                  <a:lnTo>
                    <a:pt x="35788" y="118850"/>
                  </a:lnTo>
                  <a:lnTo>
                    <a:pt x="38252" y="115522"/>
                  </a:lnTo>
                  <a:lnTo>
                    <a:pt x="40741" y="112457"/>
                  </a:lnTo>
                  <a:lnTo>
                    <a:pt x="43248" y="109567"/>
                  </a:lnTo>
                  <a:lnTo>
                    <a:pt x="45766" y="106794"/>
                  </a:lnTo>
                  <a:lnTo>
                    <a:pt x="48291" y="104098"/>
                  </a:lnTo>
                  <a:lnTo>
                    <a:pt x="51667" y="101455"/>
                  </a:lnTo>
                  <a:lnTo>
                    <a:pt x="55611" y="98845"/>
                  </a:lnTo>
                  <a:lnTo>
                    <a:pt x="59934" y="96259"/>
                  </a:lnTo>
                  <a:lnTo>
                    <a:pt x="63663" y="92842"/>
                  </a:lnTo>
                  <a:lnTo>
                    <a:pt x="66996" y="88870"/>
                  </a:lnTo>
                  <a:lnTo>
                    <a:pt x="70064" y="84529"/>
                  </a:lnTo>
                  <a:lnTo>
                    <a:pt x="73803" y="80789"/>
                  </a:lnTo>
                  <a:lnTo>
                    <a:pt x="77988" y="77448"/>
                  </a:lnTo>
                  <a:lnTo>
                    <a:pt x="82472" y="74374"/>
                  </a:lnTo>
                  <a:lnTo>
                    <a:pt x="86309" y="71478"/>
                  </a:lnTo>
                  <a:lnTo>
                    <a:pt x="89712" y="68702"/>
                  </a:lnTo>
                  <a:lnTo>
                    <a:pt x="92828" y="66003"/>
                  </a:lnTo>
                  <a:lnTo>
                    <a:pt x="97446" y="62511"/>
                  </a:lnTo>
                  <a:lnTo>
                    <a:pt x="109350" y="54116"/>
                  </a:lnTo>
                  <a:lnTo>
                    <a:pt x="114386" y="50353"/>
                  </a:lnTo>
                  <a:lnTo>
                    <a:pt x="118591" y="46998"/>
                  </a:lnTo>
                  <a:lnTo>
                    <a:pt x="122241" y="43914"/>
                  </a:lnTo>
                  <a:lnTo>
                    <a:pt x="127214" y="41012"/>
                  </a:lnTo>
                  <a:lnTo>
                    <a:pt x="133069" y="38230"/>
                  </a:lnTo>
                  <a:lnTo>
                    <a:pt x="139513" y="35529"/>
                  </a:lnTo>
                  <a:lnTo>
                    <a:pt x="146349" y="32882"/>
                  </a:lnTo>
                  <a:lnTo>
                    <a:pt x="160717" y="27682"/>
                  </a:lnTo>
                  <a:lnTo>
                    <a:pt x="167258" y="25111"/>
                  </a:lnTo>
                  <a:lnTo>
                    <a:pt x="173313" y="22549"/>
                  </a:lnTo>
                  <a:lnTo>
                    <a:pt x="179041" y="19996"/>
                  </a:lnTo>
                  <a:lnTo>
                    <a:pt x="185401" y="17446"/>
                  </a:lnTo>
                  <a:lnTo>
                    <a:pt x="199241" y="12355"/>
                  </a:lnTo>
                  <a:lnTo>
                    <a:pt x="213858" y="9529"/>
                  </a:lnTo>
                  <a:lnTo>
                    <a:pt x="228821" y="7425"/>
                  </a:lnTo>
                  <a:lnTo>
                    <a:pt x="243939" y="3669"/>
                  </a:lnTo>
                  <a:lnTo>
                    <a:pt x="259124" y="1434"/>
                  </a:lnTo>
                  <a:lnTo>
                    <a:pt x="275186" y="441"/>
                  </a:lnTo>
                  <a:lnTo>
                    <a:pt x="293614" y="0"/>
                  </a:lnTo>
                  <a:lnTo>
                    <a:pt x="308577" y="2062"/>
                  </a:lnTo>
                  <a:lnTo>
                    <a:pt x="322566" y="4954"/>
                  </a:lnTo>
                  <a:lnTo>
                    <a:pt x="340072" y="6239"/>
                  </a:lnTo>
                  <a:lnTo>
                    <a:pt x="356883" y="9068"/>
                  </a:lnTo>
                  <a:lnTo>
                    <a:pt x="372822" y="13147"/>
                  </a:lnTo>
                  <a:lnTo>
                    <a:pt x="396921" y="20204"/>
                  </a:lnTo>
                  <a:lnTo>
                    <a:pt x="415452" y="25153"/>
                  </a:lnTo>
                  <a:lnTo>
                    <a:pt x="423442" y="27658"/>
                  </a:lnTo>
                  <a:lnTo>
                    <a:pt x="430461" y="30174"/>
                  </a:lnTo>
                  <a:lnTo>
                    <a:pt x="436834" y="32698"/>
                  </a:lnTo>
                  <a:lnTo>
                    <a:pt x="443623" y="36075"/>
                  </a:lnTo>
                  <a:lnTo>
                    <a:pt x="450688" y="40019"/>
                  </a:lnTo>
                  <a:lnTo>
                    <a:pt x="457939" y="44342"/>
                  </a:lnTo>
                  <a:lnTo>
                    <a:pt x="464466" y="48070"/>
                  </a:lnTo>
                  <a:lnTo>
                    <a:pt x="476234" y="54471"/>
                  </a:lnTo>
                  <a:lnTo>
                    <a:pt x="481743" y="58209"/>
                  </a:lnTo>
                  <a:lnTo>
                    <a:pt x="487109" y="62395"/>
                  </a:lnTo>
                  <a:lnTo>
                    <a:pt x="492379" y="66879"/>
                  </a:lnTo>
                  <a:lnTo>
                    <a:pt x="497586" y="71562"/>
                  </a:lnTo>
                  <a:lnTo>
                    <a:pt x="507888" y="81280"/>
                  </a:lnTo>
                  <a:lnTo>
                    <a:pt x="513005" y="85396"/>
                  </a:lnTo>
                  <a:lnTo>
                    <a:pt x="518110" y="88986"/>
                  </a:lnTo>
                  <a:lnTo>
                    <a:pt x="523207" y="92227"/>
                  </a:lnTo>
                  <a:lnTo>
                    <a:pt x="527451" y="96080"/>
                  </a:lnTo>
                  <a:lnTo>
                    <a:pt x="531128" y="100342"/>
                  </a:lnTo>
                  <a:lnTo>
                    <a:pt x="534426" y="104877"/>
                  </a:lnTo>
                  <a:lnTo>
                    <a:pt x="538317" y="108747"/>
                  </a:lnTo>
                  <a:lnTo>
                    <a:pt x="542605" y="112174"/>
                  </a:lnTo>
                  <a:lnTo>
                    <a:pt x="547157" y="115305"/>
                  </a:lnTo>
                  <a:lnTo>
                    <a:pt x="551038" y="118239"/>
                  </a:lnTo>
                  <a:lnTo>
                    <a:pt x="554472" y="121042"/>
                  </a:lnTo>
                  <a:lnTo>
                    <a:pt x="557608" y="123757"/>
                  </a:lnTo>
                  <a:lnTo>
                    <a:pt x="560545" y="127260"/>
                  </a:lnTo>
                  <a:lnTo>
                    <a:pt x="563350" y="131289"/>
                  </a:lnTo>
                  <a:lnTo>
                    <a:pt x="571500" y="14442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SMARTInkAnnotation186"/>
            <p:cNvSpPr/>
            <p:nvPr/>
          </p:nvSpPr>
          <p:spPr>
            <a:xfrm>
              <a:off x="4983480" y="3033000"/>
              <a:ext cx="510480" cy="20520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510541" h="205368">
                  <a:moveTo>
                    <a:pt x="0" y="152027"/>
                  </a:moveTo>
                  <a:lnTo>
                    <a:pt x="0" y="122477"/>
                  </a:lnTo>
                  <a:lnTo>
                    <a:pt x="846" y="118781"/>
                  </a:lnTo>
                  <a:lnTo>
                    <a:pt x="4045" y="112415"/>
                  </a:lnTo>
                  <a:lnTo>
                    <a:pt x="6083" y="108686"/>
                  </a:lnTo>
                  <a:lnTo>
                    <a:pt x="10606" y="100026"/>
                  </a:lnTo>
                  <a:lnTo>
                    <a:pt x="14691" y="96193"/>
                  </a:lnTo>
                  <a:lnTo>
                    <a:pt x="19954" y="92791"/>
                  </a:lnTo>
                  <a:lnTo>
                    <a:pt x="26003" y="89677"/>
                  </a:lnTo>
                  <a:lnTo>
                    <a:pt x="30882" y="85907"/>
                  </a:lnTo>
                  <a:lnTo>
                    <a:pt x="34981" y="81700"/>
                  </a:lnTo>
                  <a:lnTo>
                    <a:pt x="38561" y="77203"/>
                  </a:lnTo>
                  <a:lnTo>
                    <a:pt x="42641" y="72511"/>
                  </a:lnTo>
                  <a:lnTo>
                    <a:pt x="47054" y="67690"/>
                  </a:lnTo>
                  <a:lnTo>
                    <a:pt x="51689" y="62782"/>
                  </a:lnTo>
                  <a:lnTo>
                    <a:pt x="57319" y="58664"/>
                  </a:lnTo>
                  <a:lnTo>
                    <a:pt x="63613" y="55072"/>
                  </a:lnTo>
                  <a:lnTo>
                    <a:pt x="70349" y="51830"/>
                  </a:lnTo>
                  <a:lnTo>
                    <a:pt x="77379" y="47976"/>
                  </a:lnTo>
                  <a:lnTo>
                    <a:pt x="84606" y="43713"/>
                  </a:lnTo>
                  <a:lnTo>
                    <a:pt x="91964" y="39178"/>
                  </a:lnTo>
                  <a:lnTo>
                    <a:pt x="99409" y="35307"/>
                  </a:lnTo>
                  <a:lnTo>
                    <a:pt x="106912" y="31881"/>
                  </a:lnTo>
                  <a:lnTo>
                    <a:pt x="122023" y="26662"/>
                  </a:lnTo>
                  <a:lnTo>
                    <a:pt x="137206" y="24343"/>
                  </a:lnTo>
                  <a:lnTo>
                    <a:pt x="152420" y="18796"/>
                  </a:lnTo>
                  <a:lnTo>
                    <a:pt x="167649" y="12380"/>
                  </a:lnTo>
                  <a:lnTo>
                    <a:pt x="190503" y="7921"/>
                  </a:lnTo>
                  <a:lnTo>
                    <a:pt x="205741" y="3878"/>
                  </a:lnTo>
                  <a:lnTo>
                    <a:pt x="220981" y="1516"/>
                  </a:lnTo>
                  <a:lnTo>
                    <a:pt x="236220" y="467"/>
                  </a:lnTo>
                  <a:lnTo>
                    <a:pt x="251461" y="0"/>
                  </a:lnTo>
                  <a:lnTo>
                    <a:pt x="266700" y="2051"/>
                  </a:lnTo>
                  <a:lnTo>
                    <a:pt x="281094" y="4938"/>
                  </a:lnTo>
                  <a:lnTo>
                    <a:pt x="293136" y="6220"/>
                  </a:lnTo>
                  <a:lnTo>
                    <a:pt x="306389" y="9049"/>
                  </a:lnTo>
                  <a:lnTo>
                    <a:pt x="320746" y="13128"/>
                  </a:lnTo>
                  <a:lnTo>
                    <a:pt x="343109" y="20184"/>
                  </a:lnTo>
                  <a:lnTo>
                    <a:pt x="358233" y="25133"/>
                  </a:lnTo>
                  <a:lnTo>
                    <a:pt x="371164" y="30154"/>
                  </a:lnTo>
                  <a:lnTo>
                    <a:pt x="382555" y="36054"/>
                  </a:lnTo>
                  <a:lnTo>
                    <a:pt x="387964" y="39999"/>
                  </a:lnTo>
                  <a:lnTo>
                    <a:pt x="393263" y="44321"/>
                  </a:lnTo>
                  <a:lnTo>
                    <a:pt x="399335" y="48050"/>
                  </a:lnTo>
                  <a:lnTo>
                    <a:pt x="412856" y="54451"/>
                  </a:lnTo>
                  <a:lnTo>
                    <a:pt x="418324" y="58189"/>
                  </a:lnTo>
                  <a:lnTo>
                    <a:pt x="422816" y="62375"/>
                  </a:lnTo>
                  <a:lnTo>
                    <a:pt x="426658" y="66859"/>
                  </a:lnTo>
                  <a:lnTo>
                    <a:pt x="430912" y="71542"/>
                  </a:lnTo>
                  <a:lnTo>
                    <a:pt x="440154" y="81260"/>
                  </a:lnTo>
                  <a:lnTo>
                    <a:pt x="444143" y="86223"/>
                  </a:lnTo>
                  <a:lnTo>
                    <a:pt x="447649" y="91224"/>
                  </a:lnTo>
                  <a:lnTo>
                    <a:pt x="450833" y="96252"/>
                  </a:lnTo>
                  <a:lnTo>
                    <a:pt x="454648" y="101297"/>
                  </a:lnTo>
                  <a:lnTo>
                    <a:pt x="458885" y="106353"/>
                  </a:lnTo>
                  <a:lnTo>
                    <a:pt x="463404" y="111418"/>
                  </a:lnTo>
                  <a:lnTo>
                    <a:pt x="467263" y="116488"/>
                  </a:lnTo>
                  <a:lnTo>
                    <a:pt x="470682" y="121561"/>
                  </a:lnTo>
                  <a:lnTo>
                    <a:pt x="473808" y="126636"/>
                  </a:lnTo>
                  <a:lnTo>
                    <a:pt x="476738" y="130867"/>
                  </a:lnTo>
                  <a:lnTo>
                    <a:pt x="479540" y="134533"/>
                  </a:lnTo>
                  <a:lnTo>
                    <a:pt x="482253" y="137825"/>
                  </a:lnTo>
                  <a:lnTo>
                    <a:pt x="484909" y="141712"/>
                  </a:lnTo>
                  <a:lnTo>
                    <a:pt x="487526" y="145997"/>
                  </a:lnTo>
                  <a:lnTo>
                    <a:pt x="490118" y="150547"/>
                  </a:lnTo>
                  <a:lnTo>
                    <a:pt x="495254" y="160118"/>
                  </a:lnTo>
                  <a:lnTo>
                    <a:pt x="497810" y="165041"/>
                  </a:lnTo>
                  <a:lnTo>
                    <a:pt x="499513" y="169170"/>
                  </a:lnTo>
                  <a:lnTo>
                    <a:pt x="500648" y="172769"/>
                  </a:lnTo>
                  <a:lnTo>
                    <a:pt x="501406" y="176015"/>
                  </a:lnTo>
                  <a:lnTo>
                    <a:pt x="504505" y="181879"/>
                  </a:lnTo>
                  <a:lnTo>
                    <a:pt x="506517" y="184629"/>
                  </a:lnTo>
                  <a:lnTo>
                    <a:pt x="508752" y="189941"/>
                  </a:lnTo>
                  <a:lnTo>
                    <a:pt x="509746" y="195125"/>
                  </a:lnTo>
                  <a:lnTo>
                    <a:pt x="510010" y="197692"/>
                  </a:lnTo>
                  <a:lnTo>
                    <a:pt x="510540" y="20536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160200" y="4648320"/>
            <a:ext cx="8839440" cy="1557000"/>
          </a:xfrm>
          <a:prstGeom prst="rect">
            <a:avLst/>
          </a:prstGeom>
          <a:noFill/>
          <a:ln w="381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ssociatati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perty of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+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a +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x 3) (6 +4) +5 = 6 + (4 +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ssociatativ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Property of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=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x 4) (6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= 6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4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685800" y="914400"/>
            <a:ext cx="236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8 + 7) + 5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+ (7 + 5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+ (60 + 20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 + 60) + 2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5486400" y="990720"/>
            <a:ext cx="2438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8 X 7) X 2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x (7 x 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x (12 x 1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2 x 12) x 1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d9d9d9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Properties Summary: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 are number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InkAnnotation69"/>
          <p:cNvSpPr/>
          <p:nvPr/>
        </p:nvSpPr>
        <p:spPr>
          <a:xfrm>
            <a:off x="1120680" y="808200"/>
            <a:ext cx="30240" cy="198360"/>
          </a:xfrm>
          <a:custGeom>
            <a:avLst/>
            <a:gdLst>
              <a:gd name="textAreaLeft" fmla="*/ 0 w 30240"/>
              <a:gd name="textAreaRight" fmla="*/ 30600 w 302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30481" h="198121">
                <a:moveTo>
                  <a:pt x="30480" y="0"/>
                </a:moveTo>
                <a:lnTo>
                  <a:pt x="30480" y="28518"/>
                </a:lnTo>
                <a:lnTo>
                  <a:pt x="29633" y="33405"/>
                </a:lnTo>
                <a:lnTo>
                  <a:pt x="28222" y="38357"/>
                </a:lnTo>
                <a:lnTo>
                  <a:pt x="26435" y="43351"/>
                </a:lnTo>
                <a:lnTo>
                  <a:pt x="25243" y="49221"/>
                </a:lnTo>
                <a:lnTo>
                  <a:pt x="24449" y="55674"/>
                </a:lnTo>
                <a:lnTo>
                  <a:pt x="23919" y="62516"/>
                </a:lnTo>
                <a:lnTo>
                  <a:pt x="23566" y="69617"/>
                </a:lnTo>
                <a:lnTo>
                  <a:pt x="23174" y="84281"/>
                </a:lnTo>
                <a:lnTo>
                  <a:pt x="22223" y="92594"/>
                </a:lnTo>
                <a:lnTo>
                  <a:pt x="20742" y="101523"/>
                </a:lnTo>
                <a:lnTo>
                  <a:pt x="18908" y="110862"/>
                </a:lnTo>
                <a:lnTo>
                  <a:pt x="16838" y="119628"/>
                </a:lnTo>
                <a:lnTo>
                  <a:pt x="14612" y="128012"/>
                </a:lnTo>
                <a:lnTo>
                  <a:pt x="12282" y="136141"/>
                </a:lnTo>
                <a:lnTo>
                  <a:pt x="10728" y="143254"/>
                </a:lnTo>
                <a:lnTo>
                  <a:pt x="9692" y="149689"/>
                </a:lnTo>
                <a:lnTo>
                  <a:pt x="9001" y="155673"/>
                </a:lnTo>
                <a:lnTo>
                  <a:pt x="7694" y="161355"/>
                </a:lnTo>
                <a:lnTo>
                  <a:pt x="5976" y="166837"/>
                </a:lnTo>
                <a:lnTo>
                  <a:pt x="3984" y="172185"/>
                </a:lnTo>
                <a:lnTo>
                  <a:pt x="2656" y="177443"/>
                </a:lnTo>
                <a:lnTo>
                  <a:pt x="1771" y="182642"/>
                </a:lnTo>
                <a:lnTo>
                  <a:pt x="0" y="1981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InkAnnotation70"/>
          <p:cNvSpPr/>
          <p:nvPr/>
        </p:nvSpPr>
        <p:spPr>
          <a:xfrm>
            <a:off x="1251000" y="822240"/>
            <a:ext cx="196920" cy="214560"/>
          </a:xfrm>
          <a:custGeom>
            <a:avLst/>
            <a:gdLst>
              <a:gd name="textAreaLeft" fmla="*/ 0 w 196920"/>
              <a:gd name="textAreaRight" fmla="*/ 197280 w 19692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195988" h="213361">
                <a:moveTo>
                  <a:pt x="74659" y="0"/>
                </a:moveTo>
                <a:lnTo>
                  <a:pt x="81965" y="0"/>
                </a:lnTo>
                <a:lnTo>
                  <a:pt x="78141" y="4045"/>
                </a:lnTo>
                <a:lnTo>
                  <a:pt x="76980" y="6083"/>
                </a:lnTo>
                <a:lnTo>
                  <a:pt x="75691" y="10606"/>
                </a:lnTo>
                <a:lnTo>
                  <a:pt x="73654" y="12997"/>
                </a:lnTo>
                <a:lnTo>
                  <a:pt x="70602" y="15438"/>
                </a:lnTo>
                <a:lnTo>
                  <a:pt x="66874" y="17912"/>
                </a:lnTo>
                <a:lnTo>
                  <a:pt x="63543" y="20408"/>
                </a:lnTo>
                <a:lnTo>
                  <a:pt x="57583" y="25439"/>
                </a:lnTo>
                <a:lnTo>
                  <a:pt x="53962" y="28813"/>
                </a:lnTo>
                <a:lnTo>
                  <a:pt x="40775" y="41651"/>
                </a:lnTo>
                <a:lnTo>
                  <a:pt x="3661" y="78620"/>
                </a:lnTo>
                <a:lnTo>
                  <a:pt x="1927" y="81200"/>
                </a:lnTo>
                <a:lnTo>
                  <a:pt x="0" y="86324"/>
                </a:lnTo>
                <a:lnTo>
                  <a:pt x="333" y="88030"/>
                </a:lnTo>
                <a:lnTo>
                  <a:pt x="1402" y="89166"/>
                </a:lnTo>
                <a:lnTo>
                  <a:pt x="5155" y="90991"/>
                </a:lnTo>
                <a:lnTo>
                  <a:pt x="10184" y="91240"/>
                </a:lnTo>
                <a:lnTo>
                  <a:pt x="27210" y="91401"/>
                </a:lnTo>
                <a:lnTo>
                  <a:pt x="116850" y="91440"/>
                </a:lnTo>
                <a:lnTo>
                  <a:pt x="125646" y="92286"/>
                </a:lnTo>
                <a:lnTo>
                  <a:pt x="134050" y="93698"/>
                </a:lnTo>
                <a:lnTo>
                  <a:pt x="142193" y="95485"/>
                </a:lnTo>
                <a:lnTo>
                  <a:pt x="149315" y="97523"/>
                </a:lnTo>
                <a:lnTo>
                  <a:pt x="155757" y="99729"/>
                </a:lnTo>
                <a:lnTo>
                  <a:pt x="161744" y="102046"/>
                </a:lnTo>
                <a:lnTo>
                  <a:pt x="167429" y="104437"/>
                </a:lnTo>
                <a:lnTo>
                  <a:pt x="172912" y="106878"/>
                </a:lnTo>
                <a:lnTo>
                  <a:pt x="178261" y="109352"/>
                </a:lnTo>
                <a:lnTo>
                  <a:pt x="182674" y="112695"/>
                </a:lnTo>
                <a:lnTo>
                  <a:pt x="186462" y="116617"/>
                </a:lnTo>
                <a:lnTo>
                  <a:pt x="189835" y="120924"/>
                </a:lnTo>
                <a:lnTo>
                  <a:pt x="192083" y="125490"/>
                </a:lnTo>
                <a:lnTo>
                  <a:pt x="193581" y="130226"/>
                </a:lnTo>
                <a:lnTo>
                  <a:pt x="194580" y="135078"/>
                </a:lnTo>
                <a:lnTo>
                  <a:pt x="195247" y="140005"/>
                </a:lnTo>
                <a:lnTo>
                  <a:pt x="195691" y="144983"/>
                </a:lnTo>
                <a:lnTo>
                  <a:pt x="195987" y="149996"/>
                </a:lnTo>
                <a:lnTo>
                  <a:pt x="195338" y="155030"/>
                </a:lnTo>
                <a:lnTo>
                  <a:pt x="194058" y="160080"/>
                </a:lnTo>
                <a:lnTo>
                  <a:pt x="192358" y="165140"/>
                </a:lnTo>
                <a:lnTo>
                  <a:pt x="189532" y="170207"/>
                </a:lnTo>
                <a:lnTo>
                  <a:pt x="185954" y="175278"/>
                </a:lnTo>
                <a:lnTo>
                  <a:pt x="181876" y="180352"/>
                </a:lnTo>
                <a:lnTo>
                  <a:pt x="177464" y="184581"/>
                </a:lnTo>
                <a:lnTo>
                  <a:pt x="172829" y="188248"/>
                </a:lnTo>
                <a:lnTo>
                  <a:pt x="168046" y="191538"/>
                </a:lnTo>
                <a:lnTo>
                  <a:pt x="163164" y="194579"/>
                </a:lnTo>
                <a:lnTo>
                  <a:pt x="158215" y="197453"/>
                </a:lnTo>
                <a:lnTo>
                  <a:pt x="153223" y="200215"/>
                </a:lnTo>
                <a:lnTo>
                  <a:pt x="146508" y="202903"/>
                </a:lnTo>
                <a:lnTo>
                  <a:pt x="138645" y="205542"/>
                </a:lnTo>
                <a:lnTo>
                  <a:pt x="130017" y="208148"/>
                </a:lnTo>
                <a:lnTo>
                  <a:pt x="123417" y="209885"/>
                </a:lnTo>
                <a:lnTo>
                  <a:pt x="118171" y="211044"/>
                </a:lnTo>
                <a:lnTo>
                  <a:pt x="105139" y="2133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InkAnnotation71"/>
          <p:cNvSpPr/>
          <p:nvPr/>
        </p:nvSpPr>
        <p:spPr>
          <a:xfrm>
            <a:off x="1317600" y="808200"/>
            <a:ext cx="146160" cy="7920"/>
          </a:xfrm>
          <a:custGeom>
            <a:avLst/>
            <a:gdLst>
              <a:gd name="textAreaLeft" fmla="*/ 0 w 146160"/>
              <a:gd name="textAreaRight" fmla="*/ 146520 w 1461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44781" h="7621">
                <a:moveTo>
                  <a:pt x="0" y="7620"/>
                </a:moveTo>
                <a:lnTo>
                  <a:pt x="4045" y="3575"/>
                </a:lnTo>
                <a:lnTo>
                  <a:pt x="7777" y="2383"/>
                </a:lnTo>
                <a:lnTo>
                  <a:pt x="12805" y="1589"/>
                </a:lnTo>
                <a:lnTo>
                  <a:pt x="18696" y="1059"/>
                </a:lnTo>
                <a:lnTo>
                  <a:pt x="23471" y="706"/>
                </a:lnTo>
                <a:lnTo>
                  <a:pt x="31034" y="314"/>
                </a:lnTo>
                <a:lnTo>
                  <a:pt x="52187" y="93"/>
                </a:lnTo>
                <a:lnTo>
                  <a:pt x="14478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InkAnnotation72"/>
          <p:cNvSpPr/>
          <p:nvPr/>
        </p:nvSpPr>
        <p:spPr>
          <a:xfrm>
            <a:off x="2841480" y="984240"/>
            <a:ext cx="303480" cy="326880"/>
          </a:xfrm>
          <a:custGeom>
            <a:avLst/>
            <a:gdLst>
              <a:gd name="textAreaLeft" fmla="*/ 0 w 303480"/>
              <a:gd name="textAreaRight" fmla="*/ 303840 w 303480"/>
              <a:gd name="textAreaTop" fmla="*/ 0 h 326880"/>
              <a:gd name="textAreaBottom" fmla="*/ 327240 h 326880"/>
            </a:gdLst>
            <a:ahLst/>
            <a:rect l="textAreaLeft" t="textAreaTop" r="textAreaRight" b="textAreaBottom"/>
            <a:pathLst>
              <a:path w="302353" h="326565">
                <a:moveTo>
                  <a:pt x="0" y="29384"/>
                </a:moveTo>
                <a:lnTo>
                  <a:pt x="10606" y="29384"/>
                </a:lnTo>
                <a:lnTo>
                  <a:pt x="12997" y="28537"/>
                </a:lnTo>
                <a:lnTo>
                  <a:pt x="20408" y="24147"/>
                </a:lnTo>
                <a:lnTo>
                  <a:pt x="28813" y="21624"/>
                </a:lnTo>
                <a:lnTo>
                  <a:pt x="37077" y="18033"/>
                </a:lnTo>
                <a:lnTo>
                  <a:pt x="43344" y="15890"/>
                </a:lnTo>
                <a:lnTo>
                  <a:pt x="50910" y="13615"/>
                </a:lnTo>
                <a:lnTo>
                  <a:pt x="59340" y="11251"/>
                </a:lnTo>
                <a:lnTo>
                  <a:pt x="68346" y="9675"/>
                </a:lnTo>
                <a:lnTo>
                  <a:pt x="77738" y="8625"/>
                </a:lnTo>
                <a:lnTo>
                  <a:pt x="87385" y="7925"/>
                </a:lnTo>
                <a:lnTo>
                  <a:pt x="98050" y="7458"/>
                </a:lnTo>
                <a:lnTo>
                  <a:pt x="121189" y="6939"/>
                </a:lnTo>
                <a:lnTo>
                  <a:pt x="133286" y="5954"/>
                </a:lnTo>
                <a:lnTo>
                  <a:pt x="145584" y="4451"/>
                </a:lnTo>
                <a:lnTo>
                  <a:pt x="158016" y="2602"/>
                </a:lnTo>
                <a:lnTo>
                  <a:pt x="170537" y="1369"/>
                </a:lnTo>
                <a:lnTo>
                  <a:pt x="183118" y="548"/>
                </a:lnTo>
                <a:lnTo>
                  <a:pt x="195738" y="0"/>
                </a:lnTo>
                <a:lnTo>
                  <a:pt x="207539" y="481"/>
                </a:lnTo>
                <a:lnTo>
                  <a:pt x="218792" y="1649"/>
                </a:lnTo>
                <a:lnTo>
                  <a:pt x="229682" y="3274"/>
                </a:lnTo>
                <a:lnTo>
                  <a:pt x="239481" y="4357"/>
                </a:lnTo>
                <a:lnTo>
                  <a:pt x="248554" y="5080"/>
                </a:lnTo>
                <a:lnTo>
                  <a:pt x="257143" y="5561"/>
                </a:lnTo>
                <a:lnTo>
                  <a:pt x="265408" y="6729"/>
                </a:lnTo>
                <a:lnTo>
                  <a:pt x="273458" y="8354"/>
                </a:lnTo>
                <a:lnTo>
                  <a:pt x="281366" y="10284"/>
                </a:lnTo>
                <a:lnTo>
                  <a:pt x="287483" y="12417"/>
                </a:lnTo>
                <a:lnTo>
                  <a:pt x="296539" y="17046"/>
                </a:lnTo>
                <a:lnTo>
                  <a:pt x="299293" y="20312"/>
                </a:lnTo>
                <a:lnTo>
                  <a:pt x="301128" y="24183"/>
                </a:lnTo>
                <a:lnTo>
                  <a:pt x="302352" y="28456"/>
                </a:lnTo>
                <a:lnTo>
                  <a:pt x="302321" y="32999"/>
                </a:lnTo>
                <a:lnTo>
                  <a:pt x="300029" y="42562"/>
                </a:lnTo>
                <a:lnTo>
                  <a:pt x="297386" y="48329"/>
                </a:lnTo>
                <a:lnTo>
                  <a:pt x="293930" y="54714"/>
                </a:lnTo>
                <a:lnTo>
                  <a:pt x="289934" y="61511"/>
                </a:lnTo>
                <a:lnTo>
                  <a:pt x="283882" y="68582"/>
                </a:lnTo>
                <a:lnTo>
                  <a:pt x="276461" y="75836"/>
                </a:lnTo>
                <a:lnTo>
                  <a:pt x="268127" y="83212"/>
                </a:lnTo>
                <a:lnTo>
                  <a:pt x="260032" y="91516"/>
                </a:lnTo>
                <a:lnTo>
                  <a:pt x="252094" y="100439"/>
                </a:lnTo>
                <a:lnTo>
                  <a:pt x="244263" y="109774"/>
                </a:lnTo>
                <a:lnTo>
                  <a:pt x="235655" y="119384"/>
                </a:lnTo>
                <a:lnTo>
                  <a:pt x="217060" y="139093"/>
                </a:lnTo>
                <a:lnTo>
                  <a:pt x="208207" y="149090"/>
                </a:lnTo>
                <a:lnTo>
                  <a:pt x="199764" y="159141"/>
                </a:lnTo>
                <a:lnTo>
                  <a:pt x="191596" y="169229"/>
                </a:lnTo>
                <a:lnTo>
                  <a:pt x="182764" y="179341"/>
                </a:lnTo>
                <a:lnTo>
                  <a:pt x="173489" y="189469"/>
                </a:lnTo>
                <a:lnTo>
                  <a:pt x="163920" y="199607"/>
                </a:lnTo>
                <a:lnTo>
                  <a:pt x="155846" y="209753"/>
                </a:lnTo>
                <a:lnTo>
                  <a:pt x="148771" y="219903"/>
                </a:lnTo>
                <a:lnTo>
                  <a:pt x="130722" y="248112"/>
                </a:lnTo>
                <a:lnTo>
                  <a:pt x="109454" y="280399"/>
                </a:lnTo>
                <a:lnTo>
                  <a:pt x="105989" y="287321"/>
                </a:lnTo>
                <a:lnTo>
                  <a:pt x="103680" y="293629"/>
                </a:lnTo>
                <a:lnTo>
                  <a:pt x="102140" y="299527"/>
                </a:lnTo>
                <a:lnTo>
                  <a:pt x="101113" y="305153"/>
                </a:lnTo>
                <a:lnTo>
                  <a:pt x="100429" y="310597"/>
                </a:lnTo>
                <a:lnTo>
                  <a:pt x="99060" y="32656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InkAnnotation73"/>
          <p:cNvSpPr/>
          <p:nvPr/>
        </p:nvSpPr>
        <p:spPr>
          <a:xfrm>
            <a:off x="2873520" y="1227240"/>
            <a:ext cx="220680" cy="14040"/>
          </a:xfrm>
          <a:custGeom>
            <a:avLst/>
            <a:gdLst>
              <a:gd name="textAreaLeft" fmla="*/ 0 w 220680"/>
              <a:gd name="textAreaRight" fmla="*/ 221040 w 22068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220981" h="15241">
                <a:moveTo>
                  <a:pt x="0" y="0"/>
                </a:moveTo>
                <a:lnTo>
                  <a:pt x="4045" y="0"/>
                </a:lnTo>
                <a:lnTo>
                  <a:pt x="6084" y="847"/>
                </a:lnTo>
                <a:lnTo>
                  <a:pt x="8289" y="2258"/>
                </a:lnTo>
                <a:lnTo>
                  <a:pt x="10606" y="4045"/>
                </a:lnTo>
                <a:lnTo>
                  <a:pt x="12998" y="5237"/>
                </a:lnTo>
                <a:lnTo>
                  <a:pt x="15439" y="6031"/>
                </a:lnTo>
                <a:lnTo>
                  <a:pt x="17912" y="6561"/>
                </a:lnTo>
                <a:lnTo>
                  <a:pt x="21255" y="7760"/>
                </a:lnTo>
                <a:lnTo>
                  <a:pt x="25177" y="9407"/>
                </a:lnTo>
                <a:lnTo>
                  <a:pt x="29485" y="11351"/>
                </a:lnTo>
                <a:lnTo>
                  <a:pt x="35743" y="12648"/>
                </a:lnTo>
                <a:lnTo>
                  <a:pt x="43302" y="13512"/>
                </a:lnTo>
                <a:lnTo>
                  <a:pt x="51728" y="14088"/>
                </a:lnTo>
                <a:lnTo>
                  <a:pt x="61579" y="14472"/>
                </a:lnTo>
                <a:lnTo>
                  <a:pt x="83813" y="14899"/>
                </a:lnTo>
                <a:lnTo>
                  <a:pt x="220980" y="15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320" bIns="-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InkAnnotation74"/>
          <p:cNvSpPr/>
          <p:nvPr/>
        </p:nvSpPr>
        <p:spPr>
          <a:xfrm>
            <a:off x="3309840" y="1058760"/>
            <a:ext cx="284400" cy="236520"/>
          </a:xfrm>
          <a:custGeom>
            <a:avLst/>
            <a:gdLst>
              <a:gd name="textAreaLeft" fmla="*/ 0 w 284400"/>
              <a:gd name="textAreaRight" fmla="*/ 284760 w 2844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83408" h="235601">
                <a:moveTo>
                  <a:pt x="111367" y="0"/>
                </a:moveTo>
                <a:lnTo>
                  <a:pt x="107322" y="0"/>
                </a:lnTo>
                <a:lnTo>
                  <a:pt x="100821" y="2258"/>
                </a:lnTo>
                <a:lnTo>
                  <a:pt x="96716" y="4045"/>
                </a:lnTo>
                <a:lnTo>
                  <a:pt x="92286" y="7777"/>
                </a:lnTo>
                <a:lnTo>
                  <a:pt x="87640" y="12805"/>
                </a:lnTo>
                <a:lnTo>
                  <a:pt x="82849" y="18696"/>
                </a:lnTo>
                <a:lnTo>
                  <a:pt x="77115" y="25164"/>
                </a:lnTo>
                <a:lnTo>
                  <a:pt x="63971" y="39124"/>
                </a:lnTo>
                <a:lnTo>
                  <a:pt x="42291" y="61264"/>
                </a:lnTo>
                <a:lnTo>
                  <a:pt x="35683" y="69629"/>
                </a:lnTo>
                <a:lnTo>
                  <a:pt x="29584" y="78593"/>
                </a:lnTo>
                <a:lnTo>
                  <a:pt x="23825" y="87955"/>
                </a:lnTo>
                <a:lnTo>
                  <a:pt x="18292" y="97584"/>
                </a:lnTo>
                <a:lnTo>
                  <a:pt x="7630" y="117313"/>
                </a:lnTo>
                <a:lnTo>
                  <a:pt x="4109" y="127315"/>
                </a:lnTo>
                <a:lnTo>
                  <a:pt x="1761" y="137370"/>
                </a:lnTo>
                <a:lnTo>
                  <a:pt x="197" y="147460"/>
                </a:lnTo>
                <a:lnTo>
                  <a:pt x="0" y="156727"/>
                </a:lnTo>
                <a:lnTo>
                  <a:pt x="716" y="165445"/>
                </a:lnTo>
                <a:lnTo>
                  <a:pt x="2040" y="173796"/>
                </a:lnTo>
                <a:lnTo>
                  <a:pt x="4616" y="181904"/>
                </a:lnTo>
                <a:lnTo>
                  <a:pt x="8026" y="189850"/>
                </a:lnTo>
                <a:lnTo>
                  <a:pt x="11993" y="197686"/>
                </a:lnTo>
                <a:lnTo>
                  <a:pt x="18025" y="204604"/>
                </a:lnTo>
                <a:lnTo>
                  <a:pt x="25432" y="210910"/>
                </a:lnTo>
                <a:lnTo>
                  <a:pt x="33757" y="216806"/>
                </a:lnTo>
                <a:lnTo>
                  <a:pt x="42694" y="221584"/>
                </a:lnTo>
                <a:lnTo>
                  <a:pt x="52038" y="225616"/>
                </a:lnTo>
                <a:lnTo>
                  <a:pt x="61654" y="229151"/>
                </a:lnTo>
                <a:lnTo>
                  <a:pt x="72299" y="231507"/>
                </a:lnTo>
                <a:lnTo>
                  <a:pt x="83628" y="233078"/>
                </a:lnTo>
                <a:lnTo>
                  <a:pt x="95415" y="234125"/>
                </a:lnTo>
                <a:lnTo>
                  <a:pt x="107506" y="234824"/>
                </a:lnTo>
                <a:lnTo>
                  <a:pt x="132229" y="235600"/>
                </a:lnTo>
                <a:lnTo>
                  <a:pt x="144748" y="234113"/>
                </a:lnTo>
                <a:lnTo>
                  <a:pt x="157328" y="231429"/>
                </a:lnTo>
                <a:lnTo>
                  <a:pt x="169948" y="227946"/>
                </a:lnTo>
                <a:lnTo>
                  <a:pt x="182594" y="223931"/>
                </a:lnTo>
                <a:lnTo>
                  <a:pt x="195259" y="219561"/>
                </a:lnTo>
                <a:lnTo>
                  <a:pt x="207935" y="214954"/>
                </a:lnTo>
                <a:lnTo>
                  <a:pt x="218925" y="209342"/>
                </a:lnTo>
                <a:lnTo>
                  <a:pt x="228793" y="203062"/>
                </a:lnTo>
                <a:lnTo>
                  <a:pt x="237911" y="196335"/>
                </a:lnTo>
                <a:lnTo>
                  <a:pt x="245683" y="188463"/>
                </a:lnTo>
                <a:lnTo>
                  <a:pt x="252558" y="179829"/>
                </a:lnTo>
                <a:lnTo>
                  <a:pt x="258834" y="170686"/>
                </a:lnTo>
                <a:lnTo>
                  <a:pt x="264712" y="161204"/>
                </a:lnTo>
                <a:lnTo>
                  <a:pt x="270324" y="151496"/>
                </a:lnTo>
                <a:lnTo>
                  <a:pt x="275758" y="141637"/>
                </a:lnTo>
                <a:lnTo>
                  <a:pt x="279381" y="131678"/>
                </a:lnTo>
                <a:lnTo>
                  <a:pt x="281796" y="121652"/>
                </a:lnTo>
                <a:lnTo>
                  <a:pt x="283407" y="111582"/>
                </a:lnTo>
                <a:lnTo>
                  <a:pt x="282787" y="102328"/>
                </a:lnTo>
                <a:lnTo>
                  <a:pt x="280680" y="93618"/>
                </a:lnTo>
                <a:lnTo>
                  <a:pt x="277583" y="85272"/>
                </a:lnTo>
                <a:lnTo>
                  <a:pt x="273824" y="78015"/>
                </a:lnTo>
                <a:lnTo>
                  <a:pt x="269625" y="71483"/>
                </a:lnTo>
                <a:lnTo>
                  <a:pt x="265133" y="65436"/>
                </a:lnTo>
                <a:lnTo>
                  <a:pt x="259597" y="59710"/>
                </a:lnTo>
                <a:lnTo>
                  <a:pt x="253367" y="54200"/>
                </a:lnTo>
                <a:lnTo>
                  <a:pt x="246674" y="48833"/>
                </a:lnTo>
                <a:lnTo>
                  <a:pt x="238825" y="44409"/>
                </a:lnTo>
                <a:lnTo>
                  <a:pt x="230205" y="40613"/>
                </a:lnTo>
                <a:lnTo>
                  <a:pt x="221073" y="37235"/>
                </a:lnTo>
                <a:lnTo>
                  <a:pt x="213291" y="34983"/>
                </a:lnTo>
                <a:lnTo>
                  <a:pt x="206410" y="33482"/>
                </a:lnTo>
                <a:lnTo>
                  <a:pt x="200129" y="32482"/>
                </a:lnTo>
                <a:lnTo>
                  <a:pt x="194248" y="31814"/>
                </a:lnTo>
                <a:lnTo>
                  <a:pt x="188635" y="31370"/>
                </a:lnTo>
                <a:lnTo>
                  <a:pt x="172328" y="304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9"/>
          <p:cNvSpPr/>
          <p:nvPr/>
        </p:nvSpPr>
        <p:spPr>
          <a:xfrm>
            <a:off x="1501920" y="1760400"/>
            <a:ext cx="1440" cy="360"/>
          </a:xfrm>
          <a:custGeom>
            <a:avLst/>
            <a:gdLst>
              <a:gd name="textAreaLeft" fmla="*/ 0 w 1440"/>
              <a:gd name="textAreaRight" fmla="*/ 1800 w 14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59" h="1">
                <a:moveTo>
                  <a:pt x="0" y="0"/>
                </a:moveTo>
                <a:lnTo>
                  <a:pt x="225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InkAnnotation76"/>
          <p:cNvSpPr/>
          <p:nvPr/>
        </p:nvSpPr>
        <p:spPr>
          <a:xfrm>
            <a:off x="1663560" y="1547640"/>
            <a:ext cx="195480" cy="217800"/>
          </a:xfrm>
          <a:custGeom>
            <a:avLst/>
            <a:gdLst>
              <a:gd name="textAreaLeft" fmla="*/ 0 w 195480"/>
              <a:gd name="textAreaRight" fmla="*/ 195840 w 195480"/>
              <a:gd name="textAreaTop" fmla="*/ 0 h 217800"/>
              <a:gd name="textAreaBottom" fmla="*/ 218160 h 217800"/>
            </a:gdLst>
            <a:ahLst/>
            <a:rect l="textAreaLeft" t="textAreaTop" r="textAreaRight" b="textAreaBottom"/>
            <a:pathLst>
              <a:path w="196070" h="217929">
                <a:moveTo>
                  <a:pt x="127489" y="6561"/>
                </a:moveTo>
                <a:lnTo>
                  <a:pt x="127489" y="0"/>
                </a:lnTo>
                <a:lnTo>
                  <a:pt x="127489" y="3300"/>
                </a:lnTo>
                <a:lnTo>
                  <a:pt x="126642" y="4387"/>
                </a:lnTo>
                <a:lnTo>
                  <a:pt x="125231" y="5112"/>
                </a:lnTo>
                <a:lnTo>
                  <a:pt x="120559" y="6764"/>
                </a:lnTo>
                <a:lnTo>
                  <a:pt x="116942" y="8389"/>
                </a:lnTo>
                <a:lnTo>
                  <a:pt x="112838" y="10320"/>
                </a:lnTo>
                <a:lnTo>
                  <a:pt x="109255" y="13300"/>
                </a:lnTo>
                <a:lnTo>
                  <a:pt x="106020" y="16981"/>
                </a:lnTo>
                <a:lnTo>
                  <a:pt x="103016" y="21127"/>
                </a:lnTo>
                <a:lnTo>
                  <a:pt x="90698" y="39099"/>
                </a:lnTo>
                <a:lnTo>
                  <a:pt x="85182" y="46033"/>
                </a:lnTo>
                <a:lnTo>
                  <a:pt x="78964" y="53196"/>
                </a:lnTo>
                <a:lnTo>
                  <a:pt x="72279" y="60511"/>
                </a:lnTo>
                <a:lnTo>
                  <a:pt x="66129" y="68774"/>
                </a:lnTo>
                <a:lnTo>
                  <a:pt x="60336" y="77670"/>
                </a:lnTo>
                <a:lnTo>
                  <a:pt x="54780" y="86987"/>
                </a:lnTo>
                <a:lnTo>
                  <a:pt x="48537" y="96585"/>
                </a:lnTo>
                <a:lnTo>
                  <a:pt x="41834" y="106370"/>
                </a:lnTo>
                <a:lnTo>
                  <a:pt x="22523" y="134065"/>
                </a:lnTo>
                <a:lnTo>
                  <a:pt x="16872" y="142364"/>
                </a:lnTo>
                <a:lnTo>
                  <a:pt x="12257" y="150436"/>
                </a:lnTo>
                <a:lnTo>
                  <a:pt x="8334" y="158358"/>
                </a:lnTo>
                <a:lnTo>
                  <a:pt x="4873" y="166179"/>
                </a:lnTo>
                <a:lnTo>
                  <a:pt x="2565" y="173086"/>
                </a:lnTo>
                <a:lnTo>
                  <a:pt x="1026" y="179384"/>
                </a:lnTo>
                <a:lnTo>
                  <a:pt x="0" y="185277"/>
                </a:lnTo>
                <a:lnTo>
                  <a:pt x="163" y="190898"/>
                </a:lnTo>
                <a:lnTo>
                  <a:pt x="1119" y="196339"/>
                </a:lnTo>
                <a:lnTo>
                  <a:pt x="2602" y="201660"/>
                </a:lnTo>
                <a:lnTo>
                  <a:pt x="6131" y="206054"/>
                </a:lnTo>
                <a:lnTo>
                  <a:pt x="11024" y="209829"/>
                </a:lnTo>
                <a:lnTo>
                  <a:pt x="16825" y="213193"/>
                </a:lnTo>
                <a:lnTo>
                  <a:pt x="22387" y="215436"/>
                </a:lnTo>
                <a:lnTo>
                  <a:pt x="27788" y="216931"/>
                </a:lnTo>
                <a:lnTo>
                  <a:pt x="33081" y="217928"/>
                </a:lnTo>
                <a:lnTo>
                  <a:pt x="39997" y="217745"/>
                </a:lnTo>
                <a:lnTo>
                  <a:pt x="47995" y="216777"/>
                </a:lnTo>
                <a:lnTo>
                  <a:pt x="56713" y="215285"/>
                </a:lnTo>
                <a:lnTo>
                  <a:pt x="65065" y="213444"/>
                </a:lnTo>
                <a:lnTo>
                  <a:pt x="73173" y="211370"/>
                </a:lnTo>
                <a:lnTo>
                  <a:pt x="89802" y="206807"/>
                </a:lnTo>
                <a:lnTo>
                  <a:pt x="108482" y="201957"/>
                </a:lnTo>
                <a:lnTo>
                  <a:pt x="117357" y="198632"/>
                </a:lnTo>
                <a:lnTo>
                  <a:pt x="125814" y="194722"/>
                </a:lnTo>
                <a:lnTo>
                  <a:pt x="133993" y="190421"/>
                </a:lnTo>
                <a:lnTo>
                  <a:pt x="141985" y="185861"/>
                </a:lnTo>
                <a:lnTo>
                  <a:pt x="149853" y="181128"/>
                </a:lnTo>
                <a:lnTo>
                  <a:pt x="157638" y="176279"/>
                </a:lnTo>
                <a:lnTo>
                  <a:pt x="164522" y="171353"/>
                </a:lnTo>
                <a:lnTo>
                  <a:pt x="170804" y="166376"/>
                </a:lnTo>
                <a:lnTo>
                  <a:pt x="176686" y="161364"/>
                </a:lnTo>
                <a:lnTo>
                  <a:pt x="180607" y="157177"/>
                </a:lnTo>
                <a:lnTo>
                  <a:pt x="183221" y="153538"/>
                </a:lnTo>
                <a:lnTo>
                  <a:pt x="186125" y="147238"/>
                </a:lnTo>
                <a:lnTo>
                  <a:pt x="187416" y="141615"/>
                </a:lnTo>
                <a:lnTo>
                  <a:pt x="187990" y="136294"/>
                </a:lnTo>
                <a:lnTo>
                  <a:pt x="188143" y="133690"/>
                </a:lnTo>
                <a:lnTo>
                  <a:pt x="187398" y="131953"/>
                </a:lnTo>
                <a:lnTo>
                  <a:pt x="186055" y="130796"/>
                </a:lnTo>
                <a:lnTo>
                  <a:pt x="184313" y="130024"/>
                </a:lnTo>
                <a:lnTo>
                  <a:pt x="181459" y="130356"/>
                </a:lnTo>
                <a:lnTo>
                  <a:pt x="177862" y="131425"/>
                </a:lnTo>
                <a:lnTo>
                  <a:pt x="173771" y="132984"/>
                </a:lnTo>
                <a:lnTo>
                  <a:pt x="169350" y="134869"/>
                </a:lnTo>
                <a:lnTo>
                  <a:pt x="159923" y="139223"/>
                </a:lnTo>
                <a:lnTo>
                  <a:pt x="145095" y="146433"/>
                </a:lnTo>
                <a:lnTo>
                  <a:pt x="140073" y="149763"/>
                </a:lnTo>
                <a:lnTo>
                  <a:pt x="135032" y="153675"/>
                </a:lnTo>
                <a:lnTo>
                  <a:pt x="129978" y="157977"/>
                </a:lnTo>
                <a:lnTo>
                  <a:pt x="126608" y="161692"/>
                </a:lnTo>
                <a:lnTo>
                  <a:pt x="122864" y="168077"/>
                </a:lnTo>
                <a:lnTo>
                  <a:pt x="121200" y="173737"/>
                </a:lnTo>
                <a:lnTo>
                  <a:pt x="120756" y="176432"/>
                </a:lnTo>
                <a:lnTo>
                  <a:pt x="121307" y="179075"/>
                </a:lnTo>
                <a:lnTo>
                  <a:pt x="124177" y="184269"/>
                </a:lnTo>
                <a:lnTo>
                  <a:pt x="126974" y="185993"/>
                </a:lnTo>
                <a:lnTo>
                  <a:pt x="130532" y="187143"/>
                </a:lnTo>
                <a:lnTo>
                  <a:pt x="134598" y="187909"/>
                </a:lnTo>
                <a:lnTo>
                  <a:pt x="140695" y="187573"/>
                </a:lnTo>
                <a:lnTo>
                  <a:pt x="148146" y="186502"/>
                </a:lnTo>
                <a:lnTo>
                  <a:pt x="156501" y="184942"/>
                </a:lnTo>
                <a:lnTo>
                  <a:pt x="164610" y="183902"/>
                </a:lnTo>
                <a:lnTo>
                  <a:pt x="172556" y="183208"/>
                </a:lnTo>
                <a:lnTo>
                  <a:pt x="196069" y="18182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InkAnnotation77"/>
          <p:cNvSpPr/>
          <p:nvPr/>
        </p:nvSpPr>
        <p:spPr>
          <a:xfrm>
            <a:off x="1932120" y="1562040"/>
            <a:ext cx="193680" cy="174600"/>
          </a:xfrm>
          <a:custGeom>
            <a:avLst/>
            <a:gdLst>
              <a:gd name="textAreaLeft" fmla="*/ 0 w 193680"/>
              <a:gd name="textAreaRight" fmla="*/ 194040 w 19368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94682" h="175231">
                <a:moveTo>
                  <a:pt x="11801" y="22830"/>
                </a:moveTo>
                <a:lnTo>
                  <a:pt x="5240" y="16269"/>
                </a:lnTo>
                <a:lnTo>
                  <a:pt x="2394" y="15681"/>
                </a:lnTo>
                <a:lnTo>
                  <a:pt x="450" y="15524"/>
                </a:lnTo>
                <a:lnTo>
                  <a:pt x="0" y="15419"/>
                </a:lnTo>
                <a:lnTo>
                  <a:pt x="1758" y="15303"/>
                </a:lnTo>
                <a:lnTo>
                  <a:pt x="2566" y="14426"/>
                </a:lnTo>
                <a:lnTo>
                  <a:pt x="3104" y="12994"/>
                </a:lnTo>
                <a:lnTo>
                  <a:pt x="3463" y="11193"/>
                </a:lnTo>
                <a:lnTo>
                  <a:pt x="6243" y="9992"/>
                </a:lnTo>
                <a:lnTo>
                  <a:pt x="10635" y="9191"/>
                </a:lnTo>
                <a:lnTo>
                  <a:pt x="16104" y="8658"/>
                </a:lnTo>
                <a:lnTo>
                  <a:pt x="21443" y="7455"/>
                </a:lnTo>
                <a:lnTo>
                  <a:pt x="26696" y="5807"/>
                </a:lnTo>
                <a:lnTo>
                  <a:pt x="31891" y="3861"/>
                </a:lnTo>
                <a:lnTo>
                  <a:pt x="37894" y="2564"/>
                </a:lnTo>
                <a:lnTo>
                  <a:pt x="44437" y="1700"/>
                </a:lnTo>
                <a:lnTo>
                  <a:pt x="51338" y="1123"/>
                </a:lnTo>
                <a:lnTo>
                  <a:pt x="59326" y="739"/>
                </a:lnTo>
                <a:lnTo>
                  <a:pt x="77232" y="312"/>
                </a:lnTo>
                <a:lnTo>
                  <a:pt x="121779" y="0"/>
                </a:lnTo>
                <a:lnTo>
                  <a:pt x="127453" y="837"/>
                </a:lnTo>
                <a:lnTo>
                  <a:pt x="132929" y="2241"/>
                </a:lnTo>
                <a:lnTo>
                  <a:pt x="138273" y="4024"/>
                </a:lnTo>
                <a:lnTo>
                  <a:pt x="143529" y="5213"/>
                </a:lnTo>
                <a:lnTo>
                  <a:pt x="148726" y="6005"/>
                </a:lnTo>
                <a:lnTo>
                  <a:pt x="153885" y="6534"/>
                </a:lnTo>
                <a:lnTo>
                  <a:pt x="158170" y="8579"/>
                </a:lnTo>
                <a:lnTo>
                  <a:pt x="161874" y="11636"/>
                </a:lnTo>
                <a:lnTo>
                  <a:pt x="165189" y="15367"/>
                </a:lnTo>
                <a:lnTo>
                  <a:pt x="166553" y="18702"/>
                </a:lnTo>
                <a:lnTo>
                  <a:pt x="166616" y="21771"/>
                </a:lnTo>
                <a:lnTo>
                  <a:pt x="165811" y="24664"/>
                </a:lnTo>
                <a:lnTo>
                  <a:pt x="164428" y="28286"/>
                </a:lnTo>
                <a:lnTo>
                  <a:pt x="162659" y="32394"/>
                </a:lnTo>
                <a:lnTo>
                  <a:pt x="160633" y="36826"/>
                </a:lnTo>
                <a:lnTo>
                  <a:pt x="156742" y="41474"/>
                </a:lnTo>
                <a:lnTo>
                  <a:pt x="151609" y="46266"/>
                </a:lnTo>
                <a:lnTo>
                  <a:pt x="145646" y="51154"/>
                </a:lnTo>
                <a:lnTo>
                  <a:pt x="139978" y="56953"/>
                </a:lnTo>
                <a:lnTo>
                  <a:pt x="134505" y="63359"/>
                </a:lnTo>
                <a:lnTo>
                  <a:pt x="129164" y="70169"/>
                </a:lnTo>
                <a:lnTo>
                  <a:pt x="123063" y="76403"/>
                </a:lnTo>
                <a:lnTo>
                  <a:pt x="116456" y="82252"/>
                </a:lnTo>
                <a:lnTo>
                  <a:pt x="109511" y="87845"/>
                </a:lnTo>
                <a:lnTo>
                  <a:pt x="102341" y="93266"/>
                </a:lnTo>
                <a:lnTo>
                  <a:pt x="87601" y="103806"/>
                </a:lnTo>
                <a:lnTo>
                  <a:pt x="80961" y="108988"/>
                </a:lnTo>
                <a:lnTo>
                  <a:pt x="74841" y="114135"/>
                </a:lnTo>
                <a:lnTo>
                  <a:pt x="64372" y="123523"/>
                </a:lnTo>
                <a:lnTo>
                  <a:pt x="56897" y="130518"/>
                </a:lnTo>
                <a:lnTo>
                  <a:pt x="54565" y="134415"/>
                </a:lnTo>
                <a:lnTo>
                  <a:pt x="53011" y="138707"/>
                </a:lnTo>
                <a:lnTo>
                  <a:pt x="51974" y="143261"/>
                </a:lnTo>
                <a:lnTo>
                  <a:pt x="52130" y="147144"/>
                </a:lnTo>
                <a:lnTo>
                  <a:pt x="53080" y="150580"/>
                </a:lnTo>
                <a:lnTo>
                  <a:pt x="54561" y="153716"/>
                </a:lnTo>
                <a:lnTo>
                  <a:pt x="58087" y="156654"/>
                </a:lnTo>
                <a:lnTo>
                  <a:pt x="62978" y="159460"/>
                </a:lnTo>
                <a:lnTo>
                  <a:pt x="68779" y="162176"/>
                </a:lnTo>
                <a:lnTo>
                  <a:pt x="75186" y="163988"/>
                </a:lnTo>
                <a:lnTo>
                  <a:pt x="81998" y="165195"/>
                </a:lnTo>
                <a:lnTo>
                  <a:pt x="89079" y="166000"/>
                </a:lnTo>
                <a:lnTo>
                  <a:pt x="97186" y="167383"/>
                </a:lnTo>
                <a:lnTo>
                  <a:pt x="105978" y="169153"/>
                </a:lnTo>
                <a:lnTo>
                  <a:pt x="115226" y="171178"/>
                </a:lnTo>
                <a:lnTo>
                  <a:pt x="124777" y="172529"/>
                </a:lnTo>
                <a:lnTo>
                  <a:pt x="134532" y="173429"/>
                </a:lnTo>
                <a:lnTo>
                  <a:pt x="152708" y="174430"/>
                </a:lnTo>
                <a:lnTo>
                  <a:pt x="166431" y="174874"/>
                </a:lnTo>
                <a:lnTo>
                  <a:pt x="194681" y="1752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InkAnnotation78"/>
          <p:cNvSpPr/>
          <p:nvPr/>
        </p:nvSpPr>
        <p:spPr>
          <a:xfrm>
            <a:off x="2841480" y="1630440"/>
            <a:ext cx="282600" cy="358560"/>
          </a:xfrm>
          <a:custGeom>
            <a:avLst/>
            <a:gdLst>
              <a:gd name="textAreaLeft" fmla="*/ 0 w 282600"/>
              <a:gd name="textAreaRight" fmla="*/ 282960 w 282600"/>
              <a:gd name="textAreaTop" fmla="*/ 0 h 358560"/>
              <a:gd name="textAreaBottom" fmla="*/ 358920 h 358560"/>
            </a:gdLst>
            <a:ahLst/>
            <a:rect l="textAreaLeft" t="textAreaTop" r="textAreaRight" b="textAreaBottom"/>
            <a:pathLst>
              <a:path w="281349" h="358008">
                <a:moveTo>
                  <a:pt x="0" y="68447"/>
                </a:moveTo>
                <a:lnTo>
                  <a:pt x="59339" y="68447"/>
                </a:lnTo>
                <a:lnTo>
                  <a:pt x="67500" y="67600"/>
                </a:lnTo>
                <a:lnTo>
                  <a:pt x="75480" y="66189"/>
                </a:lnTo>
                <a:lnTo>
                  <a:pt x="92813" y="62364"/>
                </a:lnTo>
                <a:lnTo>
                  <a:pt x="125525" y="55450"/>
                </a:lnTo>
                <a:lnTo>
                  <a:pt x="146664" y="50535"/>
                </a:lnTo>
                <a:lnTo>
                  <a:pt x="157043" y="47192"/>
                </a:lnTo>
                <a:lnTo>
                  <a:pt x="167348" y="43270"/>
                </a:lnTo>
                <a:lnTo>
                  <a:pt x="177606" y="38963"/>
                </a:lnTo>
                <a:lnTo>
                  <a:pt x="186983" y="35244"/>
                </a:lnTo>
                <a:lnTo>
                  <a:pt x="204177" y="28854"/>
                </a:lnTo>
                <a:lnTo>
                  <a:pt x="228137" y="20497"/>
                </a:lnTo>
                <a:lnTo>
                  <a:pt x="235064" y="17854"/>
                </a:lnTo>
                <a:lnTo>
                  <a:pt x="241376" y="15245"/>
                </a:lnTo>
                <a:lnTo>
                  <a:pt x="247277" y="12659"/>
                </a:lnTo>
                <a:lnTo>
                  <a:pt x="258350" y="7528"/>
                </a:lnTo>
                <a:lnTo>
                  <a:pt x="263673" y="4974"/>
                </a:lnTo>
                <a:lnTo>
                  <a:pt x="271845" y="2137"/>
                </a:lnTo>
                <a:lnTo>
                  <a:pt x="281348" y="0"/>
                </a:lnTo>
                <a:lnTo>
                  <a:pt x="273572" y="10431"/>
                </a:lnTo>
                <a:lnTo>
                  <a:pt x="268061" y="19802"/>
                </a:lnTo>
                <a:lnTo>
                  <a:pt x="255437" y="39358"/>
                </a:lnTo>
                <a:lnTo>
                  <a:pt x="245890" y="53825"/>
                </a:lnTo>
                <a:lnTo>
                  <a:pt x="233744" y="70979"/>
                </a:lnTo>
                <a:lnTo>
                  <a:pt x="226949" y="80295"/>
                </a:lnTo>
                <a:lnTo>
                  <a:pt x="219879" y="90739"/>
                </a:lnTo>
                <a:lnTo>
                  <a:pt x="205251" y="113633"/>
                </a:lnTo>
                <a:lnTo>
                  <a:pt x="198641" y="125664"/>
                </a:lnTo>
                <a:lnTo>
                  <a:pt x="192541" y="137918"/>
                </a:lnTo>
                <a:lnTo>
                  <a:pt x="186780" y="150321"/>
                </a:lnTo>
                <a:lnTo>
                  <a:pt x="180400" y="162823"/>
                </a:lnTo>
                <a:lnTo>
                  <a:pt x="173606" y="175391"/>
                </a:lnTo>
                <a:lnTo>
                  <a:pt x="166538" y="188003"/>
                </a:lnTo>
                <a:lnTo>
                  <a:pt x="160132" y="200644"/>
                </a:lnTo>
                <a:lnTo>
                  <a:pt x="154168" y="213305"/>
                </a:lnTo>
                <a:lnTo>
                  <a:pt x="148498" y="225979"/>
                </a:lnTo>
                <a:lnTo>
                  <a:pt x="143872" y="237815"/>
                </a:lnTo>
                <a:lnTo>
                  <a:pt x="139941" y="249093"/>
                </a:lnTo>
                <a:lnTo>
                  <a:pt x="136474" y="259997"/>
                </a:lnTo>
                <a:lnTo>
                  <a:pt x="132469" y="270654"/>
                </a:lnTo>
                <a:lnTo>
                  <a:pt x="128106" y="281145"/>
                </a:lnTo>
                <a:lnTo>
                  <a:pt x="123504" y="291525"/>
                </a:lnTo>
                <a:lnTo>
                  <a:pt x="120436" y="300139"/>
                </a:lnTo>
                <a:lnTo>
                  <a:pt x="118390" y="307575"/>
                </a:lnTo>
                <a:lnTo>
                  <a:pt x="117027" y="314226"/>
                </a:lnTo>
                <a:lnTo>
                  <a:pt x="115271" y="320353"/>
                </a:lnTo>
                <a:lnTo>
                  <a:pt x="113254" y="326131"/>
                </a:lnTo>
                <a:lnTo>
                  <a:pt x="109602" y="336220"/>
                </a:lnTo>
                <a:lnTo>
                  <a:pt x="107545" y="346660"/>
                </a:lnTo>
                <a:lnTo>
                  <a:pt x="106851" y="355515"/>
                </a:lnTo>
                <a:lnTo>
                  <a:pt x="106680" y="35800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InkAnnotation79"/>
          <p:cNvSpPr/>
          <p:nvPr/>
        </p:nvSpPr>
        <p:spPr>
          <a:xfrm>
            <a:off x="2879640" y="1889280"/>
            <a:ext cx="198360" cy="27000"/>
          </a:xfrm>
          <a:custGeom>
            <a:avLst/>
            <a:gdLst>
              <a:gd name="textAreaLeft" fmla="*/ 0 w 198360"/>
              <a:gd name="textAreaRight" fmla="*/ 198720 w 1983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98121" h="27018">
                <a:moveTo>
                  <a:pt x="0" y="0"/>
                </a:moveTo>
                <a:lnTo>
                  <a:pt x="4045" y="4045"/>
                </a:lnTo>
                <a:lnTo>
                  <a:pt x="6930" y="6084"/>
                </a:lnTo>
                <a:lnTo>
                  <a:pt x="10546" y="8289"/>
                </a:lnTo>
                <a:lnTo>
                  <a:pt x="14651" y="10606"/>
                </a:lnTo>
                <a:lnTo>
                  <a:pt x="19080" y="12151"/>
                </a:lnTo>
                <a:lnTo>
                  <a:pt x="23727" y="13180"/>
                </a:lnTo>
                <a:lnTo>
                  <a:pt x="28518" y="13867"/>
                </a:lnTo>
                <a:lnTo>
                  <a:pt x="35098" y="15171"/>
                </a:lnTo>
                <a:lnTo>
                  <a:pt x="51441" y="18878"/>
                </a:lnTo>
                <a:lnTo>
                  <a:pt x="60541" y="20206"/>
                </a:lnTo>
                <a:lnTo>
                  <a:pt x="69994" y="21090"/>
                </a:lnTo>
                <a:lnTo>
                  <a:pt x="79682" y="21680"/>
                </a:lnTo>
                <a:lnTo>
                  <a:pt x="91222" y="22920"/>
                </a:lnTo>
                <a:lnTo>
                  <a:pt x="117589" y="26556"/>
                </a:lnTo>
                <a:lnTo>
                  <a:pt x="130886" y="27017"/>
                </a:lnTo>
                <a:lnTo>
                  <a:pt x="143984" y="26478"/>
                </a:lnTo>
                <a:lnTo>
                  <a:pt x="156949" y="25272"/>
                </a:lnTo>
                <a:lnTo>
                  <a:pt x="167286" y="24468"/>
                </a:lnTo>
                <a:lnTo>
                  <a:pt x="175871" y="23932"/>
                </a:lnTo>
                <a:lnTo>
                  <a:pt x="198120" y="228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InkAnnotation80"/>
          <p:cNvSpPr/>
          <p:nvPr/>
        </p:nvSpPr>
        <p:spPr>
          <a:xfrm>
            <a:off x="3219480" y="1716120"/>
            <a:ext cx="262080" cy="203040"/>
          </a:xfrm>
          <a:custGeom>
            <a:avLst/>
            <a:gdLst>
              <a:gd name="textAreaLeft" fmla="*/ 0 w 262080"/>
              <a:gd name="textAreaRight" fmla="*/ 262440 w 2620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262081" h="204064">
                <a:moveTo>
                  <a:pt x="141328" y="6561"/>
                </a:moveTo>
                <a:lnTo>
                  <a:pt x="134767" y="6561"/>
                </a:lnTo>
                <a:lnTo>
                  <a:pt x="127834" y="1324"/>
                </a:lnTo>
                <a:lnTo>
                  <a:pt x="123195" y="0"/>
                </a:lnTo>
                <a:lnTo>
                  <a:pt x="116053" y="1670"/>
                </a:lnTo>
                <a:lnTo>
                  <a:pt x="111778" y="3300"/>
                </a:lnTo>
                <a:lnTo>
                  <a:pt x="106388" y="6080"/>
                </a:lnTo>
                <a:lnTo>
                  <a:pt x="100254" y="9627"/>
                </a:lnTo>
                <a:lnTo>
                  <a:pt x="93626" y="13685"/>
                </a:lnTo>
                <a:lnTo>
                  <a:pt x="79487" y="22710"/>
                </a:lnTo>
                <a:lnTo>
                  <a:pt x="72160" y="27487"/>
                </a:lnTo>
                <a:lnTo>
                  <a:pt x="64736" y="33212"/>
                </a:lnTo>
                <a:lnTo>
                  <a:pt x="57247" y="39568"/>
                </a:lnTo>
                <a:lnTo>
                  <a:pt x="49714" y="46346"/>
                </a:lnTo>
                <a:lnTo>
                  <a:pt x="34571" y="60650"/>
                </a:lnTo>
                <a:lnTo>
                  <a:pt x="26976" y="68020"/>
                </a:lnTo>
                <a:lnTo>
                  <a:pt x="20220" y="76321"/>
                </a:lnTo>
                <a:lnTo>
                  <a:pt x="14022" y="85241"/>
                </a:lnTo>
                <a:lnTo>
                  <a:pt x="8198" y="94574"/>
                </a:lnTo>
                <a:lnTo>
                  <a:pt x="4314" y="103337"/>
                </a:lnTo>
                <a:lnTo>
                  <a:pt x="1725" y="111718"/>
                </a:lnTo>
                <a:lnTo>
                  <a:pt x="0" y="119846"/>
                </a:lnTo>
                <a:lnTo>
                  <a:pt x="1389" y="127804"/>
                </a:lnTo>
                <a:lnTo>
                  <a:pt x="4855" y="135650"/>
                </a:lnTo>
                <a:lnTo>
                  <a:pt x="9706" y="143420"/>
                </a:lnTo>
                <a:lnTo>
                  <a:pt x="15480" y="151141"/>
                </a:lnTo>
                <a:lnTo>
                  <a:pt x="21869" y="158827"/>
                </a:lnTo>
                <a:lnTo>
                  <a:pt x="28669" y="166492"/>
                </a:lnTo>
                <a:lnTo>
                  <a:pt x="36588" y="173295"/>
                </a:lnTo>
                <a:lnTo>
                  <a:pt x="45255" y="179524"/>
                </a:lnTo>
                <a:lnTo>
                  <a:pt x="54419" y="185370"/>
                </a:lnTo>
                <a:lnTo>
                  <a:pt x="64762" y="190113"/>
                </a:lnTo>
                <a:lnTo>
                  <a:pt x="75890" y="194122"/>
                </a:lnTo>
                <a:lnTo>
                  <a:pt x="87543" y="197642"/>
                </a:lnTo>
                <a:lnTo>
                  <a:pt x="99545" y="199988"/>
                </a:lnTo>
                <a:lnTo>
                  <a:pt x="111779" y="201553"/>
                </a:lnTo>
                <a:lnTo>
                  <a:pt x="124169" y="202595"/>
                </a:lnTo>
                <a:lnTo>
                  <a:pt x="136661" y="203291"/>
                </a:lnTo>
                <a:lnTo>
                  <a:pt x="161831" y="204063"/>
                </a:lnTo>
                <a:lnTo>
                  <a:pt x="173623" y="203423"/>
                </a:lnTo>
                <a:lnTo>
                  <a:pt x="184872" y="202149"/>
                </a:lnTo>
                <a:lnTo>
                  <a:pt x="195757" y="200453"/>
                </a:lnTo>
                <a:lnTo>
                  <a:pt x="206400" y="197629"/>
                </a:lnTo>
                <a:lnTo>
                  <a:pt x="216883" y="194053"/>
                </a:lnTo>
                <a:lnTo>
                  <a:pt x="227258" y="189976"/>
                </a:lnTo>
                <a:lnTo>
                  <a:pt x="235868" y="184717"/>
                </a:lnTo>
                <a:lnTo>
                  <a:pt x="243301" y="178672"/>
                </a:lnTo>
                <a:lnTo>
                  <a:pt x="249950" y="172102"/>
                </a:lnTo>
                <a:lnTo>
                  <a:pt x="254383" y="165181"/>
                </a:lnTo>
                <a:lnTo>
                  <a:pt x="257337" y="158028"/>
                </a:lnTo>
                <a:lnTo>
                  <a:pt x="259307" y="150719"/>
                </a:lnTo>
                <a:lnTo>
                  <a:pt x="260621" y="143306"/>
                </a:lnTo>
                <a:lnTo>
                  <a:pt x="261497" y="135825"/>
                </a:lnTo>
                <a:lnTo>
                  <a:pt x="262080" y="128297"/>
                </a:lnTo>
                <a:lnTo>
                  <a:pt x="260776" y="120738"/>
                </a:lnTo>
                <a:lnTo>
                  <a:pt x="258213" y="113159"/>
                </a:lnTo>
                <a:lnTo>
                  <a:pt x="254811" y="105567"/>
                </a:lnTo>
                <a:lnTo>
                  <a:pt x="250003" y="98811"/>
                </a:lnTo>
                <a:lnTo>
                  <a:pt x="244258" y="92615"/>
                </a:lnTo>
                <a:lnTo>
                  <a:pt x="237888" y="86790"/>
                </a:lnTo>
                <a:lnTo>
                  <a:pt x="231101" y="82060"/>
                </a:lnTo>
                <a:lnTo>
                  <a:pt x="224037" y="78060"/>
                </a:lnTo>
                <a:lnTo>
                  <a:pt x="216787" y="74547"/>
                </a:lnTo>
                <a:lnTo>
                  <a:pt x="208567" y="71358"/>
                </a:lnTo>
                <a:lnTo>
                  <a:pt x="199701" y="68386"/>
                </a:lnTo>
                <a:lnTo>
                  <a:pt x="190403" y="65558"/>
                </a:lnTo>
                <a:lnTo>
                  <a:pt x="182511" y="62825"/>
                </a:lnTo>
                <a:lnTo>
                  <a:pt x="175557" y="60157"/>
                </a:lnTo>
                <a:lnTo>
                  <a:pt x="169228" y="57532"/>
                </a:lnTo>
                <a:lnTo>
                  <a:pt x="163314" y="56628"/>
                </a:lnTo>
                <a:lnTo>
                  <a:pt x="157678" y="56873"/>
                </a:lnTo>
                <a:lnTo>
                  <a:pt x="141328" y="599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InkAnnotation81"/>
          <p:cNvSpPr/>
          <p:nvPr/>
        </p:nvSpPr>
        <p:spPr>
          <a:xfrm>
            <a:off x="1870200" y="2239920"/>
            <a:ext cx="187200" cy="125280"/>
          </a:xfrm>
          <a:custGeom>
            <a:avLst/>
            <a:gdLst>
              <a:gd name="textAreaLeft" fmla="*/ 0 w 187200"/>
              <a:gd name="textAreaRight" fmla="*/ 187560 w 18720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86713" h="125711">
                <a:moveTo>
                  <a:pt x="179739" y="38100"/>
                </a:moveTo>
                <a:lnTo>
                  <a:pt x="165872" y="24233"/>
                </a:lnTo>
                <a:lnTo>
                  <a:pt x="164568" y="22082"/>
                </a:lnTo>
                <a:lnTo>
                  <a:pt x="162852" y="18955"/>
                </a:lnTo>
                <a:lnTo>
                  <a:pt x="160861" y="15177"/>
                </a:lnTo>
                <a:lnTo>
                  <a:pt x="157840" y="11811"/>
                </a:lnTo>
                <a:lnTo>
                  <a:pt x="154133" y="8721"/>
                </a:lnTo>
                <a:lnTo>
                  <a:pt x="149969" y="5814"/>
                </a:lnTo>
                <a:lnTo>
                  <a:pt x="146345" y="3876"/>
                </a:lnTo>
                <a:lnTo>
                  <a:pt x="143083" y="2584"/>
                </a:lnTo>
                <a:lnTo>
                  <a:pt x="140062" y="1723"/>
                </a:lnTo>
                <a:lnTo>
                  <a:pt x="136354" y="1148"/>
                </a:lnTo>
                <a:lnTo>
                  <a:pt x="132189" y="766"/>
                </a:lnTo>
                <a:lnTo>
                  <a:pt x="127719" y="511"/>
                </a:lnTo>
                <a:lnTo>
                  <a:pt x="122199" y="1187"/>
                </a:lnTo>
                <a:lnTo>
                  <a:pt x="115979" y="2485"/>
                </a:lnTo>
                <a:lnTo>
                  <a:pt x="109292" y="4197"/>
                </a:lnTo>
                <a:lnTo>
                  <a:pt x="102295" y="7031"/>
                </a:lnTo>
                <a:lnTo>
                  <a:pt x="95090" y="10614"/>
                </a:lnTo>
                <a:lnTo>
                  <a:pt x="87746" y="14696"/>
                </a:lnTo>
                <a:lnTo>
                  <a:pt x="80310" y="19111"/>
                </a:lnTo>
                <a:lnTo>
                  <a:pt x="65275" y="28532"/>
                </a:lnTo>
                <a:lnTo>
                  <a:pt x="42531" y="43355"/>
                </a:lnTo>
                <a:lnTo>
                  <a:pt x="35774" y="49224"/>
                </a:lnTo>
                <a:lnTo>
                  <a:pt x="29575" y="55676"/>
                </a:lnTo>
                <a:lnTo>
                  <a:pt x="23750" y="62517"/>
                </a:lnTo>
                <a:lnTo>
                  <a:pt x="18173" y="68771"/>
                </a:lnTo>
                <a:lnTo>
                  <a:pt x="7461" y="80236"/>
                </a:lnTo>
                <a:lnTo>
                  <a:pt x="3927" y="85664"/>
                </a:lnTo>
                <a:lnTo>
                  <a:pt x="1571" y="90976"/>
                </a:lnTo>
                <a:lnTo>
                  <a:pt x="0" y="96211"/>
                </a:lnTo>
                <a:lnTo>
                  <a:pt x="647" y="101394"/>
                </a:lnTo>
                <a:lnTo>
                  <a:pt x="2771" y="106543"/>
                </a:lnTo>
                <a:lnTo>
                  <a:pt x="5880" y="111668"/>
                </a:lnTo>
                <a:lnTo>
                  <a:pt x="9647" y="115086"/>
                </a:lnTo>
                <a:lnTo>
                  <a:pt x="13851" y="117364"/>
                </a:lnTo>
                <a:lnTo>
                  <a:pt x="18347" y="118883"/>
                </a:lnTo>
                <a:lnTo>
                  <a:pt x="24731" y="120742"/>
                </a:lnTo>
                <a:lnTo>
                  <a:pt x="40856" y="125065"/>
                </a:lnTo>
                <a:lnTo>
                  <a:pt x="49050" y="125710"/>
                </a:lnTo>
                <a:lnTo>
                  <a:pt x="57053" y="125293"/>
                </a:lnTo>
                <a:lnTo>
                  <a:pt x="64928" y="124169"/>
                </a:lnTo>
                <a:lnTo>
                  <a:pt x="73565" y="122573"/>
                </a:lnTo>
                <a:lnTo>
                  <a:pt x="92193" y="118541"/>
                </a:lnTo>
                <a:lnTo>
                  <a:pt x="101055" y="116281"/>
                </a:lnTo>
                <a:lnTo>
                  <a:pt x="109503" y="113927"/>
                </a:lnTo>
                <a:lnTo>
                  <a:pt x="117675" y="111511"/>
                </a:lnTo>
                <a:lnTo>
                  <a:pt x="126510" y="108208"/>
                </a:lnTo>
                <a:lnTo>
                  <a:pt x="135786" y="104312"/>
                </a:lnTo>
                <a:lnTo>
                  <a:pt x="145357" y="100021"/>
                </a:lnTo>
                <a:lnTo>
                  <a:pt x="153431" y="95468"/>
                </a:lnTo>
                <a:lnTo>
                  <a:pt x="160507" y="90738"/>
                </a:lnTo>
                <a:lnTo>
                  <a:pt x="166918" y="85892"/>
                </a:lnTo>
                <a:lnTo>
                  <a:pt x="172038" y="80968"/>
                </a:lnTo>
                <a:lnTo>
                  <a:pt x="176298" y="75992"/>
                </a:lnTo>
                <a:lnTo>
                  <a:pt x="179985" y="70982"/>
                </a:lnTo>
                <a:lnTo>
                  <a:pt x="182443" y="65948"/>
                </a:lnTo>
                <a:lnTo>
                  <a:pt x="184082" y="60899"/>
                </a:lnTo>
                <a:lnTo>
                  <a:pt x="185174" y="55839"/>
                </a:lnTo>
                <a:lnTo>
                  <a:pt x="185902" y="50773"/>
                </a:lnTo>
                <a:lnTo>
                  <a:pt x="186388" y="45702"/>
                </a:lnTo>
                <a:lnTo>
                  <a:pt x="186712" y="40628"/>
                </a:lnTo>
                <a:lnTo>
                  <a:pt x="186081" y="35552"/>
                </a:lnTo>
                <a:lnTo>
                  <a:pt x="184813" y="30475"/>
                </a:lnTo>
                <a:lnTo>
                  <a:pt x="183122" y="25397"/>
                </a:lnTo>
                <a:lnTo>
                  <a:pt x="181148" y="21165"/>
                </a:lnTo>
                <a:lnTo>
                  <a:pt x="178985" y="17496"/>
                </a:lnTo>
                <a:lnTo>
                  <a:pt x="176696" y="14204"/>
                </a:lnTo>
                <a:lnTo>
                  <a:pt x="174324" y="11163"/>
                </a:lnTo>
                <a:lnTo>
                  <a:pt x="171896" y="8289"/>
                </a:lnTo>
                <a:lnTo>
                  <a:pt x="169430" y="5526"/>
                </a:lnTo>
                <a:lnTo>
                  <a:pt x="166940" y="3684"/>
                </a:lnTo>
                <a:lnTo>
                  <a:pt x="164433" y="2456"/>
                </a:lnTo>
                <a:lnTo>
                  <a:pt x="15687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InkAnnotation82"/>
          <p:cNvSpPr/>
          <p:nvPr/>
        </p:nvSpPr>
        <p:spPr>
          <a:xfrm>
            <a:off x="1905120" y="2408400"/>
            <a:ext cx="131760" cy="104760"/>
          </a:xfrm>
          <a:custGeom>
            <a:avLst/>
            <a:gdLst>
              <a:gd name="textAreaLeft" fmla="*/ 0 w 131760"/>
              <a:gd name="textAreaRight" fmla="*/ 132120 w 1317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31923" h="105072">
                <a:moveTo>
                  <a:pt x="60485" y="15240"/>
                </a:moveTo>
                <a:lnTo>
                  <a:pt x="60485" y="7628"/>
                </a:lnTo>
                <a:lnTo>
                  <a:pt x="56440" y="7622"/>
                </a:lnTo>
                <a:lnTo>
                  <a:pt x="55248" y="8469"/>
                </a:lnTo>
                <a:lnTo>
                  <a:pt x="54454" y="9879"/>
                </a:lnTo>
                <a:lnTo>
                  <a:pt x="53924" y="11666"/>
                </a:lnTo>
                <a:lnTo>
                  <a:pt x="51878" y="13704"/>
                </a:lnTo>
                <a:lnTo>
                  <a:pt x="48820" y="15909"/>
                </a:lnTo>
                <a:lnTo>
                  <a:pt x="45088" y="18226"/>
                </a:lnTo>
                <a:lnTo>
                  <a:pt x="41754" y="21464"/>
                </a:lnTo>
                <a:lnTo>
                  <a:pt x="38684" y="25316"/>
                </a:lnTo>
                <a:lnTo>
                  <a:pt x="35791" y="29578"/>
                </a:lnTo>
                <a:lnTo>
                  <a:pt x="32169" y="34112"/>
                </a:lnTo>
                <a:lnTo>
                  <a:pt x="28061" y="38828"/>
                </a:lnTo>
                <a:lnTo>
                  <a:pt x="23629" y="43665"/>
                </a:lnTo>
                <a:lnTo>
                  <a:pt x="19828" y="48584"/>
                </a:lnTo>
                <a:lnTo>
                  <a:pt x="16447" y="53556"/>
                </a:lnTo>
                <a:lnTo>
                  <a:pt x="13346" y="58564"/>
                </a:lnTo>
                <a:lnTo>
                  <a:pt x="10432" y="62749"/>
                </a:lnTo>
                <a:lnTo>
                  <a:pt x="7643" y="66386"/>
                </a:lnTo>
                <a:lnTo>
                  <a:pt x="4937" y="69657"/>
                </a:lnTo>
                <a:lnTo>
                  <a:pt x="3133" y="73532"/>
                </a:lnTo>
                <a:lnTo>
                  <a:pt x="1930" y="77808"/>
                </a:lnTo>
                <a:lnTo>
                  <a:pt x="1129" y="82352"/>
                </a:lnTo>
                <a:lnTo>
                  <a:pt x="594" y="86228"/>
                </a:lnTo>
                <a:lnTo>
                  <a:pt x="238" y="89659"/>
                </a:lnTo>
                <a:lnTo>
                  <a:pt x="0" y="92792"/>
                </a:lnTo>
                <a:lnTo>
                  <a:pt x="688" y="95728"/>
                </a:lnTo>
                <a:lnTo>
                  <a:pt x="1994" y="98532"/>
                </a:lnTo>
                <a:lnTo>
                  <a:pt x="3711" y="101248"/>
                </a:lnTo>
                <a:lnTo>
                  <a:pt x="6549" y="103059"/>
                </a:lnTo>
                <a:lnTo>
                  <a:pt x="10134" y="104266"/>
                </a:lnTo>
                <a:lnTo>
                  <a:pt x="14218" y="105071"/>
                </a:lnTo>
                <a:lnTo>
                  <a:pt x="18634" y="104760"/>
                </a:lnTo>
                <a:lnTo>
                  <a:pt x="23271" y="103707"/>
                </a:lnTo>
                <a:lnTo>
                  <a:pt x="46925" y="95933"/>
                </a:lnTo>
                <a:lnTo>
                  <a:pt x="53985" y="92742"/>
                </a:lnTo>
                <a:lnTo>
                  <a:pt x="61232" y="88921"/>
                </a:lnTo>
                <a:lnTo>
                  <a:pt x="68603" y="84681"/>
                </a:lnTo>
                <a:lnTo>
                  <a:pt x="81309" y="77712"/>
                </a:lnTo>
                <a:lnTo>
                  <a:pt x="87067" y="74668"/>
                </a:lnTo>
                <a:lnTo>
                  <a:pt x="93447" y="70945"/>
                </a:lnTo>
                <a:lnTo>
                  <a:pt x="107308" y="62293"/>
                </a:lnTo>
                <a:lnTo>
                  <a:pt x="112867" y="57616"/>
                </a:lnTo>
                <a:lnTo>
                  <a:pt x="117420" y="52804"/>
                </a:lnTo>
                <a:lnTo>
                  <a:pt x="121302" y="47903"/>
                </a:lnTo>
                <a:lnTo>
                  <a:pt x="124736" y="42942"/>
                </a:lnTo>
                <a:lnTo>
                  <a:pt x="127872" y="37941"/>
                </a:lnTo>
                <a:lnTo>
                  <a:pt x="130810" y="32914"/>
                </a:lnTo>
                <a:lnTo>
                  <a:pt x="131922" y="28716"/>
                </a:lnTo>
                <a:lnTo>
                  <a:pt x="131816" y="25071"/>
                </a:lnTo>
                <a:lnTo>
                  <a:pt x="130899" y="21794"/>
                </a:lnTo>
                <a:lnTo>
                  <a:pt x="130288" y="18763"/>
                </a:lnTo>
                <a:lnTo>
                  <a:pt x="129880" y="15895"/>
                </a:lnTo>
                <a:lnTo>
                  <a:pt x="129609" y="13137"/>
                </a:lnTo>
                <a:lnTo>
                  <a:pt x="128581" y="10451"/>
                </a:lnTo>
                <a:lnTo>
                  <a:pt x="127049" y="7814"/>
                </a:lnTo>
                <a:lnTo>
                  <a:pt x="125181" y="5210"/>
                </a:lnTo>
                <a:lnTo>
                  <a:pt x="123089" y="3473"/>
                </a:lnTo>
                <a:lnTo>
                  <a:pt x="120848" y="2315"/>
                </a:lnTo>
                <a:lnTo>
                  <a:pt x="118507" y="1544"/>
                </a:lnTo>
                <a:lnTo>
                  <a:pt x="116100" y="1029"/>
                </a:lnTo>
                <a:lnTo>
                  <a:pt x="113648" y="686"/>
                </a:lnTo>
                <a:lnTo>
                  <a:pt x="111167" y="458"/>
                </a:lnTo>
                <a:lnTo>
                  <a:pt x="108666" y="305"/>
                </a:lnTo>
                <a:lnTo>
                  <a:pt x="9858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InkAnnotation83"/>
          <p:cNvSpPr/>
          <p:nvPr/>
        </p:nvSpPr>
        <p:spPr>
          <a:xfrm>
            <a:off x="2097000" y="2278080"/>
            <a:ext cx="217440" cy="182520"/>
          </a:xfrm>
          <a:custGeom>
            <a:avLst/>
            <a:gdLst>
              <a:gd name="textAreaLeft" fmla="*/ 0 w 217440"/>
              <a:gd name="textAreaRight" fmla="*/ 217800 w 2174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463" h="182252">
                <a:moveTo>
                  <a:pt x="81738" y="76059"/>
                </a:moveTo>
                <a:lnTo>
                  <a:pt x="89828" y="72014"/>
                </a:lnTo>
                <a:lnTo>
                  <a:pt x="96058" y="67770"/>
                </a:lnTo>
                <a:lnTo>
                  <a:pt x="98905" y="65453"/>
                </a:lnTo>
                <a:lnTo>
                  <a:pt x="100802" y="63062"/>
                </a:lnTo>
                <a:lnTo>
                  <a:pt x="102068" y="60621"/>
                </a:lnTo>
                <a:lnTo>
                  <a:pt x="102911" y="58147"/>
                </a:lnTo>
                <a:lnTo>
                  <a:pt x="106014" y="54804"/>
                </a:lnTo>
                <a:lnTo>
                  <a:pt x="110622" y="50883"/>
                </a:lnTo>
                <a:lnTo>
                  <a:pt x="116234" y="46575"/>
                </a:lnTo>
                <a:lnTo>
                  <a:pt x="120822" y="42856"/>
                </a:lnTo>
                <a:lnTo>
                  <a:pt x="124727" y="39531"/>
                </a:lnTo>
                <a:lnTo>
                  <a:pt x="128177" y="36467"/>
                </a:lnTo>
                <a:lnTo>
                  <a:pt x="131324" y="32731"/>
                </a:lnTo>
                <a:lnTo>
                  <a:pt x="134269" y="28547"/>
                </a:lnTo>
                <a:lnTo>
                  <a:pt x="137079" y="24064"/>
                </a:lnTo>
                <a:lnTo>
                  <a:pt x="138952" y="20229"/>
                </a:lnTo>
                <a:lnTo>
                  <a:pt x="140200" y="16826"/>
                </a:lnTo>
                <a:lnTo>
                  <a:pt x="141033" y="13710"/>
                </a:lnTo>
                <a:lnTo>
                  <a:pt x="141588" y="10787"/>
                </a:lnTo>
                <a:lnTo>
                  <a:pt x="142205" y="5280"/>
                </a:lnTo>
                <a:lnTo>
                  <a:pt x="142552" y="1465"/>
                </a:lnTo>
                <a:lnTo>
                  <a:pt x="141754" y="930"/>
                </a:lnTo>
                <a:lnTo>
                  <a:pt x="138609" y="335"/>
                </a:lnTo>
                <a:lnTo>
                  <a:pt x="132079" y="0"/>
                </a:lnTo>
                <a:lnTo>
                  <a:pt x="128846" y="800"/>
                </a:lnTo>
                <a:lnTo>
                  <a:pt x="124996" y="2180"/>
                </a:lnTo>
                <a:lnTo>
                  <a:pt x="120737" y="3946"/>
                </a:lnTo>
                <a:lnTo>
                  <a:pt x="115357" y="6817"/>
                </a:lnTo>
                <a:lnTo>
                  <a:pt x="109231" y="10425"/>
                </a:lnTo>
                <a:lnTo>
                  <a:pt x="95651" y="18948"/>
                </a:lnTo>
                <a:lnTo>
                  <a:pt x="81148" y="28381"/>
                </a:lnTo>
                <a:lnTo>
                  <a:pt x="73725" y="34960"/>
                </a:lnTo>
                <a:lnTo>
                  <a:pt x="66236" y="42733"/>
                </a:lnTo>
                <a:lnTo>
                  <a:pt x="58703" y="51302"/>
                </a:lnTo>
                <a:lnTo>
                  <a:pt x="51141" y="59554"/>
                </a:lnTo>
                <a:lnTo>
                  <a:pt x="35966" y="75497"/>
                </a:lnTo>
                <a:lnTo>
                  <a:pt x="29210" y="83305"/>
                </a:lnTo>
                <a:lnTo>
                  <a:pt x="23013" y="91049"/>
                </a:lnTo>
                <a:lnTo>
                  <a:pt x="17188" y="98752"/>
                </a:lnTo>
                <a:lnTo>
                  <a:pt x="12458" y="106428"/>
                </a:lnTo>
                <a:lnTo>
                  <a:pt x="8458" y="114085"/>
                </a:lnTo>
                <a:lnTo>
                  <a:pt x="4945" y="121730"/>
                </a:lnTo>
                <a:lnTo>
                  <a:pt x="2603" y="128519"/>
                </a:lnTo>
                <a:lnTo>
                  <a:pt x="1041" y="134739"/>
                </a:lnTo>
                <a:lnTo>
                  <a:pt x="0" y="140579"/>
                </a:lnTo>
                <a:lnTo>
                  <a:pt x="999" y="146166"/>
                </a:lnTo>
                <a:lnTo>
                  <a:pt x="3359" y="151584"/>
                </a:lnTo>
                <a:lnTo>
                  <a:pt x="6626" y="156889"/>
                </a:lnTo>
                <a:lnTo>
                  <a:pt x="11343" y="161272"/>
                </a:lnTo>
                <a:lnTo>
                  <a:pt x="17028" y="165041"/>
                </a:lnTo>
                <a:lnTo>
                  <a:pt x="23358" y="168401"/>
                </a:lnTo>
                <a:lnTo>
                  <a:pt x="31811" y="171487"/>
                </a:lnTo>
                <a:lnTo>
                  <a:pt x="41680" y="174391"/>
                </a:lnTo>
                <a:lnTo>
                  <a:pt x="52493" y="177173"/>
                </a:lnTo>
                <a:lnTo>
                  <a:pt x="63088" y="179029"/>
                </a:lnTo>
                <a:lnTo>
                  <a:pt x="73538" y="180266"/>
                </a:lnTo>
                <a:lnTo>
                  <a:pt x="83892" y="181090"/>
                </a:lnTo>
                <a:lnTo>
                  <a:pt x="94180" y="181639"/>
                </a:lnTo>
                <a:lnTo>
                  <a:pt x="114643" y="182251"/>
                </a:lnTo>
                <a:lnTo>
                  <a:pt x="124842" y="181567"/>
                </a:lnTo>
                <a:lnTo>
                  <a:pt x="135027" y="180264"/>
                </a:lnTo>
                <a:lnTo>
                  <a:pt x="145204" y="178549"/>
                </a:lnTo>
                <a:lnTo>
                  <a:pt x="154529" y="176559"/>
                </a:lnTo>
                <a:lnTo>
                  <a:pt x="163285" y="174386"/>
                </a:lnTo>
                <a:lnTo>
                  <a:pt x="171663" y="172090"/>
                </a:lnTo>
                <a:lnTo>
                  <a:pt x="179788" y="168866"/>
                </a:lnTo>
                <a:lnTo>
                  <a:pt x="187745" y="165024"/>
                </a:lnTo>
                <a:lnTo>
                  <a:pt x="195589" y="160769"/>
                </a:lnTo>
                <a:lnTo>
                  <a:pt x="201665" y="156239"/>
                </a:lnTo>
                <a:lnTo>
                  <a:pt x="206563" y="151526"/>
                </a:lnTo>
                <a:lnTo>
                  <a:pt x="210675" y="146690"/>
                </a:lnTo>
                <a:lnTo>
                  <a:pt x="213416" y="140927"/>
                </a:lnTo>
                <a:lnTo>
                  <a:pt x="215243" y="134544"/>
                </a:lnTo>
                <a:lnTo>
                  <a:pt x="216462" y="127749"/>
                </a:lnTo>
                <a:lnTo>
                  <a:pt x="216427" y="120679"/>
                </a:lnTo>
                <a:lnTo>
                  <a:pt x="215558" y="113426"/>
                </a:lnTo>
                <a:lnTo>
                  <a:pt x="214131" y="106050"/>
                </a:lnTo>
                <a:lnTo>
                  <a:pt x="212334" y="99440"/>
                </a:lnTo>
                <a:lnTo>
                  <a:pt x="210289" y="93339"/>
                </a:lnTo>
                <a:lnTo>
                  <a:pt x="208078" y="87579"/>
                </a:lnTo>
                <a:lnTo>
                  <a:pt x="204065" y="81199"/>
                </a:lnTo>
                <a:lnTo>
                  <a:pt x="198849" y="74406"/>
                </a:lnTo>
                <a:lnTo>
                  <a:pt x="192832" y="67337"/>
                </a:lnTo>
                <a:lnTo>
                  <a:pt x="186281" y="61778"/>
                </a:lnTo>
                <a:lnTo>
                  <a:pt x="179373" y="57225"/>
                </a:lnTo>
                <a:lnTo>
                  <a:pt x="172228" y="53343"/>
                </a:lnTo>
                <a:lnTo>
                  <a:pt x="164925" y="49908"/>
                </a:lnTo>
                <a:lnTo>
                  <a:pt x="157516" y="46772"/>
                </a:lnTo>
                <a:lnTo>
                  <a:pt x="150037" y="43834"/>
                </a:lnTo>
                <a:lnTo>
                  <a:pt x="144204" y="41876"/>
                </a:lnTo>
                <a:lnTo>
                  <a:pt x="139469" y="40570"/>
                </a:lnTo>
                <a:lnTo>
                  <a:pt x="127458" y="3795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InkAnnotation84"/>
          <p:cNvSpPr/>
          <p:nvPr/>
        </p:nvSpPr>
        <p:spPr>
          <a:xfrm>
            <a:off x="3144960" y="2362320"/>
            <a:ext cx="260280" cy="441360"/>
          </a:xfrm>
          <a:custGeom>
            <a:avLst/>
            <a:gdLst>
              <a:gd name="textAreaLeft" fmla="*/ 0 w 260280"/>
              <a:gd name="textAreaRight" fmla="*/ 260640 w 26028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60516" h="441413">
                <a:moveTo>
                  <a:pt x="231444" y="90892"/>
                </a:moveTo>
                <a:lnTo>
                  <a:pt x="235489" y="90892"/>
                </a:lnTo>
                <a:lnTo>
                  <a:pt x="237528" y="90046"/>
                </a:lnTo>
                <a:lnTo>
                  <a:pt x="245312" y="84332"/>
                </a:lnTo>
                <a:lnTo>
                  <a:pt x="252496" y="71315"/>
                </a:lnTo>
                <a:lnTo>
                  <a:pt x="258755" y="58186"/>
                </a:lnTo>
                <a:lnTo>
                  <a:pt x="260515" y="51521"/>
                </a:lnTo>
                <a:lnTo>
                  <a:pt x="260139" y="47711"/>
                </a:lnTo>
                <a:lnTo>
                  <a:pt x="257462" y="38963"/>
                </a:lnTo>
                <a:lnTo>
                  <a:pt x="254716" y="35106"/>
                </a:lnTo>
                <a:lnTo>
                  <a:pt x="247149" y="28563"/>
                </a:lnTo>
                <a:lnTo>
                  <a:pt x="241914" y="24786"/>
                </a:lnTo>
                <a:lnTo>
                  <a:pt x="229324" y="16074"/>
                </a:lnTo>
                <a:lnTo>
                  <a:pt x="221564" y="12227"/>
                </a:lnTo>
                <a:lnTo>
                  <a:pt x="213004" y="8815"/>
                </a:lnTo>
                <a:lnTo>
                  <a:pt x="203911" y="5694"/>
                </a:lnTo>
                <a:lnTo>
                  <a:pt x="194462" y="3614"/>
                </a:lnTo>
                <a:lnTo>
                  <a:pt x="184776" y="2226"/>
                </a:lnTo>
                <a:lnTo>
                  <a:pt x="174932" y="1302"/>
                </a:lnTo>
                <a:lnTo>
                  <a:pt x="164136" y="685"/>
                </a:lnTo>
                <a:lnTo>
                  <a:pt x="140852" y="0"/>
                </a:lnTo>
                <a:lnTo>
                  <a:pt x="128716" y="664"/>
                </a:lnTo>
                <a:lnTo>
                  <a:pt x="116392" y="1954"/>
                </a:lnTo>
                <a:lnTo>
                  <a:pt x="103943" y="3660"/>
                </a:lnTo>
                <a:lnTo>
                  <a:pt x="91410" y="6491"/>
                </a:lnTo>
                <a:lnTo>
                  <a:pt x="78821" y="10071"/>
                </a:lnTo>
                <a:lnTo>
                  <a:pt x="66196" y="14152"/>
                </a:lnTo>
                <a:lnTo>
                  <a:pt x="55239" y="18565"/>
                </a:lnTo>
                <a:lnTo>
                  <a:pt x="45394" y="23201"/>
                </a:lnTo>
                <a:lnTo>
                  <a:pt x="36291" y="27985"/>
                </a:lnTo>
                <a:lnTo>
                  <a:pt x="27682" y="33714"/>
                </a:lnTo>
                <a:lnTo>
                  <a:pt x="19403" y="40073"/>
                </a:lnTo>
                <a:lnTo>
                  <a:pt x="11343" y="46853"/>
                </a:lnTo>
                <a:lnTo>
                  <a:pt x="5970" y="53913"/>
                </a:lnTo>
                <a:lnTo>
                  <a:pt x="2388" y="61159"/>
                </a:lnTo>
                <a:lnTo>
                  <a:pt x="0" y="68530"/>
                </a:lnTo>
                <a:lnTo>
                  <a:pt x="102" y="75985"/>
                </a:lnTo>
                <a:lnTo>
                  <a:pt x="1863" y="83494"/>
                </a:lnTo>
                <a:lnTo>
                  <a:pt x="4730" y="91040"/>
                </a:lnTo>
                <a:lnTo>
                  <a:pt x="12431" y="103940"/>
                </a:lnTo>
                <a:lnTo>
                  <a:pt x="16855" y="109751"/>
                </a:lnTo>
                <a:lnTo>
                  <a:pt x="23192" y="115318"/>
                </a:lnTo>
                <a:lnTo>
                  <a:pt x="30803" y="120723"/>
                </a:lnTo>
                <a:lnTo>
                  <a:pt x="39263" y="126019"/>
                </a:lnTo>
                <a:lnTo>
                  <a:pt x="48290" y="131244"/>
                </a:lnTo>
                <a:lnTo>
                  <a:pt x="67352" y="141564"/>
                </a:lnTo>
                <a:lnTo>
                  <a:pt x="78022" y="145840"/>
                </a:lnTo>
                <a:lnTo>
                  <a:pt x="89369" y="149537"/>
                </a:lnTo>
                <a:lnTo>
                  <a:pt x="112420" y="155903"/>
                </a:lnTo>
                <a:lnTo>
                  <a:pt x="133953" y="161555"/>
                </a:lnTo>
                <a:lnTo>
                  <a:pt x="143590" y="163401"/>
                </a:lnTo>
                <a:lnTo>
                  <a:pt x="152555" y="164631"/>
                </a:lnTo>
                <a:lnTo>
                  <a:pt x="161071" y="165452"/>
                </a:lnTo>
                <a:lnTo>
                  <a:pt x="168442" y="164305"/>
                </a:lnTo>
                <a:lnTo>
                  <a:pt x="175050" y="161848"/>
                </a:lnTo>
                <a:lnTo>
                  <a:pt x="186906" y="155448"/>
                </a:lnTo>
                <a:lnTo>
                  <a:pt x="197821" y="149782"/>
                </a:lnTo>
                <a:lnTo>
                  <a:pt x="202255" y="146238"/>
                </a:lnTo>
                <a:lnTo>
                  <a:pt x="209441" y="137786"/>
                </a:lnTo>
                <a:lnTo>
                  <a:pt x="215456" y="128385"/>
                </a:lnTo>
                <a:lnTo>
                  <a:pt x="220105" y="119409"/>
                </a:lnTo>
                <a:lnTo>
                  <a:pt x="222171" y="112597"/>
                </a:lnTo>
                <a:lnTo>
                  <a:pt x="221876" y="109596"/>
                </a:lnTo>
                <a:lnTo>
                  <a:pt x="220832" y="106748"/>
                </a:lnTo>
                <a:lnTo>
                  <a:pt x="216475" y="98994"/>
                </a:lnTo>
                <a:lnTo>
                  <a:pt x="212239" y="102700"/>
                </a:lnTo>
                <a:lnTo>
                  <a:pt x="211021" y="105538"/>
                </a:lnTo>
                <a:lnTo>
                  <a:pt x="208460" y="117622"/>
                </a:lnTo>
                <a:lnTo>
                  <a:pt x="204860" y="127043"/>
                </a:lnTo>
                <a:lnTo>
                  <a:pt x="202715" y="133619"/>
                </a:lnTo>
                <a:lnTo>
                  <a:pt x="200438" y="141390"/>
                </a:lnTo>
                <a:lnTo>
                  <a:pt x="198073" y="149958"/>
                </a:lnTo>
                <a:lnTo>
                  <a:pt x="196497" y="158209"/>
                </a:lnTo>
                <a:lnTo>
                  <a:pt x="195446" y="166250"/>
                </a:lnTo>
                <a:lnTo>
                  <a:pt x="194745" y="174151"/>
                </a:lnTo>
                <a:lnTo>
                  <a:pt x="193431" y="183651"/>
                </a:lnTo>
                <a:lnTo>
                  <a:pt x="189714" y="205496"/>
                </a:lnTo>
                <a:lnTo>
                  <a:pt x="182861" y="241595"/>
                </a:lnTo>
                <a:lnTo>
                  <a:pt x="181276" y="253168"/>
                </a:lnTo>
                <a:lnTo>
                  <a:pt x="180218" y="264269"/>
                </a:lnTo>
                <a:lnTo>
                  <a:pt x="179514" y="275057"/>
                </a:lnTo>
                <a:lnTo>
                  <a:pt x="179044" y="286482"/>
                </a:lnTo>
                <a:lnTo>
                  <a:pt x="178522" y="310466"/>
                </a:lnTo>
                <a:lnTo>
                  <a:pt x="177536" y="321941"/>
                </a:lnTo>
                <a:lnTo>
                  <a:pt x="176032" y="332978"/>
                </a:lnTo>
                <a:lnTo>
                  <a:pt x="174183" y="343723"/>
                </a:lnTo>
                <a:lnTo>
                  <a:pt x="172950" y="354273"/>
                </a:lnTo>
                <a:lnTo>
                  <a:pt x="172128" y="364692"/>
                </a:lnTo>
                <a:lnTo>
                  <a:pt x="171580" y="375026"/>
                </a:lnTo>
                <a:lnTo>
                  <a:pt x="172061" y="383608"/>
                </a:lnTo>
                <a:lnTo>
                  <a:pt x="173229" y="391023"/>
                </a:lnTo>
                <a:lnTo>
                  <a:pt x="175937" y="403777"/>
                </a:lnTo>
                <a:lnTo>
                  <a:pt x="177141" y="415090"/>
                </a:lnTo>
                <a:lnTo>
                  <a:pt x="179934" y="425763"/>
                </a:lnTo>
                <a:lnTo>
                  <a:pt x="184580" y="438321"/>
                </a:lnTo>
                <a:lnTo>
                  <a:pt x="185808" y="439352"/>
                </a:lnTo>
                <a:lnTo>
                  <a:pt x="187474" y="440038"/>
                </a:lnTo>
                <a:lnTo>
                  <a:pt x="193344" y="4414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InkAnnotation85"/>
          <p:cNvSpPr/>
          <p:nvPr/>
        </p:nvSpPr>
        <p:spPr>
          <a:xfrm>
            <a:off x="3475080" y="2468520"/>
            <a:ext cx="270000" cy="308160"/>
          </a:xfrm>
          <a:custGeom>
            <a:avLst/>
            <a:gdLst>
              <a:gd name="textAreaLeft" fmla="*/ 0 w 270000"/>
              <a:gd name="textAreaRight" fmla="*/ 270360 w 27000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269722" h="307863">
                <a:moveTo>
                  <a:pt x="68540" y="0"/>
                </a:moveTo>
                <a:lnTo>
                  <a:pt x="68540" y="10606"/>
                </a:lnTo>
                <a:lnTo>
                  <a:pt x="67693" y="12998"/>
                </a:lnTo>
                <a:lnTo>
                  <a:pt x="60251" y="25177"/>
                </a:lnTo>
                <a:lnTo>
                  <a:pt x="57934" y="29485"/>
                </a:lnTo>
                <a:lnTo>
                  <a:pt x="55543" y="34896"/>
                </a:lnTo>
                <a:lnTo>
                  <a:pt x="53102" y="41044"/>
                </a:lnTo>
                <a:lnTo>
                  <a:pt x="50628" y="47683"/>
                </a:lnTo>
                <a:lnTo>
                  <a:pt x="48132" y="53802"/>
                </a:lnTo>
                <a:lnTo>
                  <a:pt x="45621" y="59575"/>
                </a:lnTo>
                <a:lnTo>
                  <a:pt x="43101" y="65116"/>
                </a:lnTo>
                <a:lnTo>
                  <a:pt x="39727" y="71351"/>
                </a:lnTo>
                <a:lnTo>
                  <a:pt x="35785" y="78048"/>
                </a:lnTo>
                <a:lnTo>
                  <a:pt x="31463" y="85052"/>
                </a:lnTo>
                <a:lnTo>
                  <a:pt x="27735" y="91415"/>
                </a:lnTo>
                <a:lnTo>
                  <a:pt x="24403" y="97350"/>
                </a:lnTo>
                <a:lnTo>
                  <a:pt x="18444" y="108460"/>
                </a:lnTo>
                <a:lnTo>
                  <a:pt x="5132" y="134520"/>
                </a:lnTo>
                <a:lnTo>
                  <a:pt x="3409" y="139633"/>
                </a:lnTo>
                <a:lnTo>
                  <a:pt x="2259" y="144736"/>
                </a:lnTo>
                <a:lnTo>
                  <a:pt x="981" y="154074"/>
                </a:lnTo>
                <a:lnTo>
                  <a:pt x="262" y="163244"/>
                </a:lnTo>
                <a:lnTo>
                  <a:pt x="0" y="167061"/>
                </a:lnTo>
                <a:lnTo>
                  <a:pt x="6898" y="161443"/>
                </a:lnTo>
                <a:lnTo>
                  <a:pt x="19889" y="153763"/>
                </a:lnTo>
                <a:lnTo>
                  <a:pt x="39450" y="141139"/>
                </a:lnTo>
                <a:lnTo>
                  <a:pt x="76343" y="116695"/>
                </a:lnTo>
                <a:lnTo>
                  <a:pt x="84749" y="112510"/>
                </a:lnTo>
                <a:lnTo>
                  <a:pt x="93739" y="108874"/>
                </a:lnTo>
                <a:lnTo>
                  <a:pt x="103119" y="105602"/>
                </a:lnTo>
                <a:lnTo>
                  <a:pt x="112759" y="102575"/>
                </a:lnTo>
                <a:lnTo>
                  <a:pt x="132502" y="96954"/>
                </a:lnTo>
                <a:lnTo>
                  <a:pt x="142508" y="95116"/>
                </a:lnTo>
                <a:lnTo>
                  <a:pt x="152565" y="93891"/>
                </a:lnTo>
                <a:lnTo>
                  <a:pt x="162657" y="93074"/>
                </a:lnTo>
                <a:lnTo>
                  <a:pt x="171925" y="93376"/>
                </a:lnTo>
                <a:lnTo>
                  <a:pt x="180643" y="94424"/>
                </a:lnTo>
                <a:lnTo>
                  <a:pt x="188995" y="95969"/>
                </a:lnTo>
                <a:lnTo>
                  <a:pt x="197104" y="97846"/>
                </a:lnTo>
                <a:lnTo>
                  <a:pt x="205049" y="99945"/>
                </a:lnTo>
                <a:lnTo>
                  <a:pt x="212886" y="102190"/>
                </a:lnTo>
                <a:lnTo>
                  <a:pt x="219804" y="105380"/>
                </a:lnTo>
                <a:lnTo>
                  <a:pt x="226109" y="109200"/>
                </a:lnTo>
                <a:lnTo>
                  <a:pt x="232006" y="113440"/>
                </a:lnTo>
                <a:lnTo>
                  <a:pt x="237631" y="117960"/>
                </a:lnTo>
                <a:lnTo>
                  <a:pt x="243074" y="122667"/>
                </a:lnTo>
                <a:lnTo>
                  <a:pt x="248396" y="127498"/>
                </a:lnTo>
                <a:lnTo>
                  <a:pt x="252791" y="134105"/>
                </a:lnTo>
                <a:lnTo>
                  <a:pt x="256567" y="141897"/>
                </a:lnTo>
                <a:lnTo>
                  <a:pt x="259931" y="150479"/>
                </a:lnTo>
                <a:lnTo>
                  <a:pt x="265928" y="166786"/>
                </a:lnTo>
                <a:lnTo>
                  <a:pt x="268711" y="174691"/>
                </a:lnTo>
                <a:lnTo>
                  <a:pt x="269721" y="183347"/>
                </a:lnTo>
                <a:lnTo>
                  <a:pt x="269547" y="192505"/>
                </a:lnTo>
                <a:lnTo>
                  <a:pt x="268585" y="201997"/>
                </a:lnTo>
                <a:lnTo>
                  <a:pt x="267097" y="210865"/>
                </a:lnTo>
                <a:lnTo>
                  <a:pt x="265258" y="219316"/>
                </a:lnTo>
                <a:lnTo>
                  <a:pt x="263185" y="227491"/>
                </a:lnTo>
                <a:lnTo>
                  <a:pt x="260956" y="235481"/>
                </a:lnTo>
                <a:lnTo>
                  <a:pt x="256223" y="251132"/>
                </a:lnTo>
                <a:lnTo>
                  <a:pt x="252929" y="258015"/>
                </a:lnTo>
                <a:lnTo>
                  <a:pt x="249039" y="264297"/>
                </a:lnTo>
                <a:lnTo>
                  <a:pt x="244753" y="270178"/>
                </a:lnTo>
                <a:lnTo>
                  <a:pt x="240202" y="275792"/>
                </a:lnTo>
                <a:lnTo>
                  <a:pt x="235475" y="281228"/>
                </a:lnTo>
                <a:lnTo>
                  <a:pt x="230630" y="286546"/>
                </a:lnTo>
                <a:lnTo>
                  <a:pt x="224860" y="290937"/>
                </a:lnTo>
                <a:lnTo>
                  <a:pt x="218473" y="294712"/>
                </a:lnTo>
                <a:lnTo>
                  <a:pt x="211675" y="298074"/>
                </a:lnTo>
                <a:lnTo>
                  <a:pt x="204603" y="301163"/>
                </a:lnTo>
                <a:lnTo>
                  <a:pt x="197349" y="304069"/>
                </a:lnTo>
                <a:lnTo>
                  <a:pt x="189973" y="306853"/>
                </a:lnTo>
                <a:lnTo>
                  <a:pt x="182515" y="307862"/>
                </a:lnTo>
                <a:lnTo>
                  <a:pt x="175003" y="307688"/>
                </a:lnTo>
                <a:lnTo>
                  <a:pt x="167455" y="306726"/>
                </a:lnTo>
                <a:lnTo>
                  <a:pt x="159884" y="305237"/>
                </a:lnTo>
                <a:lnTo>
                  <a:pt x="152296" y="303398"/>
                </a:lnTo>
                <a:lnTo>
                  <a:pt x="144697" y="301326"/>
                </a:lnTo>
                <a:lnTo>
                  <a:pt x="136245" y="298251"/>
                </a:lnTo>
                <a:lnTo>
                  <a:pt x="127223" y="294507"/>
                </a:lnTo>
                <a:lnTo>
                  <a:pt x="117822" y="290318"/>
                </a:lnTo>
                <a:lnTo>
                  <a:pt x="110708" y="285832"/>
                </a:lnTo>
                <a:lnTo>
                  <a:pt x="105119" y="281148"/>
                </a:lnTo>
                <a:lnTo>
                  <a:pt x="91400" y="2667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InkAnnotation86"/>
          <p:cNvSpPr/>
          <p:nvPr/>
        </p:nvSpPr>
        <p:spPr>
          <a:xfrm>
            <a:off x="3521160" y="2441520"/>
            <a:ext cx="357120" cy="50760"/>
          </a:xfrm>
          <a:custGeom>
            <a:avLst/>
            <a:gdLst>
              <a:gd name="textAreaLeft" fmla="*/ 0 w 357120"/>
              <a:gd name="textAreaRight" fmla="*/ 357120 w 357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58141" h="49883">
                <a:moveTo>
                  <a:pt x="0" y="19402"/>
                </a:moveTo>
                <a:lnTo>
                  <a:pt x="4044" y="19402"/>
                </a:lnTo>
                <a:lnTo>
                  <a:pt x="6930" y="18556"/>
                </a:lnTo>
                <a:lnTo>
                  <a:pt x="10546" y="17144"/>
                </a:lnTo>
                <a:lnTo>
                  <a:pt x="20427" y="12841"/>
                </a:lnTo>
                <a:lnTo>
                  <a:pt x="28552" y="9995"/>
                </a:lnTo>
                <a:lnTo>
                  <a:pt x="34274" y="8051"/>
                </a:lnTo>
                <a:lnTo>
                  <a:pt x="41476" y="6755"/>
                </a:lnTo>
                <a:lnTo>
                  <a:pt x="49664" y="5890"/>
                </a:lnTo>
                <a:lnTo>
                  <a:pt x="58509" y="5315"/>
                </a:lnTo>
                <a:lnTo>
                  <a:pt x="69486" y="4084"/>
                </a:lnTo>
                <a:lnTo>
                  <a:pt x="95230" y="458"/>
                </a:lnTo>
                <a:lnTo>
                  <a:pt x="108359" y="0"/>
                </a:lnTo>
                <a:lnTo>
                  <a:pt x="121347" y="541"/>
                </a:lnTo>
                <a:lnTo>
                  <a:pt x="134237" y="1748"/>
                </a:lnTo>
                <a:lnTo>
                  <a:pt x="147912" y="3399"/>
                </a:lnTo>
                <a:lnTo>
                  <a:pt x="176652" y="7492"/>
                </a:lnTo>
                <a:lnTo>
                  <a:pt x="266822" y="22011"/>
                </a:lnTo>
                <a:lnTo>
                  <a:pt x="281174" y="25375"/>
                </a:lnTo>
                <a:lnTo>
                  <a:pt x="294976" y="29311"/>
                </a:lnTo>
                <a:lnTo>
                  <a:pt x="358140" y="4988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InkAnnotation87"/>
          <p:cNvSpPr/>
          <p:nvPr/>
        </p:nvSpPr>
        <p:spPr>
          <a:xfrm>
            <a:off x="1249200" y="2933640"/>
            <a:ext cx="206640" cy="244440"/>
          </a:xfrm>
          <a:custGeom>
            <a:avLst/>
            <a:gdLst>
              <a:gd name="textAreaLeft" fmla="*/ 0 w 206640"/>
              <a:gd name="textAreaRight" fmla="*/ 207000 w 206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05487" h="243838">
                <a:moveTo>
                  <a:pt x="7612" y="22857"/>
                </a:moveTo>
                <a:lnTo>
                  <a:pt x="7612" y="15330"/>
                </a:lnTo>
                <a:lnTo>
                  <a:pt x="1581" y="15249"/>
                </a:lnTo>
                <a:lnTo>
                  <a:pt x="20" y="15237"/>
                </a:lnTo>
                <a:lnTo>
                  <a:pt x="0" y="19283"/>
                </a:lnTo>
                <a:lnTo>
                  <a:pt x="844" y="20474"/>
                </a:lnTo>
                <a:lnTo>
                  <a:pt x="2253" y="21269"/>
                </a:lnTo>
                <a:lnTo>
                  <a:pt x="6077" y="22151"/>
                </a:lnTo>
                <a:lnTo>
                  <a:pt x="10599" y="22543"/>
                </a:lnTo>
                <a:lnTo>
                  <a:pt x="17689" y="22718"/>
                </a:lnTo>
                <a:lnTo>
                  <a:pt x="21950" y="22764"/>
                </a:lnTo>
                <a:lnTo>
                  <a:pt x="27330" y="21948"/>
                </a:lnTo>
                <a:lnTo>
                  <a:pt x="33458" y="20558"/>
                </a:lnTo>
                <a:lnTo>
                  <a:pt x="40082" y="18784"/>
                </a:lnTo>
                <a:lnTo>
                  <a:pt x="47039" y="17602"/>
                </a:lnTo>
                <a:lnTo>
                  <a:pt x="54217" y="16814"/>
                </a:lnTo>
                <a:lnTo>
                  <a:pt x="61542" y="16288"/>
                </a:lnTo>
                <a:lnTo>
                  <a:pt x="68965" y="15091"/>
                </a:lnTo>
                <a:lnTo>
                  <a:pt x="76454" y="13446"/>
                </a:lnTo>
                <a:lnTo>
                  <a:pt x="83987" y="11503"/>
                </a:lnTo>
                <a:lnTo>
                  <a:pt x="91548" y="9361"/>
                </a:lnTo>
                <a:lnTo>
                  <a:pt x="106724" y="4723"/>
                </a:lnTo>
                <a:lnTo>
                  <a:pt x="114327" y="3148"/>
                </a:lnTo>
                <a:lnTo>
                  <a:pt x="121935" y="2098"/>
                </a:lnTo>
                <a:lnTo>
                  <a:pt x="129547" y="1398"/>
                </a:lnTo>
                <a:lnTo>
                  <a:pt x="136315" y="931"/>
                </a:lnTo>
                <a:lnTo>
                  <a:pt x="142521" y="619"/>
                </a:lnTo>
                <a:lnTo>
                  <a:pt x="154778" y="274"/>
                </a:lnTo>
                <a:lnTo>
                  <a:pt x="202931" y="0"/>
                </a:lnTo>
                <a:lnTo>
                  <a:pt x="203865" y="846"/>
                </a:lnTo>
                <a:lnTo>
                  <a:pt x="204487" y="2256"/>
                </a:lnTo>
                <a:lnTo>
                  <a:pt x="205363" y="8286"/>
                </a:lnTo>
                <a:lnTo>
                  <a:pt x="205486" y="10603"/>
                </a:lnTo>
                <a:lnTo>
                  <a:pt x="203365" y="17693"/>
                </a:lnTo>
                <a:lnTo>
                  <a:pt x="201614" y="21955"/>
                </a:lnTo>
                <a:lnTo>
                  <a:pt x="199600" y="26489"/>
                </a:lnTo>
                <a:lnTo>
                  <a:pt x="195105" y="36042"/>
                </a:lnTo>
                <a:lnTo>
                  <a:pt x="191874" y="40961"/>
                </a:lnTo>
                <a:lnTo>
                  <a:pt x="188026" y="45933"/>
                </a:lnTo>
                <a:lnTo>
                  <a:pt x="183768" y="50941"/>
                </a:lnTo>
                <a:lnTo>
                  <a:pt x="180083" y="56820"/>
                </a:lnTo>
                <a:lnTo>
                  <a:pt x="176779" y="63279"/>
                </a:lnTo>
                <a:lnTo>
                  <a:pt x="173730" y="70125"/>
                </a:lnTo>
                <a:lnTo>
                  <a:pt x="170004" y="77229"/>
                </a:lnTo>
                <a:lnTo>
                  <a:pt x="165827" y="84505"/>
                </a:lnTo>
                <a:lnTo>
                  <a:pt x="161349" y="91896"/>
                </a:lnTo>
                <a:lnTo>
                  <a:pt x="151857" y="106881"/>
                </a:lnTo>
                <a:lnTo>
                  <a:pt x="131966" y="137197"/>
                </a:lnTo>
                <a:lnTo>
                  <a:pt x="126921" y="143957"/>
                </a:lnTo>
                <a:lnTo>
                  <a:pt x="121865" y="150157"/>
                </a:lnTo>
                <a:lnTo>
                  <a:pt x="116801" y="155984"/>
                </a:lnTo>
                <a:lnTo>
                  <a:pt x="111731" y="162408"/>
                </a:lnTo>
                <a:lnTo>
                  <a:pt x="106658" y="169231"/>
                </a:lnTo>
                <a:lnTo>
                  <a:pt x="101583" y="176320"/>
                </a:lnTo>
                <a:lnTo>
                  <a:pt x="97353" y="182739"/>
                </a:lnTo>
                <a:lnTo>
                  <a:pt x="93686" y="188711"/>
                </a:lnTo>
                <a:lnTo>
                  <a:pt x="90394" y="194387"/>
                </a:lnTo>
                <a:lnTo>
                  <a:pt x="87354" y="199017"/>
                </a:lnTo>
                <a:lnTo>
                  <a:pt x="81717" y="206419"/>
                </a:lnTo>
                <a:lnTo>
                  <a:pt x="79029" y="210425"/>
                </a:lnTo>
                <a:lnTo>
                  <a:pt x="76390" y="214789"/>
                </a:lnTo>
                <a:lnTo>
                  <a:pt x="70117" y="225870"/>
                </a:lnTo>
                <a:lnTo>
                  <a:pt x="64984" y="231834"/>
                </a:lnTo>
                <a:lnTo>
                  <a:pt x="60487" y="236527"/>
                </a:lnTo>
                <a:lnTo>
                  <a:pt x="53332" y="24383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InkAnnotation88"/>
          <p:cNvSpPr/>
          <p:nvPr/>
        </p:nvSpPr>
        <p:spPr>
          <a:xfrm>
            <a:off x="1241280" y="3094200"/>
            <a:ext cx="138240" cy="1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37161" h="15241">
                <a:moveTo>
                  <a:pt x="0" y="15240"/>
                </a:moveTo>
                <a:lnTo>
                  <a:pt x="40090" y="15240"/>
                </a:lnTo>
                <a:lnTo>
                  <a:pt x="47894" y="14393"/>
                </a:lnTo>
                <a:lnTo>
                  <a:pt x="56482" y="12982"/>
                </a:lnTo>
                <a:lnTo>
                  <a:pt x="65595" y="11195"/>
                </a:lnTo>
                <a:lnTo>
                  <a:pt x="74210" y="9156"/>
                </a:lnTo>
                <a:lnTo>
                  <a:pt x="82493" y="6951"/>
                </a:lnTo>
                <a:lnTo>
                  <a:pt x="90556" y="4634"/>
                </a:lnTo>
                <a:lnTo>
                  <a:pt x="97624" y="3089"/>
                </a:lnTo>
                <a:lnTo>
                  <a:pt x="104029" y="2060"/>
                </a:lnTo>
                <a:lnTo>
                  <a:pt x="109993" y="1373"/>
                </a:lnTo>
                <a:lnTo>
                  <a:pt x="115662" y="916"/>
                </a:lnTo>
                <a:lnTo>
                  <a:pt x="121135" y="611"/>
                </a:lnTo>
                <a:lnTo>
                  <a:pt x="13716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320" bIns="-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InkAnnotation89"/>
          <p:cNvSpPr/>
          <p:nvPr/>
        </p:nvSpPr>
        <p:spPr>
          <a:xfrm>
            <a:off x="1495440" y="2979720"/>
            <a:ext cx="203040" cy="212760"/>
          </a:xfrm>
          <a:custGeom>
            <a:avLst/>
            <a:gdLst>
              <a:gd name="textAreaLeft" fmla="*/ 0 w 203040"/>
              <a:gd name="textAreaRight" fmla="*/ 203400 w 2030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03258" h="212813">
                <a:moveTo>
                  <a:pt x="82277" y="0"/>
                </a:moveTo>
                <a:lnTo>
                  <a:pt x="82277" y="4046"/>
                </a:lnTo>
                <a:lnTo>
                  <a:pt x="81431" y="5237"/>
                </a:lnTo>
                <a:lnTo>
                  <a:pt x="80019" y="6031"/>
                </a:lnTo>
                <a:lnTo>
                  <a:pt x="78232" y="6561"/>
                </a:lnTo>
                <a:lnTo>
                  <a:pt x="77040" y="7761"/>
                </a:lnTo>
                <a:lnTo>
                  <a:pt x="76246" y="9407"/>
                </a:lnTo>
                <a:lnTo>
                  <a:pt x="75716" y="11352"/>
                </a:lnTo>
                <a:lnTo>
                  <a:pt x="72870" y="15769"/>
                </a:lnTo>
                <a:lnTo>
                  <a:pt x="70926" y="18133"/>
                </a:lnTo>
                <a:lnTo>
                  <a:pt x="67936" y="20555"/>
                </a:lnTo>
                <a:lnTo>
                  <a:pt x="64250" y="23017"/>
                </a:lnTo>
                <a:lnTo>
                  <a:pt x="60099" y="25505"/>
                </a:lnTo>
                <a:lnTo>
                  <a:pt x="55638" y="28010"/>
                </a:lnTo>
                <a:lnTo>
                  <a:pt x="46167" y="33051"/>
                </a:lnTo>
                <a:lnTo>
                  <a:pt x="31314" y="40649"/>
                </a:lnTo>
                <a:lnTo>
                  <a:pt x="27135" y="43186"/>
                </a:lnTo>
                <a:lnTo>
                  <a:pt x="23503" y="45724"/>
                </a:lnTo>
                <a:lnTo>
                  <a:pt x="17208" y="50802"/>
                </a:lnTo>
                <a:lnTo>
                  <a:pt x="11589" y="55881"/>
                </a:lnTo>
                <a:lnTo>
                  <a:pt x="6269" y="60961"/>
                </a:lnTo>
                <a:lnTo>
                  <a:pt x="0" y="67075"/>
                </a:lnTo>
                <a:lnTo>
                  <a:pt x="332" y="68423"/>
                </a:lnTo>
                <a:lnTo>
                  <a:pt x="2960" y="72180"/>
                </a:lnTo>
                <a:lnTo>
                  <a:pt x="6949" y="76671"/>
                </a:lnTo>
                <a:lnTo>
                  <a:pt x="9199" y="79054"/>
                </a:lnTo>
                <a:lnTo>
                  <a:pt x="11545" y="80642"/>
                </a:lnTo>
                <a:lnTo>
                  <a:pt x="16409" y="82408"/>
                </a:lnTo>
                <a:lnTo>
                  <a:pt x="20585" y="82879"/>
                </a:lnTo>
                <a:lnTo>
                  <a:pt x="25909" y="83192"/>
                </a:lnTo>
                <a:lnTo>
                  <a:pt x="31999" y="83402"/>
                </a:lnTo>
                <a:lnTo>
                  <a:pt x="38598" y="84388"/>
                </a:lnTo>
                <a:lnTo>
                  <a:pt x="45538" y="85892"/>
                </a:lnTo>
                <a:lnTo>
                  <a:pt x="52704" y="87741"/>
                </a:lnTo>
                <a:lnTo>
                  <a:pt x="60869" y="88974"/>
                </a:lnTo>
                <a:lnTo>
                  <a:pt x="69698" y="89796"/>
                </a:lnTo>
                <a:lnTo>
                  <a:pt x="78971" y="90344"/>
                </a:lnTo>
                <a:lnTo>
                  <a:pt x="87693" y="91556"/>
                </a:lnTo>
                <a:lnTo>
                  <a:pt x="96048" y="93211"/>
                </a:lnTo>
                <a:lnTo>
                  <a:pt x="104158" y="95161"/>
                </a:lnTo>
                <a:lnTo>
                  <a:pt x="112951" y="98154"/>
                </a:lnTo>
                <a:lnTo>
                  <a:pt x="122200" y="101843"/>
                </a:lnTo>
                <a:lnTo>
                  <a:pt x="131752" y="105995"/>
                </a:lnTo>
                <a:lnTo>
                  <a:pt x="140660" y="109610"/>
                </a:lnTo>
                <a:lnTo>
                  <a:pt x="164487" y="118743"/>
                </a:lnTo>
                <a:lnTo>
                  <a:pt x="170950" y="121495"/>
                </a:lnTo>
                <a:lnTo>
                  <a:pt x="176953" y="124177"/>
                </a:lnTo>
                <a:lnTo>
                  <a:pt x="182648" y="127658"/>
                </a:lnTo>
                <a:lnTo>
                  <a:pt x="188138" y="131672"/>
                </a:lnTo>
                <a:lnTo>
                  <a:pt x="193491" y="136041"/>
                </a:lnTo>
                <a:lnTo>
                  <a:pt x="197060" y="140648"/>
                </a:lnTo>
                <a:lnTo>
                  <a:pt x="199439" y="145412"/>
                </a:lnTo>
                <a:lnTo>
                  <a:pt x="201025" y="150281"/>
                </a:lnTo>
                <a:lnTo>
                  <a:pt x="202083" y="154374"/>
                </a:lnTo>
                <a:lnTo>
                  <a:pt x="202787" y="157949"/>
                </a:lnTo>
                <a:lnTo>
                  <a:pt x="203257" y="161180"/>
                </a:lnTo>
                <a:lnTo>
                  <a:pt x="202724" y="165026"/>
                </a:lnTo>
                <a:lnTo>
                  <a:pt x="201522" y="169284"/>
                </a:lnTo>
                <a:lnTo>
                  <a:pt x="199873" y="173816"/>
                </a:lnTo>
                <a:lnTo>
                  <a:pt x="197928" y="177684"/>
                </a:lnTo>
                <a:lnTo>
                  <a:pt x="191145" y="188020"/>
                </a:lnTo>
                <a:lnTo>
                  <a:pt x="188722" y="192233"/>
                </a:lnTo>
                <a:lnTo>
                  <a:pt x="186261" y="196735"/>
                </a:lnTo>
                <a:lnTo>
                  <a:pt x="182926" y="200584"/>
                </a:lnTo>
                <a:lnTo>
                  <a:pt x="179010" y="203996"/>
                </a:lnTo>
                <a:lnTo>
                  <a:pt x="174706" y="207117"/>
                </a:lnTo>
                <a:lnTo>
                  <a:pt x="170143" y="209198"/>
                </a:lnTo>
                <a:lnTo>
                  <a:pt x="165408" y="210585"/>
                </a:lnTo>
                <a:lnTo>
                  <a:pt x="160558" y="211510"/>
                </a:lnTo>
                <a:lnTo>
                  <a:pt x="154784" y="212127"/>
                </a:lnTo>
                <a:lnTo>
                  <a:pt x="148395" y="212538"/>
                </a:lnTo>
                <a:lnTo>
                  <a:pt x="141596" y="212812"/>
                </a:lnTo>
                <a:lnTo>
                  <a:pt x="135369" y="212148"/>
                </a:lnTo>
                <a:lnTo>
                  <a:pt x="129526" y="210859"/>
                </a:lnTo>
                <a:lnTo>
                  <a:pt x="123936" y="209152"/>
                </a:lnTo>
                <a:lnTo>
                  <a:pt x="119363" y="207168"/>
                </a:lnTo>
                <a:lnTo>
                  <a:pt x="115468" y="204999"/>
                </a:lnTo>
                <a:lnTo>
                  <a:pt x="105137" y="1981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InkAnnotation90"/>
          <p:cNvSpPr/>
          <p:nvPr/>
        </p:nvSpPr>
        <p:spPr>
          <a:xfrm>
            <a:off x="1600200" y="2987640"/>
            <a:ext cx="190440" cy="22320"/>
          </a:xfrm>
          <a:custGeom>
            <a:avLst/>
            <a:gdLst>
              <a:gd name="textAreaLeft" fmla="*/ 0 w 190440"/>
              <a:gd name="textAreaRight" fmla="*/ 190800 w 1904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90501" h="21771">
                <a:moveTo>
                  <a:pt x="0" y="21770"/>
                </a:moveTo>
                <a:lnTo>
                  <a:pt x="4045" y="17725"/>
                </a:lnTo>
                <a:lnTo>
                  <a:pt x="6084" y="16533"/>
                </a:lnTo>
                <a:lnTo>
                  <a:pt x="8289" y="15739"/>
                </a:lnTo>
                <a:lnTo>
                  <a:pt x="10606" y="15210"/>
                </a:lnTo>
                <a:lnTo>
                  <a:pt x="12997" y="14010"/>
                </a:lnTo>
                <a:lnTo>
                  <a:pt x="15438" y="12364"/>
                </a:lnTo>
                <a:lnTo>
                  <a:pt x="17912" y="10419"/>
                </a:lnTo>
                <a:lnTo>
                  <a:pt x="22101" y="9123"/>
                </a:lnTo>
                <a:lnTo>
                  <a:pt x="27434" y="8259"/>
                </a:lnTo>
                <a:lnTo>
                  <a:pt x="33530" y="7683"/>
                </a:lnTo>
                <a:lnTo>
                  <a:pt x="39286" y="7299"/>
                </a:lnTo>
                <a:lnTo>
                  <a:pt x="44818" y="7042"/>
                </a:lnTo>
                <a:lnTo>
                  <a:pt x="50198" y="6872"/>
                </a:lnTo>
                <a:lnTo>
                  <a:pt x="56325" y="5911"/>
                </a:lnTo>
                <a:lnTo>
                  <a:pt x="62950" y="4424"/>
                </a:lnTo>
                <a:lnTo>
                  <a:pt x="69907" y="2586"/>
                </a:lnTo>
                <a:lnTo>
                  <a:pt x="77085" y="1361"/>
                </a:lnTo>
                <a:lnTo>
                  <a:pt x="84410" y="544"/>
                </a:lnTo>
                <a:lnTo>
                  <a:pt x="91833" y="0"/>
                </a:lnTo>
                <a:lnTo>
                  <a:pt x="99322" y="483"/>
                </a:lnTo>
                <a:lnTo>
                  <a:pt x="106855" y="1652"/>
                </a:lnTo>
                <a:lnTo>
                  <a:pt x="114417" y="3278"/>
                </a:lnTo>
                <a:lnTo>
                  <a:pt x="122844" y="4363"/>
                </a:lnTo>
                <a:lnTo>
                  <a:pt x="131850" y="5085"/>
                </a:lnTo>
                <a:lnTo>
                  <a:pt x="149193" y="5888"/>
                </a:lnTo>
                <a:lnTo>
                  <a:pt x="162546" y="6245"/>
                </a:lnTo>
                <a:lnTo>
                  <a:pt x="190500" y="65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InkAnnotation91"/>
          <p:cNvSpPr/>
          <p:nvPr/>
        </p:nvSpPr>
        <p:spPr>
          <a:xfrm>
            <a:off x="3117960" y="3090960"/>
            <a:ext cx="276120" cy="345960"/>
          </a:xfrm>
          <a:custGeom>
            <a:avLst/>
            <a:gdLst>
              <a:gd name="textAreaLeft" fmla="*/ 0 w 276120"/>
              <a:gd name="textAreaRight" fmla="*/ 276480 w 27612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76189" h="346207">
                <a:moveTo>
                  <a:pt x="219657" y="94746"/>
                </a:moveTo>
                <a:lnTo>
                  <a:pt x="223702" y="90701"/>
                </a:lnTo>
                <a:lnTo>
                  <a:pt x="226588" y="89509"/>
                </a:lnTo>
                <a:lnTo>
                  <a:pt x="234308" y="88185"/>
                </a:lnTo>
                <a:lnTo>
                  <a:pt x="240085" y="87440"/>
                </a:lnTo>
                <a:lnTo>
                  <a:pt x="241743" y="85642"/>
                </a:lnTo>
                <a:lnTo>
                  <a:pt x="245842" y="79129"/>
                </a:lnTo>
                <a:lnTo>
                  <a:pt x="252744" y="72847"/>
                </a:lnTo>
                <a:lnTo>
                  <a:pt x="260609" y="67234"/>
                </a:lnTo>
                <a:lnTo>
                  <a:pt x="266927" y="61916"/>
                </a:lnTo>
                <a:lnTo>
                  <a:pt x="275244" y="54162"/>
                </a:lnTo>
                <a:lnTo>
                  <a:pt x="276188" y="50757"/>
                </a:lnTo>
                <a:lnTo>
                  <a:pt x="275972" y="46793"/>
                </a:lnTo>
                <a:lnTo>
                  <a:pt x="273473" y="37874"/>
                </a:lnTo>
                <a:lnTo>
                  <a:pt x="269539" y="28265"/>
                </a:lnTo>
                <a:lnTo>
                  <a:pt x="266459" y="24179"/>
                </a:lnTo>
                <a:lnTo>
                  <a:pt x="258520" y="17381"/>
                </a:lnTo>
                <a:lnTo>
                  <a:pt x="253186" y="14383"/>
                </a:lnTo>
                <a:lnTo>
                  <a:pt x="247090" y="11537"/>
                </a:lnTo>
                <a:lnTo>
                  <a:pt x="240485" y="8793"/>
                </a:lnTo>
                <a:lnTo>
                  <a:pt x="232696" y="6118"/>
                </a:lnTo>
                <a:lnTo>
                  <a:pt x="224117" y="3487"/>
                </a:lnTo>
                <a:lnTo>
                  <a:pt x="215010" y="887"/>
                </a:lnTo>
                <a:lnTo>
                  <a:pt x="205553" y="0"/>
                </a:lnTo>
                <a:lnTo>
                  <a:pt x="195861" y="256"/>
                </a:lnTo>
                <a:lnTo>
                  <a:pt x="186013" y="1272"/>
                </a:lnTo>
                <a:lnTo>
                  <a:pt x="174368" y="1950"/>
                </a:lnTo>
                <a:lnTo>
                  <a:pt x="147882" y="2704"/>
                </a:lnTo>
                <a:lnTo>
                  <a:pt x="134554" y="4598"/>
                </a:lnTo>
                <a:lnTo>
                  <a:pt x="121435" y="7554"/>
                </a:lnTo>
                <a:lnTo>
                  <a:pt x="108456" y="11218"/>
                </a:lnTo>
                <a:lnTo>
                  <a:pt x="95569" y="15354"/>
                </a:lnTo>
                <a:lnTo>
                  <a:pt x="82745" y="19805"/>
                </a:lnTo>
                <a:lnTo>
                  <a:pt x="69963" y="24465"/>
                </a:lnTo>
                <a:lnTo>
                  <a:pt x="58901" y="29266"/>
                </a:lnTo>
                <a:lnTo>
                  <a:pt x="48986" y="34159"/>
                </a:lnTo>
                <a:lnTo>
                  <a:pt x="39837" y="39115"/>
                </a:lnTo>
                <a:lnTo>
                  <a:pt x="32044" y="44959"/>
                </a:lnTo>
                <a:lnTo>
                  <a:pt x="25155" y="51394"/>
                </a:lnTo>
                <a:lnTo>
                  <a:pt x="12985" y="64472"/>
                </a:lnTo>
                <a:lnTo>
                  <a:pt x="1932" y="75929"/>
                </a:lnTo>
                <a:lnTo>
                  <a:pt x="0" y="82201"/>
                </a:lnTo>
                <a:lnTo>
                  <a:pt x="406" y="88923"/>
                </a:lnTo>
                <a:lnTo>
                  <a:pt x="2370" y="95944"/>
                </a:lnTo>
                <a:lnTo>
                  <a:pt x="5372" y="101471"/>
                </a:lnTo>
                <a:lnTo>
                  <a:pt x="13224" y="109871"/>
                </a:lnTo>
                <a:lnTo>
                  <a:pt x="18535" y="114142"/>
                </a:lnTo>
                <a:lnTo>
                  <a:pt x="24616" y="118684"/>
                </a:lnTo>
                <a:lnTo>
                  <a:pt x="31210" y="123405"/>
                </a:lnTo>
                <a:lnTo>
                  <a:pt x="39839" y="127398"/>
                </a:lnTo>
                <a:lnTo>
                  <a:pt x="49825" y="130908"/>
                </a:lnTo>
                <a:lnTo>
                  <a:pt x="60716" y="134094"/>
                </a:lnTo>
                <a:lnTo>
                  <a:pt x="71363" y="136218"/>
                </a:lnTo>
                <a:lnTo>
                  <a:pt x="81848" y="137634"/>
                </a:lnTo>
                <a:lnTo>
                  <a:pt x="92224" y="138578"/>
                </a:lnTo>
                <a:lnTo>
                  <a:pt x="103375" y="139208"/>
                </a:lnTo>
                <a:lnTo>
                  <a:pt x="127054" y="139907"/>
                </a:lnTo>
                <a:lnTo>
                  <a:pt x="138449" y="139246"/>
                </a:lnTo>
                <a:lnTo>
                  <a:pt x="149431" y="137959"/>
                </a:lnTo>
                <a:lnTo>
                  <a:pt x="160140" y="136255"/>
                </a:lnTo>
                <a:lnTo>
                  <a:pt x="168973" y="134272"/>
                </a:lnTo>
                <a:lnTo>
                  <a:pt x="176554" y="132103"/>
                </a:lnTo>
                <a:lnTo>
                  <a:pt x="183302" y="129811"/>
                </a:lnTo>
                <a:lnTo>
                  <a:pt x="189494" y="127436"/>
                </a:lnTo>
                <a:lnTo>
                  <a:pt x="195315" y="125006"/>
                </a:lnTo>
                <a:lnTo>
                  <a:pt x="200889" y="122539"/>
                </a:lnTo>
                <a:lnTo>
                  <a:pt x="209340" y="117541"/>
                </a:lnTo>
                <a:lnTo>
                  <a:pt x="212779" y="115023"/>
                </a:lnTo>
                <a:lnTo>
                  <a:pt x="215072" y="112497"/>
                </a:lnTo>
                <a:lnTo>
                  <a:pt x="216601" y="109967"/>
                </a:lnTo>
                <a:lnTo>
                  <a:pt x="217619" y="107433"/>
                </a:lnTo>
                <a:lnTo>
                  <a:pt x="218751" y="100103"/>
                </a:lnTo>
                <a:lnTo>
                  <a:pt x="219053" y="95777"/>
                </a:lnTo>
                <a:lnTo>
                  <a:pt x="218408" y="92893"/>
                </a:lnTo>
                <a:lnTo>
                  <a:pt x="217131" y="90971"/>
                </a:lnTo>
                <a:lnTo>
                  <a:pt x="215433" y="89690"/>
                </a:lnTo>
                <a:lnTo>
                  <a:pt x="214301" y="87989"/>
                </a:lnTo>
                <a:lnTo>
                  <a:pt x="213044" y="83841"/>
                </a:lnTo>
                <a:lnTo>
                  <a:pt x="211862" y="82396"/>
                </a:lnTo>
                <a:lnTo>
                  <a:pt x="210227" y="81433"/>
                </a:lnTo>
                <a:lnTo>
                  <a:pt x="208290" y="80790"/>
                </a:lnTo>
                <a:lnTo>
                  <a:pt x="206153" y="81209"/>
                </a:lnTo>
                <a:lnTo>
                  <a:pt x="201520" y="83932"/>
                </a:lnTo>
                <a:lnTo>
                  <a:pt x="194151" y="90225"/>
                </a:lnTo>
                <a:lnTo>
                  <a:pt x="189130" y="97252"/>
                </a:lnTo>
                <a:lnTo>
                  <a:pt x="184076" y="106867"/>
                </a:lnTo>
                <a:lnTo>
                  <a:pt x="181543" y="112987"/>
                </a:lnTo>
                <a:lnTo>
                  <a:pt x="179008" y="119607"/>
                </a:lnTo>
                <a:lnTo>
                  <a:pt x="173933" y="133735"/>
                </a:lnTo>
                <a:lnTo>
                  <a:pt x="163777" y="163502"/>
                </a:lnTo>
                <a:lnTo>
                  <a:pt x="162084" y="171910"/>
                </a:lnTo>
                <a:lnTo>
                  <a:pt x="160955" y="180902"/>
                </a:lnTo>
                <a:lnTo>
                  <a:pt x="160202" y="190283"/>
                </a:lnTo>
                <a:lnTo>
                  <a:pt x="158854" y="199924"/>
                </a:lnTo>
                <a:lnTo>
                  <a:pt x="157108" y="209738"/>
                </a:lnTo>
                <a:lnTo>
                  <a:pt x="155098" y="219668"/>
                </a:lnTo>
                <a:lnTo>
                  <a:pt x="153757" y="229674"/>
                </a:lnTo>
                <a:lnTo>
                  <a:pt x="152864" y="239731"/>
                </a:lnTo>
                <a:lnTo>
                  <a:pt x="152268" y="249823"/>
                </a:lnTo>
                <a:lnTo>
                  <a:pt x="152718" y="259090"/>
                </a:lnTo>
                <a:lnTo>
                  <a:pt x="153864" y="267809"/>
                </a:lnTo>
                <a:lnTo>
                  <a:pt x="155476" y="276162"/>
                </a:lnTo>
                <a:lnTo>
                  <a:pt x="156549" y="283423"/>
                </a:lnTo>
                <a:lnTo>
                  <a:pt x="157265" y="289958"/>
                </a:lnTo>
                <a:lnTo>
                  <a:pt x="157742" y="296007"/>
                </a:lnTo>
                <a:lnTo>
                  <a:pt x="158907" y="302580"/>
                </a:lnTo>
                <a:lnTo>
                  <a:pt x="160531" y="309502"/>
                </a:lnTo>
                <a:lnTo>
                  <a:pt x="162459" y="316657"/>
                </a:lnTo>
                <a:lnTo>
                  <a:pt x="165439" y="322273"/>
                </a:lnTo>
                <a:lnTo>
                  <a:pt x="173264" y="330772"/>
                </a:lnTo>
                <a:lnTo>
                  <a:pt x="189177" y="34620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InkAnnotation92"/>
          <p:cNvSpPr/>
          <p:nvPr/>
        </p:nvSpPr>
        <p:spPr>
          <a:xfrm>
            <a:off x="3444840" y="3154320"/>
            <a:ext cx="281160" cy="363600"/>
          </a:xfrm>
          <a:custGeom>
            <a:avLst/>
            <a:gdLst>
              <a:gd name="textAreaLeft" fmla="*/ 0 w 281160"/>
              <a:gd name="textAreaRight" fmla="*/ 281520 w 281160"/>
              <a:gd name="textAreaTop" fmla="*/ 0 h 363600"/>
              <a:gd name="textAreaBottom" fmla="*/ 363600 h 363600"/>
            </a:gdLst>
            <a:ahLst/>
            <a:rect l="textAreaLeft" t="textAreaTop" r="textAreaRight" b="textAreaBottom"/>
            <a:pathLst>
              <a:path w="280224" h="363003">
                <a:moveTo>
                  <a:pt x="82628" y="0"/>
                </a:moveTo>
                <a:lnTo>
                  <a:pt x="82628" y="4045"/>
                </a:lnTo>
                <a:lnTo>
                  <a:pt x="81782" y="6084"/>
                </a:lnTo>
                <a:lnTo>
                  <a:pt x="76545" y="12997"/>
                </a:lnTo>
                <a:lnTo>
                  <a:pt x="69631" y="21255"/>
                </a:lnTo>
                <a:lnTo>
                  <a:pt x="64716" y="29485"/>
                </a:lnTo>
                <a:lnTo>
                  <a:pt x="59709" y="38786"/>
                </a:lnTo>
                <a:lnTo>
                  <a:pt x="53816" y="48565"/>
                </a:lnTo>
                <a:lnTo>
                  <a:pt x="45551" y="58555"/>
                </a:lnTo>
                <a:lnTo>
                  <a:pt x="38492" y="68641"/>
                </a:lnTo>
                <a:lnTo>
                  <a:pt x="32532" y="78767"/>
                </a:lnTo>
                <a:lnTo>
                  <a:pt x="27061" y="88912"/>
                </a:lnTo>
                <a:lnTo>
                  <a:pt x="19221" y="100098"/>
                </a:lnTo>
                <a:lnTo>
                  <a:pt x="14090" y="108270"/>
                </a:lnTo>
                <a:lnTo>
                  <a:pt x="9833" y="116700"/>
                </a:lnTo>
                <a:lnTo>
                  <a:pt x="6591" y="126206"/>
                </a:lnTo>
                <a:lnTo>
                  <a:pt x="0" y="135551"/>
                </a:lnTo>
                <a:lnTo>
                  <a:pt x="450" y="136087"/>
                </a:lnTo>
                <a:lnTo>
                  <a:pt x="1596" y="136445"/>
                </a:lnTo>
                <a:lnTo>
                  <a:pt x="5474" y="137019"/>
                </a:lnTo>
                <a:lnTo>
                  <a:pt x="10190" y="133073"/>
                </a:lnTo>
                <a:lnTo>
                  <a:pt x="16950" y="126542"/>
                </a:lnTo>
                <a:lnTo>
                  <a:pt x="28361" y="115199"/>
                </a:lnTo>
                <a:lnTo>
                  <a:pt x="33750" y="111513"/>
                </a:lnTo>
                <a:lnTo>
                  <a:pt x="39883" y="108208"/>
                </a:lnTo>
                <a:lnTo>
                  <a:pt x="46511" y="105159"/>
                </a:lnTo>
                <a:lnTo>
                  <a:pt x="72021" y="92777"/>
                </a:lnTo>
                <a:lnTo>
                  <a:pt x="80636" y="88945"/>
                </a:lnTo>
                <a:lnTo>
                  <a:pt x="88920" y="85543"/>
                </a:lnTo>
                <a:lnTo>
                  <a:pt x="96983" y="82429"/>
                </a:lnTo>
                <a:lnTo>
                  <a:pt x="105745" y="80352"/>
                </a:lnTo>
                <a:lnTo>
                  <a:pt x="114973" y="78968"/>
                </a:lnTo>
                <a:lnTo>
                  <a:pt x="124511" y="78045"/>
                </a:lnTo>
                <a:lnTo>
                  <a:pt x="133410" y="77430"/>
                </a:lnTo>
                <a:lnTo>
                  <a:pt x="141883" y="77020"/>
                </a:lnTo>
                <a:lnTo>
                  <a:pt x="150071" y="76747"/>
                </a:lnTo>
                <a:lnTo>
                  <a:pt x="158917" y="77411"/>
                </a:lnTo>
                <a:lnTo>
                  <a:pt x="168201" y="78701"/>
                </a:lnTo>
                <a:lnTo>
                  <a:pt x="177777" y="80407"/>
                </a:lnTo>
                <a:lnTo>
                  <a:pt x="186701" y="83238"/>
                </a:lnTo>
                <a:lnTo>
                  <a:pt x="195190" y="86819"/>
                </a:lnTo>
                <a:lnTo>
                  <a:pt x="203389" y="90899"/>
                </a:lnTo>
                <a:lnTo>
                  <a:pt x="211396" y="95313"/>
                </a:lnTo>
                <a:lnTo>
                  <a:pt x="219273" y="99948"/>
                </a:lnTo>
                <a:lnTo>
                  <a:pt x="227065" y="104732"/>
                </a:lnTo>
                <a:lnTo>
                  <a:pt x="234799" y="110462"/>
                </a:lnTo>
                <a:lnTo>
                  <a:pt x="242496" y="116821"/>
                </a:lnTo>
                <a:lnTo>
                  <a:pt x="250166" y="123601"/>
                </a:lnTo>
                <a:lnTo>
                  <a:pt x="256127" y="131507"/>
                </a:lnTo>
                <a:lnTo>
                  <a:pt x="260948" y="140165"/>
                </a:lnTo>
                <a:lnTo>
                  <a:pt x="265007" y="149323"/>
                </a:lnTo>
                <a:lnTo>
                  <a:pt x="268561" y="158815"/>
                </a:lnTo>
                <a:lnTo>
                  <a:pt x="271776" y="168530"/>
                </a:lnTo>
                <a:lnTo>
                  <a:pt x="274767" y="178394"/>
                </a:lnTo>
                <a:lnTo>
                  <a:pt x="276761" y="188356"/>
                </a:lnTo>
                <a:lnTo>
                  <a:pt x="278090" y="198384"/>
                </a:lnTo>
                <a:lnTo>
                  <a:pt x="278976" y="208456"/>
                </a:lnTo>
                <a:lnTo>
                  <a:pt x="279567" y="218557"/>
                </a:lnTo>
                <a:lnTo>
                  <a:pt x="280223" y="238812"/>
                </a:lnTo>
                <a:lnTo>
                  <a:pt x="279551" y="248955"/>
                </a:lnTo>
                <a:lnTo>
                  <a:pt x="278257" y="259103"/>
                </a:lnTo>
                <a:lnTo>
                  <a:pt x="276547" y="269256"/>
                </a:lnTo>
                <a:lnTo>
                  <a:pt x="273714" y="279410"/>
                </a:lnTo>
                <a:lnTo>
                  <a:pt x="270132" y="289567"/>
                </a:lnTo>
                <a:lnTo>
                  <a:pt x="266051" y="299725"/>
                </a:lnTo>
                <a:lnTo>
                  <a:pt x="261637" y="309036"/>
                </a:lnTo>
                <a:lnTo>
                  <a:pt x="257001" y="317784"/>
                </a:lnTo>
                <a:lnTo>
                  <a:pt x="252216" y="326156"/>
                </a:lnTo>
                <a:lnTo>
                  <a:pt x="247333" y="332584"/>
                </a:lnTo>
                <a:lnTo>
                  <a:pt x="242386" y="337716"/>
                </a:lnTo>
                <a:lnTo>
                  <a:pt x="237392" y="341984"/>
                </a:lnTo>
                <a:lnTo>
                  <a:pt x="232371" y="346523"/>
                </a:lnTo>
                <a:lnTo>
                  <a:pt x="222276" y="356082"/>
                </a:lnTo>
                <a:lnTo>
                  <a:pt x="215521" y="359307"/>
                </a:lnTo>
                <a:lnTo>
                  <a:pt x="207630" y="361458"/>
                </a:lnTo>
                <a:lnTo>
                  <a:pt x="198982" y="362893"/>
                </a:lnTo>
                <a:lnTo>
                  <a:pt x="191524" y="363002"/>
                </a:lnTo>
                <a:lnTo>
                  <a:pt x="184859" y="362228"/>
                </a:lnTo>
                <a:lnTo>
                  <a:pt x="178722" y="360865"/>
                </a:lnTo>
                <a:lnTo>
                  <a:pt x="171245" y="358264"/>
                </a:lnTo>
                <a:lnTo>
                  <a:pt x="162872" y="354836"/>
                </a:lnTo>
                <a:lnTo>
                  <a:pt x="153904" y="350857"/>
                </a:lnTo>
                <a:lnTo>
                  <a:pt x="147079" y="348205"/>
                </a:lnTo>
                <a:lnTo>
                  <a:pt x="141682" y="346437"/>
                </a:lnTo>
                <a:lnTo>
                  <a:pt x="137237" y="345258"/>
                </a:lnTo>
                <a:lnTo>
                  <a:pt x="133427" y="342778"/>
                </a:lnTo>
                <a:lnTo>
                  <a:pt x="130041" y="339432"/>
                </a:lnTo>
                <a:lnTo>
                  <a:pt x="120728" y="3276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InkAnnotation93"/>
          <p:cNvSpPr/>
          <p:nvPr/>
        </p:nvSpPr>
        <p:spPr>
          <a:xfrm>
            <a:off x="3573360" y="3133800"/>
            <a:ext cx="252360" cy="36360"/>
          </a:xfrm>
          <a:custGeom>
            <a:avLst/>
            <a:gdLst>
              <a:gd name="textAreaLeft" fmla="*/ 0 w 252360"/>
              <a:gd name="textAreaRight" fmla="*/ 252720 w 25236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251462" h="36938">
                <a:moveTo>
                  <a:pt x="0" y="36937"/>
                </a:moveTo>
                <a:lnTo>
                  <a:pt x="0" y="25365"/>
                </a:lnTo>
                <a:lnTo>
                  <a:pt x="846" y="23295"/>
                </a:lnTo>
                <a:lnTo>
                  <a:pt x="2257" y="21069"/>
                </a:lnTo>
                <a:lnTo>
                  <a:pt x="4045" y="18739"/>
                </a:lnTo>
                <a:lnTo>
                  <a:pt x="6930" y="17185"/>
                </a:lnTo>
                <a:lnTo>
                  <a:pt x="10546" y="16149"/>
                </a:lnTo>
                <a:lnTo>
                  <a:pt x="14651" y="15459"/>
                </a:lnTo>
                <a:lnTo>
                  <a:pt x="19081" y="14151"/>
                </a:lnTo>
                <a:lnTo>
                  <a:pt x="23727" y="12433"/>
                </a:lnTo>
                <a:lnTo>
                  <a:pt x="28518" y="10441"/>
                </a:lnTo>
                <a:lnTo>
                  <a:pt x="34252" y="9113"/>
                </a:lnTo>
                <a:lnTo>
                  <a:pt x="40614" y="8228"/>
                </a:lnTo>
                <a:lnTo>
                  <a:pt x="47396" y="7638"/>
                </a:lnTo>
                <a:lnTo>
                  <a:pt x="55304" y="6398"/>
                </a:lnTo>
                <a:lnTo>
                  <a:pt x="63963" y="4724"/>
                </a:lnTo>
                <a:lnTo>
                  <a:pt x="73122" y="2762"/>
                </a:lnTo>
                <a:lnTo>
                  <a:pt x="83461" y="1454"/>
                </a:lnTo>
                <a:lnTo>
                  <a:pt x="94588" y="581"/>
                </a:lnTo>
                <a:lnTo>
                  <a:pt x="106239" y="0"/>
                </a:lnTo>
                <a:lnTo>
                  <a:pt x="117392" y="459"/>
                </a:lnTo>
                <a:lnTo>
                  <a:pt x="128215" y="1612"/>
                </a:lnTo>
                <a:lnTo>
                  <a:pt x="138817" y="3227"/>
                </a:lnTo>
                <a:lnTo>
                  <a:pt x="149271" y="4304"/>
                </a:lnTo>
                <a:lnTo>
                  <a:pt x="159627" y="5022"/>
                </a:lnTo>
                <a:lnTo>
                  <a:pt x="169918" y="5500"/>
                </a:lnTo>
                <a:lnTo>
                  <a:pt x="181859" y="6666"/>
                </a:lnTo>
                <a:lnTo>
                  <a:pt x="194900" y="8289"/>
                </a:lnTo>
                <a:lnTo>
                  <a:pt x="208673" y="10219"/>
                </a:lnTo>
                <a:lnTo>
                  <a:pt x="219549" y="11505"/>
                </a:lnTo>
                <a:lnTo>
                  <a:pt x="228493" y="12362"/>
                </a:lnTo>
                <a:lnTo>
                  <a:pt x="251461" y="1407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InkAnnotation94"/>
          <p:cNvSpPr/>
          <p:nvPr/>
        </p:nvSpPr>
        <p:spPr>
          <a:xfrm>
            <a:off x="5654520" y="853920"/>
            <a:ext cx="204840" cy="220680"/>
          </a:xfrm>
          <a:custGeom>
            <a:avLst/>
            <a:gdLst>
              <a:gd name="textAreaLeft" fmla="*/ 0 w 204840"/>
              <a:gd name="textAreaRight" fmla="*/ 205200 w 2048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05142" h="220981">
                <a:moveTo>
                  <a:pt x="30470" y="0"/>
                </a:moveTo>
                <a:lnTo>
                  <a:pt x="26425" y="8090"/>
                </a:lnTo>
                <a:lnTo>
                  <a:pt x="24439" y="14320"/>
                </a:lnTo>
                <a:lnTo>
                  <a:pt x="23557" y="20758"/>
                </a:lnTo>
                <a:lnTo>
                  <a:pt x="23321" y="24845"/>
                </a:lnTo>
                <a:lnTo>
                  <a:pt x="23164" y="29264"/>
                </a:lnTo>
                <a:lnTo>
                  <a:pt x="22943" y="47617"/>
                </a:lnTo>
                <a:lnTo>
                  <a:pt x="22066" y="53758"/>
                </a:lnTo>
                <a:lnTo>
                  <a:pt x="20634" y="59546"/>
                </a:lnTo>
                <a:lnTo>
                  <a:pt x="18833" y="65097"/>
                </a:lnTo>
                <a:lnTo>
                  <a:pt x="16785" y="70491"/>
                </a:lnTo>
                <a:lnTo>
                  <a:pt x="14574" y="75781"/>
                </a:lnTo>
                <a:lnTo>
                  <a:pt x="12253" y="81001"/>
                </a:lnTo>
                <a:lnTo>
                  <a:pt x="10705" y="87021"/>
                </a:lnTo>
                <a:lnTo>
                  <a:pt x="9674" y="93574"/>
                </a:lnTo>
                <a:lnTo>
                  <a:pt x="8986" y="100482"/>
                </a:lnTo>
                <a:lnTo>
                  <a:pt x="7680" y="105935"/>
                </a:lnTo>
                <a:lnTo>
                  <a:pt x="5964" y="110417"/>
                </a:lnTo>
                <a:lnTo>
                  <a:pt x="3972" y="114251"/>
                </a:lnTo>
                <a:lnTo>
                  <a:pt x="1761" y="120769"/>
                </a:lnTo>
                <a:lnTo>
                  <a:pt x="777" y="126489"/>
                </a:lnTo>
                <a:lnTo>
                  <a:pt x="340" y="131853"/>
                </a:lnTo>
                <a:lnTo>
                  <a:pt x="0" y="137022"/>
                </a:lnTo>
                <a:lnTo>
                  <a:pt x="4038" y="129029"/>
                </a:lnTo>
                <a:lnTo>
                  <a:pt x="8281" y="122822"/>
                </a:lnTo>
                <a:lnTo>
                  <a:pt x="10597" y="119981"/>
                </a:lnTo>
                <a:lnTo>
                  <a:pt x="13835" y="115547"/>
                </a:lnTo>
                <a:lnTo>
                  <a:pt x="21948" y="103848"/>
                </a:lnTo>
                <a:lnTo>
                  <a:pt x="27329" y="98865"/>
                </a:lnTo>
                <a:lnTo>
                  <a:pt x="33456" y="94697"/>
                </a:lnTo>
                <a:lnTo>
                  <a:pt x="40081" y="91071"/>
                </a:lnTo>
                <a:lnTo>
                  <a:pt x="47037" y="86961"/>
                </a:lnTo>
                <a:lnTo>
                  <a:pt x="61540" y="77878"/>
                </a:lnTo>
                <a:lnTo>
                  <a:pt x="68964" y="74779"/>
                </a:lnTo>
                <a:lnTo>
                  <a:pt x="76453" y="72713"/>
                </a:lnTo>
                <a:lnTo>
                  <a:pt x="83985" y="71335"/>
                </a:lnTo>
                <a:lnTo>
                  <a:pt x="91547" y="70417"/>
                </a:lnTo>
                <a:lnTo>
                  <a:pt x="99128" y="69805"/>
                </a:lnTo>
                <a:lnTo>
                  <a:pt x="106722" y="69396"/>
                </a:lnTo>
                <a:lnTo>
                  <a:pt x="121934" y="68943"/>
                </a:lnTo>
                <a:lnTo>
                  <a:pt x="129546" y="68822"/>
                </a:lnTo>
                <a:lnTo>
                  <a:pt x="137161" y="69588"/>
                </a:lnTo>
                <a:lnTo>
                  <a:pt x="144778" y="70945"/>
                </a:lnTo>
                <a:lnTo>
                  <a:pt x="152395" y="72697"/>
                </a:lnTo>
                <a:lnTo>
                  <a:pt x="159167" y="74711"/>
                </a:lnTo>
                <a:lnTo>
                  <a:pt x="165375" y="76901"/>
                </a:lnTo>
                <a:lnTo>
                  <a:pt x="171206" y="79207"/>
                </a:lnTo>
                <a:lnTo>
                  <a:pt x="176788" y="82438"/>
                </a:lnTo>
                <a:lnTo>
                  <a:pt x="182202" y="86286"/>
                </a:lnTo>
                <a:lnTo>
                  <a:pt x="187505" y="90544"/>
                </a:lnTo>
                <a:lnTo>
                  <a:pt x="191887" y="95922"/>
                </a:lnTo>
                <a:lnTo>
                  <a:pt x="195655" y="102048"/>
                </a:lnTo>
                <a:lnTo>
                  <a:pt x="199014" y="108672"/>
                </a:lnTo>
                <a:lnTo>
                  <a:pt x="201253" y="114782"/>
                </a:lnTo>
                <a:lnTo>
                  <a:pt x="202745" y="120548"/>
                </a:lnTo>
                <a:lnTo>
                  <a:pt x="203740" y="126085"/>
                </a:lnTo>
                <a:lnTo>
                  <a:pt x="204403" y="132317"/>
                </a:lnTo>
                <a:lnTo>
                  <a:pt x="204846" y="139011"/>
                </a:lnTo>
                <a:lnTo>
                  <a:pt x="205141" y="146014"/>
                </a:lnTo>
                <a:lnTo>
                  <a:pt x="204490" y="153223"/>
                </a:lnTo>
                <a:lnTo>
                  <a:pt x="203211" y="160568"/>
                </a:lnTo>
                <a:lnTo>
                  <a:pt x="201510" y="168006"/>
                </a:lnTo>
                <a:lnTo>
                  <a:pt x="197837" y="173810"/>
                </a:lnTo>
                <a:lnTo>
                  <a:pt x="192848" y="178527"/>
                </a:lnTo>
                <a:lnTo>
                  <a:pt x="186982" y="182518"/>
                </a:lnTo>
                <a:lnTo>
                  <a:pt x="182225" y="186872"/>
                </a:lnTo>
                <a:lnTo>
                  <a:pt x="178207" y="191468"/>
                </a:lnTo>
                <a:lnTo>
                  <a:pt x="174681" y="196225"/>
                </a:lnTo>
                <a:lnTo>
                  <a:pt x="169791" y="200244"/>
                </a:lnTo>
                <a:lnTo>
                  <a:pt x="163991" y="203769"/>
                </a:lnTo>
                <a:lnTo>
                  <a:pt x="157584" y="206966"/>
                </a:lnTo>
                <a:lnTo>
                  <a:pt x="150773" y="209097"/>
                </a:lnTo>
                <a:lnTo>
                  <a:pt x="143692" y="210518"/>
                </a:lnTo>
                <a:lnTo>
                  <a:pt x="136431" y="211465"/>
                </a:lnTo>
                <a:lnTo>
                  <a:pt x="130745" y="212944"/>
                </a:lnTo>
                <a:lnTo>
                  <a:pt x="126106" y="214776"/>
                </a:lnTo>
                <a:lnTo>
                  <a:pt x="122168" y="216844"/>
                </a:lnTo>
                <a:lnTo>
                  <a:pt x="117849" y="218222"/>
                </a:lnTo>
                <a:lnTo>
                  <a:pt x="113276" y="219142"/>
                </a:lnTo>
                <a:lnTo>
                  <a:pt x="99050" y="2209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InkAnnotation95"/>
          <p:cNvSpPr/>
          <p:nvPr/>
        </p:nvSpPr>
        <p:spPr>
          <a:xfrm>
            <a:off x="5638680" y="830160"/>
            <a:ext cx="266760" cy="30240"/>
          </a:xfrm>
          <a:custGeom>
            <a:avLst/>
            <a:gdLst>
              <a:gd name="textAreaLeft" fmla="*/ 0 w 266760"/>
              <a:gd name="textAreaRight" fmla="*/ 267120 w 2667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66701" h="30481">
                <a:moveTo>
                  <a:pt x="0" y="30480"/>
                </a:moveTo>
                <a:lnTo>
                  <a:pt x="12136" y="26435"/>
                </a:lnTo>
                <a:lnTo>
                  <a:pt x="16557" y="25243"/>
                </a:lnTo>
                <a:lnTo>
                  <a:pt x="20352" y="24449"/>
                </a:lnTo>
                <a:lnTo>
                  <a:pt x="28519" y="23566"/>
                </a:lnTo>
                <a:lnTo>
                  <a:pt x="34253" y="23331"/>
                </a:lnTo>
                <a:lnTo>
                  <a:pt x="40615" y="23174"/>
                </a:lnTo>
                <a:lnTo>
                  <a:pt x="48243" y="22223"/>
                </a:lnTo>
                <a:lnTo>
                  <a:pt x="56716" y="20742"/>
                </a:lnTo>
                <a:lnTo>
                  <a:pt x="65750" y="18908"/>
                </a:lnTo>
                <a:lnTo>
                  <a:pt x="76007" y="17685"/>
                </a:lnTo>
                <a:lnTo>
                  <a:pt x="87078" y="16870"/>
                </a:lnTo>
                <a:lnTo>
                  <a:pt x="98692" y="16327"/>
                </a:lnTo>
                <a:lnTo>
                  <a:pt x="111515" y="15118"/>
                </a:lnTo>
                <a:lnTo>
                  <a:pt x="125144" y="13465"/>
                </a:lnTo>
                <a:lnTo>
                  <a:pt x="139309" y="11517"/>
                </a:lnTo>
                <a:lnTo>
                  <a:pt x="152986" y="10218"/>
                </a:lnTo>
                <a:lnTo>
                  <a:pt x="166338" y="9352"/>
                </a:lnTo>
                <a:lnTo>
                  <a:pt x="179472" y="8775"/>
                </a:lnTo>
                <a:lnTo>
                  <a:pt x="192461" y="7543"/>
                </a:lnTo>
                <a:lnTo>
                  <a:pt x="205355" y="5875"/>
                </a:lnTo>
                <a:lnTo>
                  <a:pt x="218183" y="3917"/>
                </a:lnTo>
                <a:lnTo>
                  <a:pt x="229275" y="2611"/>
                </a:lnTo>
                <a:lnTo>
                  <a:pt x="239210" y="1741"/>
                </a:lnTo>
                <a:lnTo>
                  <a:pt x="26670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InkAnnotation96"/>
          <p:cNvSpPr/>
          <p:nvPr/>
        </p:nvSpPr>
        <p:spPr>
          <a:xfrm>
            <a:off x="5977080" y="792000"/>
            <a:ext cx="228600" cy="277920"/>
          </a:xfrm>
          <a:custGeom>
            <a:avLst/>
            <a:gdLst>
              <a:gd name="textAreaLeft" fmla="*/ 0 w 228600"/>
              <a:gd name="textAreaRight" fmla="*/ 228960 w 22860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228971" h="277313">
                <a:moveTo>
                  <a:pt x="65963" y="0"/>
                </a:moveTo>
                <a:lnTo>
                  <a:pt x="65963" y="13122"/>
                </a:lnTo>
                <a:lnTo>
                  <a:pt x="63704" y="18814"/>
                </a:lnTo>
                <a:lnTo>
                  <a:pt x="61917" y="22703"/>
                </a:lnTo>
                <a:lnTo>
                  <a:pt x="59879" y="27835"/>
                </a:lnTo>
                <a:lnTo>
                  <a:pt x="55357" y="40311"/>
                </a:lnTo>
                <a:lnTo>
                  <a:pt x="48050" y="61615"/>
                </a:lnTo>
                <a:lnTo>
                  <a:pt x="45555" y="69863"/>
                </a:lnTo>
                <a:lnTo>
                  <a:pt x="40523" y="88059"/>
                </a:lnTo>
                <a:lnTo>
                  <a:pt x="37150" y="97653"/>
                </a:lnTo>
                <a:lnTo>
                  <a:pt x="33207" y="107435"/>
                </a:lnTo>
                <a:lnTo>
                  <a:pt x="28886" y="117344"/>
                </a:lnTo>
                <a:lnTo>
                  <a:pt x="25158" y="128182"/>
                </a:lnTo>
                <a:lnTo>
                  <a:pt x="21827" y="139642"/>
                </a:lnTo>
                <a:lnTo>
                  <a:pt x="18758" y="151515"/>
                </a:lnTo>
                <a:lnTo>
                  <a:pt x="15020" y="162816"/>
                </a:lnTo>
                <a:lnTo>
                  <a:pt x="10835" y="173738"/>
                </a:lnTo>
                <a:lnTo>
                  <a:pt x="6350" y="184405"/>
                </a:lnTo>
                <a:lnTo>
                  <a:pt x="3361" y="194057"/>
                </a:lnTo>
                <a:lnTo>
                  <a:pt x="1369" y="203031"/>
                </a:lnTo>
                <a:lnTo>
                  <a:pt x="40" y="211554"/>
                </a:lnTo>
                <a:lnTo>
                  <a:pt x="0" y="219776"/>
                </a:lnTo>
                <a:lnTo>
                  <a:pt x="821" y="227797"/>
                </a:lnTo>
                <a:lnTo>
                  <a:pt x="2215" y="235685"/>
                </a:lnTo>
                <a:lnTo>
                  <a:pt x="4837" y="242637"/>
                </a:lnTo>
                <a:lnTo>
                  <a:pt x="8279" y="248965"/>
                </a:lnTo>
                <a:lnTo>
                  <a:pt x="12267" y="254876"/>
                </a:lnTo>
                <a:lnTo>
                  <a:pt x="16619" y="259664"/>
                </a:lnTo>
                <a:lnTo>
                  <a:pt x="21213" y="263703"/>
                </a:lnTo>
                <a:lnTo>
                  <a:pt x="25970" y="267242"/>
                </a:lnTo>
                <a:lnTo>
                  <a:pt x="31680" y="270448"/>
                </a:lnTo>
                <a:lnTo>
                  <a:pt x="38028" y="273432"/>
                </a:lnTo>
                <a:lnTo>
                  <a:pt x="44800" y="276268"/>
                </a:lnTo>
                <a:lnTo>
                  <a:pt x="52700" y="277312"/>
                </a:lnTo>
                <a:lnTo>
                  <a:pt x="61354" y="277161"/>
                </a:lnTo>
                <a:lnTo>
                  <a:pt x="70510" y="276214"/>
                </a:lnTo>
                <a:lnTo>
                  <a:pt x="80001" y="274736"/>
                </a:lnTo>
                <a:lnTo>
                  <a:pt x="89715" y="272904"/>
                </a:lnTo>
                <a:lnTo>
                  <a:pt x="99577" y="270836"/>
                </a:lnTo>
                <a:lnTo>
                  <a:pt x="110386" y="267764"/>
                </a:lnTo>
                <a:lnTo>
                  <a:pt x="121824" y="264023"/>
                </a:lnTo>
                <a:lnTo>
                  <a:pt x="162510" y="249896"/>
                </a:lnTo>
                <a:lnTo>
                  <a:pt x="170967" y="245338"/>
                </a:lnTo>
                <a:lnTo>
                  <a:pt x="179145" y="239759"/>
                </a:lnTo>
                <a:lnTo>
                  <a:pt x="187138" y="233499"/>
                </a:lnTo>
                <a:lnTo>
                  <a:pt x="194159" y="227633"/>
                </a:lnTo>
                <a:lnTo>
                  <a:pt x="200534" y="222029"/>
                </a:lnTo>
                <a:lnTo>
                  <a:pt x="211285" y="212133"/>
                </a:lnTo>
                <a:lnTo>
                  <a:pt x="222098" y="201802"/>
                </a:lnTo>
                <a:lnTo>
                  <a:pt x="227925" y="196087"/>
                </a:lnTo>
                <a:lnTo>
                  <a:pt x="228970" y="194225"/>
                </a:lnTo>
                <a:lnTo>
                  <a:pt x="228821" y="192983"/>
                </a:lnTo>
                <a:lnTo>
                  <a:pt x="227875" y="192156"/>
                </a:lnTo>
                <a:lnTo>
                  <a:pt x="226397" y="191604"/>
                </a:lnTo>
                <a:lnTo>
                  <a:pt x="219427" y="190827"/>
                </a:lnTo>
                <a:lnTo>
                  <a:pt x="211498" y="190645"/>
                </a:lnTo>
                <a:lnTo>
                  <a:pt x="207013" y="192290"/>
                </a:lnTo>
                <a:lnTo>
                  <a:pt x="202330" y="195080"/>
                </a:lnTo>
                <a:lnTo>
                  <a:pt x="197514" y="198634"/>
                </a:lnTo>
                <a:lnTo>
                  <a:pt x="192610" y="201849"/>
                </a:lnTo>
                <a:lnTo>
                  <a:pt x="187647" y="204839"/>
                </a:lnTo>
                <a:lnTo>
                  <a:pt x="182646" y="207680"/>
                </a:lnTo>
                <a:lnTo>
                  <a:pt x="177618" y="211266"/>
                </a:lnTo>
                <a:lnTo>
                  <a:pt x="172574" y="215351"/>
                </a:lnTo>
                <a:lnTo>
                  <a:pt x="167516" y="219767"/>
                </a:lnTo>
                <a:lnTo>
                  <a:pt x="163298" y="224405"/>
                </a:lnTo>
                <a:lnTo>
                  <a:pt x="159640" y="229190"/>
                </a:lnTo>
                <a:lnTo>
                  <a:pt x="156354" y="234073"/>
                </a:lnTo>
                <a:lnTo>
                  <a:pt x="154164" y="239022"/>
                </a:lnTo>
                <a:lnTo>
                  <a:pt x="152703" y="244015"/>
                </a:lnTo>
                <a:lnTo>
                  <a:pt x="151729" y="249037"/>
                </a:lnTo>
                <a:lnTo>
                  <a:pt x="150648" y="256874"/>
                </a:lnTo>
                <a:lnTo>
                  <a:pt x="149783" y="2667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InkAnnotation97"/>
          <p:cNvSpPr/>
          <p:nvPr/>
        </p:nvSpPr>
        <p:spPr>
          <a:xfrm>
            <a:off x="7559640" y="1082520"/>
            <a:ext cx="111240" cy="319320"/>
          </a:xfrm>
          <a:custGeom>
            <a:avLst/>
            <a:gdLst>
              <a:gd name="textAreaLeft" fmla="*/ 0 w 111240"/>
              <a:gd name="textAreaRight" fmla="*/ 111600 w 1112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111072" h="320041">
                <a:moveTo>
                  <a:pt x="106680" y="0"/>
                </a:moveTo>
                <a:lnTo>
                  <a:pt x="106680" y="4045"/>
                </a:lnTo>
                <a:lnTo>
                  <a:pt x="107527" y="5237"/>
                </a:lnTo>
                <a:lnTo>
                  <a:pt x="108938" y="6031"/>
                </a:lnTo>
                <a:lnTo>
                  <a:pt x="110726" y="6561"/>
                </a:lnTo>
                <a:lnTo>
                  <a:pt x="111071" y="8607"/>
                </a:lnTo>
                <a:lnTo>
                  <a:pt x="108357" y="19578"/>
                </a:lnTo>
                <a:lnTo>
                  <a:pt x="107426" y="28739"/>
                </a:lnTo>
                <a:lnTo>
                  <a:pt x="106331" y="34399"/>
                </a:lnTo>
                <a:lnTo>
                  <a:pt x="104754" y="40713"/>
                </a:lnTo>
                <a:lnTo>
                  <a:pt x="102857" y="47462"/>
                </a:lnTo>
                <a:lnTo>
                  <a:pt x="98490" y="61734"/>
                </a:lnTo>
                <a:lnTo>
                  <a:pt x="96139" y="69096"/>
                </a:lnTo>
                <a:lnTo>
                  <a:pt x="93727" y="77391"/>
                </a:lnTo>
                <a:lnTo>
                  <a:pt x="88788" y="95638"/>
                </a:lnTo>
                <a:lnTo>
                  <a:pt x="85439" y="105246"/>
                </a:lnTo>
                <a:lnTo>
                  <a:pt x="81512" y="115037"/>
                </a:lnTo>
                <a:lnTo>
                  <a:pt x="77202" y="124951"/>
                </a:lnTo>
                <a:lnTo>
                  <a:pt x="67897" y="144998"/>
                </a:lnTo>
                <a:lnTo>
                  <a:pt x="32980" y="215913"/>
                </a:lnTo>
                <a:lnTo>
                  <a:pt x="28761" y="226069"/>
                </a:lnTo>
                <a:lnTo>
                  <a:pt x="25101" y="236226"/>
                </a:lnTo>
                <a:lnTo>
                  <a:pt x="5211" y="296734"/>
                </a:lnTo>
                <a:lnTo>
                  <a:pt x="3474" y="302810"/>
                </a:lnTo>
                <a:lnTo>
                  <a:pt x="2316" y="307706"/>
                </a:lnTo>
                <a:lnTo>
                  <a:pt x="0" y="3200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InkAnnotation98"/>
          <p:cNvSpPr/>
          <p:nvPr/>
        </p:nvSpPr>
        <p:spPr>
          <a:xfrm>
            <a:off x="7832880" y="1112760"/>
            <a:ext cx="45720" cy="319320"/>
          </a:xfrm>
          <a:custGeom>
            <a:avLst/>
            <a:gdLst>
              <a:gd name="textAreaLeft" fmla="*/ 0 w 45720"/>
              <a:gd name="textAreaRight" fmla="*/ 46080 w 45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44662" h="320041">
                <a:moveTo>
                  <a:pt x="38100" y="0"/>
                </a:moveTo>
                <a:lnTo>
                  <a:pt x="38100" y="14651"/>
                </a:lnTo>
                <a:lnTo>
                  <a:pt x="38946" y="17387"/>
                </a:lnTo>
                <a:lnTo>
                  <a:pt x="40359" y="19212"/>
                </a:lnTo>
                <a:lnTo>
                  <a:pt x="42145" y="20428"/>
                </a:lnTo>
                <a:lnTo>
                  <a:pt x="43337" y="23779"/>
                </a:lnTo>
                <a:lnTo>
                  <a:pt x="44131" y="28552"/>
                </a:lnTo>
                <a:lnTo>
                  <a:pt x="44661" y="34275"/>
                </a:lnTo>
                <a:lnTo>
                  <a:pt x="44168" y="39783"/>
                </a:lnTo>
                <a:lnTo>
                  <a:pt x="42992" y="45149"/>
                </a:lnTo>
                <a:lnTo>
                  <a:pt x="41362" y="50419"/>
                </a:lnTo>
                <a:lnTo>
                  <a:pt x="40274" y="56473"/>
                </a:lnTo>
                <a:lnTo>
                  <a:pt x="39549" y="63049"/>
                </a:lnTo>
                <a:lnTo>
                  <a:pt x="39066" y="69972"/>
                </a:lnTo>
                <a:lnTo>
                  <a:pt x="38745" y="77128"/>
                </a:lnTo>
                <a:lnTo>
                  <a:pt x="38387" y="91853"/>
                </a:lnTo>
                <a:lnTo>
                  <a:pt x="38185" y="118467"/>
                </a:lnTo>
                <a:lnTo>
                  <a:pt x="37311" y="128085"/>
                </a:lnTo>
                <a:lnTo>
                  <a:pt x="35880" y="137883"/>
                </a:lnTo>
                <a:lnTo>
                  <a:pt x="34080" y="147802"/>
                </a:lnTo>
                <a:lnTo>
                  <a:pt x="32034" y="157801"/>
                </a:lnTo>
                <a:lnTo>
                  <a:pt x="27502" y="177943"/>
                </a:lnTo>
                <a:lnTo>
                  <a:pt x="25108" y="187209"/>
                </a:lnTo>
                <a:lnTo>
                  <a:pt x="22664" y="195926"/>
                </a:lnTo>
                <a:lnTo>
                  <a:pt x="20189" y="204277"/>
                </a:lnTo>
                <a:lnTo>
                  <a:pt x="15183" y="222588"/>
                </a:lnTo>
                <a:lnTo>
                  <a:pt x="12662" y="232212"/>
                </a:lnTo>
                <a:lnTo>
                  <a:pt x="7602" y="249679"/>
                </a:lnTo>
                <a:lnTo>
                  <a:pt x="5069" y="257892"/>
                </a:lnTo>
                <a:lnTo>
                  <a:pt x="3379" y="265908"/>
                </a:lnTo>
                <a:lnTo>
                  <a:pt x="2252" y="273792"/>
                </a:lnTo>
                <a:lnTo>
                  <a:pt x="1501" y="281588"/>
                </a:lnTo>
                <a:lnTo>
                  <a:pt x="1001" y="288479"/>
                </a:lnTo>
                <a:lnTo>
                  <a:pt x="667" y="294766"/>
                </a:lnTo>
                <a:lnTo>
                  <a:pt x="198" y="309447"/>
                </a:lnTo>
                <a:lnTo>
                  <a:pt x="0" y="3200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InkAnnotation99"/>
          <p:cNvSpPr/>
          <p:nvPr/>
        </p:nvSpPr>
        <p:spPr>
          <a:xfrm>
            <a:off x="8070840" y="1096920"/>
            <a:ext cx="281160" cy="297000"/>
          </a:xfrm>
          <a:custGeom>
            <a:avLst/>
            <a:gdLst>
              <a:gd name="textAreaLeft" fmla="*/ 0 w 281160"/>
              <a:gd name="textAreaRight" fmla="*/ 281520 w 28116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280852" h="296722">
                <a:moveTo>
                  <a:pt x="14152" y="52989"/>
                </a:moveTo>
                <a:lnTo>
                  <a:pt x="10107" y="48944"/>
                </a:lnTo>
                <a:lnTo>
                  <a:pt x="8916" y="46906"/>
                </a:lnTo>
                <a:lnTo>
                  <a:pt x="6846" y="39122"/>
                </a:lnTo>
                <a:lnTo>
                  <a:pt x="1358" y="31937"/>
                </a:lnTo>
                <a:lnTo>
                  <a:pt x="0" y="27264"/>
                </a:lnTo>
                <a:lnTo>
                  <a:pt x="484" y="25679"/>
                </a:lnTo>
                <a:lnTo>
                  <a:pt x="1653" y="24622"/>
                </a:lnTo>
                <a:lnTo>
                  <a:pt x="9602" y="20877"/>
                </a:lnTo>
                <a:lnTo>
                  <a:pt x="27459" y="12027"/>
                </a:lnTo>
                <a:lnTo>
                  <a:pt x="33182" y="10441"/>
                </a:lnTo>
                <a:lnTo>
                  <a:pt x="39539" y="9384"/>
                </a:lnTo>
                <a:lnTo>
                  <a:pt x="46318" y="8679"/>
                </a:lnTo>
                <a:lnTo>
                  <a:pt x="54222" y="7362"/>
                </a:lnTo>
                <a:lnTo>
                  <a:pt x="62878" y="5638"/>
                </a:lnTo>
                <a:lnTo>
                  <a:pt x="72036" y="3642"/>
                </a:lnTo>
                <a:lnTo>
                  <a:pt x="80682" y="2311"/>
                </a:lnTo>
                <a:lnTo>
                  <a:pt x="88986" y="1424"/>
                </a:lnTo>
                <a:lnTo>
                  <a:pt x="97061" y="832"/>
                </a:lnTo>
                <a:lnTo>
                  <a:pt x="105831" y="438"/>
                </a:lnTo>
                <a:lnTo>
                  <a:pt x="124608" y="0"/>
                </a:lnTo>
                <a:lnTo>
                  <a:pt x="133508" y="729"/>
                </a:lnTo>
                <a:lnTo>
                  <a:pt x="141983" y="2063"/>
                </a:lnTo>
                <a:lnTo>
                  <a:pt x="150172" y="3798"/>
                </a:lnTo>
                <a:lnTo>
                  <a:pt x="158172" y="5802"/>
                </a:lnTo>
                <a:lnTo>
                  <a:pt x="166046" y="7984"/>
                </a:lnTo>
                <a:lnTo>
                  <a:pt x="173833" y="10286"/>
                </a:lnTo>
                <a:lnTo>
                  <a:pt x="179874" y="12667"/>
                </a:lnTo>
                <a:lnTo>
                  <a:pt x="184746" y="15101"/>
                </a:lnTo>
                <a:lnTo>
                  <a:pt x="188842" y="17570"/>
                </a:lnTo>
                <a:lnTo>
                  <a:pt x="191572" y="20910"/>
                </a:lnTo>
                <a:lnTo>
                  <a:pt x="193390" y="24830"/>
                </a:lnTo>
                <a:lnTo>
                  <a:pt x="195413" y="33701"/>
                </a:lnTo>
                <a:lnTo>
                  <a:pt x="195953" y="38437"/>
                </a:lnTo>
                <a:lnTo>
                  <a:pt x="196313" y="43288"/>
                </a:lnTo>
                <a:lnTo>
                  <a:pt x="194858" y="49061"/>
                </a:lnTo>
                <a:lnTo>
                  <a:pt x="192197" y="55451"/>
                </a:lnTo>
                <a:lnTo>
                  <a:pt x="188728" y="62250"/>
                </a:lnTo>
                <a:lnTo>
                  <a:pt x="183876" y="68476"/>
                </a:lnTo>
                <a:lnTo>
                  <a:pt x="178102" y="74321"/>
                </a:lnTo>
                <a:lnTo>
                  <a:pt x="171712" y="79910"/>
                </a:lnTo>
                <a:lnTo>
                  <a:pt x="164066" y="87023"/>
                </a:lnTo>
                <a:lnTo>
                  <a:pt x="137970" y="112368"/>
                </a:lnTo>
                <a:lnTo>
                  <a:pt x="121675" y="128487"/>
                </a:lnTo>
                <a:lnTo>
                  <a:pt x="112927" y="136341"/>
                </a:lnTo>
                <a:lnTo>
                  <a:pt x="103709" y="144117"/>
                </a:lnTo>
                <a:lnTo>
                  <a:pt x="94177" y="151841"/>
                </a:lnTo>
                <a:lnTo>
                  <a:pt x="85281" y="159530"/>
                </a:lnTo>
                <a:lnTo>
                  <a:pt x="76812" y="167196"/>
                </a:lnTo>
                <a:lnTo>
                  <a:pt x="68625" y="174848"/>
                </a:lnTo>
                <a:lnTo>
                  <a:pt x="62322" y="182488"/>
                </a:lnTo>
                <a:lnTo>
                  <a:pt x="57272" y="190122"/>
                </a:lnTo>
                <a:lnTo>
                  <a:pt x="53059" y="197751"/>
                </a:lnTo>
                <a:lnTo>
                  <a:pt x="49403" y="205377"/>
                </a:lnTo>
                <a:lnTo>
                  <a:pt x="46120" y="213001"/>
                </a:lnTo>
                <a:lnTo>
                  <a:pt x="43083" y="220624"/>
                </a:lnTo>
                <a:lnTo>
                  <a:pt x="41907" y="227399"/>
                </a:lnTo>
                <a:lnTo>
                  <a:pt x="41968" y="233609"/>
                </a:lnTo>
                <a:lnTo>
                  <a:pt x="42856" y="239442"/>
                </a:lnTo>
                <a:lnTo>
                  <a:pt x="45142" y="245025"/>
                </a:lnTo>
                <a:lnTo>
                  <a:pt x="48358" y="250439"/>
                </a:lnTo>
                <a:lnTo>
                  <a:pt x="52197" y="255743"/>
                </a:lnTo>
                <a:lnTo>
                  <a:pt x="57295" y="260972"/>
                </a:lnTo>
                <a:lnTo>
                  <a:pt x="63234" y="266151"/>
                </a:lnTo>
                <a:lnTo>
                  <a:pt x="69733" y="271297"/>
                </a:lnTo>
                <a:lnTo>
                  <a:pt x="77453" y="275574"/>
                </a:lnTo>
                <a:lnTo>
                  <a:pt x="85986" y="279273"/>
                </a:lnTo>
                <a:lnTo>
                  <a:pt x="95061" y="282585"/>
                </a:lnTo>
                <a:lnTo>
                  <a:pt x="104498" y="284793"/>
                </a:lnTo>
                <a:lnTo>
                  <a:pt x="114176" y="286265"/>
                </a:lnTo>
                <a:lnTo>
                  <a:pt x="124015" y="287246"/>
                </a:lnTo>
                <a:lnTo>
                  <a:pt x="134807" y="288747"/>
                </a:lnTo>
                <a:lnTo>
                  <a:pt x="158087" y="292673"/>
                </a:lnTo>
                <a:lnTo>
                  <a:pt x="168528" y="294058"/>
                </a:lnTo>
                <a:lnTo>
                  <a:pt x="178030" y="294982"/>
                </a:lnTo>
                <a:lnTo>
                  <a:pt x="186904" y="295598"/>
                </a:lnTo>
                <a:lnTo>
                  <a:pt x="196206" y="296008"/>
                </a:lnTo>
                <a:lnTo>
                  <a:pt x="215574" y="296464"/>
                </a:lnTo>
                <a:lnTo>
                  <a:pt x="241472" y="296721"/>
                </a:lnTo>
                <a:lnTo>
                  <a:pt x="248671" y="295910"/>
                </a:lnTo>
                <a:lnTo>
                  <a:pt x="255166" y="294523"/>
                </a:lnTo>
                <a:lnTo>
                  <a:pt x="261187" y="292752"/>
                </a:lnTo>
                <a:lnTo>
                  <a:pt x="266049" y="291571"/>
                </a:lnTo>
                <a:lnTo>
                  <a:pt x="270136" y="290784"/>
                </a:lnTo>
                <a:lnTo>
                  <a:pt x="280851" y="28920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InkAnnotation100"/>
          <p:cNvSpPr/>
          <p:nvPr/>
        </p:nvSpPr>
        <p:spPr>
          <a:xfrm>
            <a:off x="6346800" y="1630440"/>
            <a:ext cx="69840" cy="176040"/>
          </a:xfrm>
          <a:custGeom>
            <a:avLst/>
            <a:gdLst>
              <a:gd name="textAreaLeft" fmla="*/ 0 w 69840"/>
              <a:gd name="textAreaRight" fmla="*/ 70200 w 698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68581" h="175261">
                <a:moveTo>
                  <a:pt x="68580" y="0"/>
                </a:moveTo>
                <a:lnTo>
                  <a:pt x="68580" y="4045"/>
                </a:lnTo>
                <a:lnTo>
                  <a:pt x="67733" y="6084"/>
                </a:lnTo>
                <a:lnTo>
                  <a:pt x="66322" y="8289"/>
                </a:lnTo>
                <a:lnTo>
                  <a:pt x="64535" y="10606"/>
                </a:lnTo>
                <a:lnTo>
                  <a:pt x="63343" y="12997"/>
                </a:lnTo>
                <a:lnTo>
                  <a:pt x="62019" y="17912"/>
                </a:lnTo>
                <a:lnTo>
                  <a:pt x="61666" y="21255"/>
                </a:lnTo>
                <a:lnTo>
                  <a:pt x="61431" y="25177"/>
                </a:lnTo>
                <a:lnTo>
                  <a:pt x="61273" y="29485"/>
                </a:lnTo>
                <a:lnTo>
                  <a:pt x="60323" y="34050"/>
                </a:lnTo>
                <a:lnTo>
                  <a:pt x="58842" y="38787"/>
                </a:lnTo>
                <a:lnTo>
                  <a:pt x="57008" y="43638"/>
                </a:lnTo>
                <a:lnTo>
                  <a:pt x="50382" y="62601"/>
                </a:lnTo>
                <a:lnTo>
                  <a:pt x="47981" y="68827"/>
                </a:lnTo>
                <a:lnTo>
                  <a:pt x="45534" y="74672"/>
                </a:lnTo>
                <a:lnTo>
                  <a:pt x="43056" y="80261"/>
                </a:lnTo>
                <a:lnTo>
                  <a:pt x="39711" y="86527"/>
                </a:lnTo>
                <a:lnTo>
                  <a:pt x="35788" y="93245"/>
                </a:lnTo>
                <a:lnTo>
                  <a:pt x="31478" y="100263"/>
                </a:lnTo>
                <a:lnTo>
                  <a:pt x="27759" y="107482"/>
                </a:lnTo>
                <a:lnTo>
                  <a:pt x="24432" y="114835"/>
                </a:lnTo>
                <a:lnTo>
                  <a:pt x="21369" y="122277"/>
                </a:lnTo>
                <a:lnTo>
                  <a:pt x="18479" y="128931"/>
                </a:lnTo>
                <a:lnTo>
                  <a:pt x="13010" y="140841"/>
                </a:lnTo>
                <a:lnTo>
                  <a:pt x="5172" y="157065"/>
                </a:lnTo>
                <a:lnTo>
                  <a:pt x="3448" y="161437"/>
                </a:lnTo>
                <a:lnTo>
                  <a:pt x="2298" y="165198"/>
                </a:lnTo>
                <a:lnTo>
                  <a:pt x="0" y="1752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InkAnnotation101"/>
          <p:cNvSpPr/>
          <p:nvPr/>
        </p:nvSpPr>
        <p:spPr>
          <a:xfrm>
            <a:off x="6500880" y="1577880"/>
            <a:ext cx="166680" cy="135000"/>
          </a:xfrm>
          <a:custGeom>
            <a:avLst/>
            <a:gdLst>
              <a:gd name="textAreaLeft" fmla="*/ 0 w 166680"/>
              <a:gd name="textAreaRight" fmla="*/ 167040 w 166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67184" h="135932">
                <a:moveTo>
                  <a:pt x="90983" y="0"/>
                </a:moveTo>
                <a:lnTo>
                  <a:pt x="84422" y="0"/>
                </a:lnTo>
                <a:lnTo>
                  <a:pt x="84069" y="847"/>
                </a:lnTo>
                <a:lnTo>
                  <a:pt x="83676" y="4045"/>
                </a:lnTo>
                <a:lnTo>
                  <a:pt x="83456" y="6561"/>
                </a:lnTo>
                <a:lnTo>
                  <a:pt x="82578" y="8607"/>
                </a:lnTo>
                <a:lnTo>
                  <a:pt x="79346" y="15397"/>
                </a:lnTo>
                <a:lnTo>
                  <a:pt x="76451" y="18731"/>
                </a:lnTo>
                <a:lnTo>
                  <a:pt x="72828" y="21801"/>
                </a:lnTo>
                <a:lnTo>
                  <a:pt x="68720" y="24694"/>
                </a:lnTo>
                <a:lnTo>
                  <a:pt x="65134" y="28316"/>
                </a:lnTo>
                <a:lnTo>
                  <a:pt x="61896" y="32424"/>
                </a:lnTo>
                <a:lnTo>
                  <a:pt x="58892" y="36856"/>
                </a:lnTo>
                <a:lnTo>
                  <a:pt x="55196" y="41504"/>
                </a:lnTo>
                <a:lnTo>
                  <a:pt x="51038" y="46296"/>
                </a:lnTo>
                <a:lnTo>
                  <a:pt x="46573" y="51184"/>
                </a:lnTo>
                <a:lnTo>
                  <a:pt x="41903" y="56983"/>
                </a:lnTo>
                <a:lnTo>
                  <a:pt x="37097" y="63389"/>
                </a:lnTo>
                <a:lnTo>
                  <a:pt x="32199" y="70199"/>
                </a:lnTo>
                <a:lnTo>
                  <a:pt x="28087" y="75586"/>
                </a:lnTo>
                <a:lnTo>
                  <a:pt x="24499" y="80024"/>
                </a:lnTo>
                <a:lnTo>
                  <a:pt x="21260" y="83829"/>
                </a:lnTo>
                <a:lnTo>
                  <a:pt x="18254" y="88060"/>
                </a:lnTo>
                <a:lnTo>
                  <a:pt x="15404" y="92573"/>
                </a:lnTo>
                <a:lnTo>
                  <a:pt x="12657" y="97275"/>
                </a:lnTo>
                <a:lnTo>
                  <a:pt x="9979" y="102104"/>
                </a:lnTo>
                <a:lnTo>
                  <a:pt x="4746" y="111984"/>
                </a:lnTo>
                <a:lnTo>
                  <a:pt x="3012" y="116143"/>
                </a:lnTo>
                <a:lnTo>
                  <a:pt x="1855" y="119762"/>
                </a:lnTo>
                <a:lnTo>
                  <a:pt x="0" y="127609"/>
                </a:lnTo>
                <a:lnTo>
                  <a:pt x="694" y="129099"/>
                </a:lnTo>
                <a:lnTo>
                  <a:pt x="3723" y="133013"/>
                </a:lnTo>
                <a:lnTo>
                  <a:pt x="6563" y="134395"/>
                </a:lnTo>
                <a:lnTo>
                  <a:pt x="10149" y="135317"/>
                </a:lnTo>
                <a:lnTo>
                  <a:pt x="14234" y="135931"/>
                </a:lnTo>
                <a:lnTo>
                  <a:pt x="19497" y="135494"/>
                </a:lnTo>
                <a:lnTo>
                  <a:pt x="25545" y="134356"/>
                </a:lnTo>
                <a:lnTo>
                  <a:pt x="32118" y="132751"/>
                </a:lnTo>
                <a:lnTo>
                  <a:pt x="39040" y="131681"/>
                </a:lnTo>
                <a:lnTo>
                  <a:pt x="46194" y="130967"/>
                </a:lnTo>
                <a:lnTo>
                  <a:pt x="53504" y="130492"/>
                </a:lnTo>
                <a:lnTo>
                  <a:pt x="61763" y="128481"/>
                </a:lnTo>
                <a:lnTo>
                  <a:pt x="70656" y="125447"/>
                </a:lnTo>
                <a:lnTo>
                  <a:pt x="79972" y="121732"/>
                </a:lnTo>
                <a:lnTo>
                  <a:pt x="90416" y="118408"/>
                </a:lnTo>
                <a:lnTo>
                  <a:pt x="101612" y="115345"/>
                </a:lnTo>
                <a:lnTo>
                  <a:pt x="113310" y="112457"/>
                </a:lnTo>
                <a:lnTo>
                  <a:pt x="122800" y="109685"/>
                </a:lnTo>
                <a:lnTo>
                  <a:pt x="130822" y="106990"/>
                </a:lnTo>
                <a:lnTo>
                  <a:pt x="137862" y="104347"/>
                </a:lnTo>
                <a:lnTo>
                  <a:pt x="144249" y="102584"/>
                </a:lnTo>
                <a:lnTo>
                  <a:pt x="150200" y="101410"/>
                </a:lnTo>
                <a:lnTo>
                  <a:pt x="167183" y="990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InkAnnotation102"/>
          <p:cNvSpPr/>
          <p:nvPr/>
        </p:nvSpPr>
        <p:spPr>
          <a:xfrm>
            <a:off x="6629400" y="1569960"/>
            <a:ext cx="60480" cy="289080"/>
          </a:xfrm>
          <a:custGeom>
            <a:avLst/>
            <a:gdLst>
              <a:gd name="textAreaLeft" fmla="*/ 0 w 60480"/>
              <a:gd name="textAreaRight" fmla="*/ 60840 w 6048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60961" h="289561">
                <a:moveTo>
                  <a:pt x="60960" y="0"/>
                </a:moveTo>
                <a:lnTo>
                  <a:pt x="60960" y="6561"/>
                </a:lnTo>
                <a:lnTo>
                  <a:pt x="60113" y="9454"/>
                </a:lnTo>
                <a:lnTo>
                  <a:pt x="56915" y="19442"/>
                </a:lnTo>
                <a:lnTo>
                  <a:pt x="54876" y="24814"/>
                </a:lnTo>
                <a:lnTo>
                  <a:pt x="52671" y="30090"/>
                </a:lnTo>
                <a:lnTo>
                  <a:pt x="50354" y="35300"/>
                </a:lnTo>
                <a:lnTo>
                  <a:pt x="47963" y="41313"/>
                </a:lnTo>
                <a:lnTo>
                  <a:pt x="43048" y="54768"/>
                </a:lnTo>
                <a:lnTo>
                  <a:pt x="35521" y="76623"/>
                </a:lnTo>
                <a:lnTo>
                  <a:pt x="32994" y="84949"/>
                </a:lnTo>
                <a:lnTo>
                  <a:pt x="27929" y="103231"/>
                </a:lnTo>
                <a:lnTo>
                  <a:pt x="5080" y="193082"/>
                </a:lnTo>
                <a:lnTo>
                  <a:pt x="3387" y="204075"/>
                </a:lnTo>
                <a:lnTo>
                  <a:pt x="2257" y="215637"/>
                </a:lnTo>
                <a:lnTo>
                  <a:pt x="1505" y="227578"/>
                </a:lnTo>
                <a:lnTo>
                  <a:pt x="669" y="249877"/>
                </a:lnTo>
                <a:lnTo>
                  <a:pt x="0" y="2895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InkAnnotation103"/>
          <p:cNvSpPr/>
          <p:nvPr/>
        </p:nvSpPr>
        <p:spPr>
          <a:xfrm>
            <a:off x="7597800" y="1820880"/>
            <a:ext cx="44280" cy="274680"/>
          </a:xfrm>
          <a:custGeom>
            <a:avLst/>
            <a:gdLst>
              <a:gd name="textAreaLeft" fmla="*/ 0 w 44280"/>
              <a:gd name="textAreaRight" fmla="*/ 44280 w 442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4570" h="274007">
                <a:moveTo>
                  <a:pt x="30416" y="7306"/>
                </a:moveTo>
                <a:lnTo>
                  <a:pt x="34462" y="7306"/>
                </a:lnTo>
                <a:lnTo>
                  <a:pt x="35653" y="6459"/>
                </a:lnTo>
                <a:lnTo>
                  <a:pt x="36448" y="5048"/>
                </a:lnTo>
                <a:lnTo>
                  <a:pt x="37723" y="745"/>
                </a:lnTo>
                <a:lnTo>
                  <a:pt x="38673" y="392"/>
                </a:lnTo>
                <a:lnTo>
                  <a:pt x="40155" y="157"/>
                </a:lnTo>
                <a:lnTo>
                  <a:pt x="41989" y="0"/>
                </a:lnTo>
                <a:lnTo>
                  <a:pt x="43211" y="742"/>
                </a:lnTo>
                <a:lnTo>
                  <a:pt x="44026" y="2083"/>
                </a:lnTo>
                <a:lnTo>
                  <a:pt x="44569" y="3824"/>
                </a:lnTo>
                <a:lnTo>
                  <a:pt x="44085" y="4985"/>
                </a:lnTo>
                <a:lnTo>
                  <a:pt x="42915" y="5758"/>
                </a:lnTo>
                <a:lnTo>
                  <a:pt x="41289" y="6274"/>
                </a:lnTo>
                <a:lnTo>
                  <a:pt x="40204" y="7465"/>
                </a:lnTo>
                <a:lnTo>
                  <a:pt x="39482" y="9105"/>
                </a:lnTo>
                <a:lnTo>
                  <a:pt x="38679" y="14032"/>
                </a:lnTo>
                <a:lnTo>
                  <a:pt x="38322" y="21867"/>
                </a:lnTo>
                <a:lnTo>
                  <a:pt x="37380" y="26327"/>
                </a:lnTo>
                <a:lnTo>
                  <a:pt x="35905" y="30993"/>
                </a:lnTo>
                <a:lnTo>
                  <a:pt x="34076" y="35797"/>
                </a:lnTo>
                <a:lnTo>
                  <a:pt x="29785" y="47909"/>
                </a:lnTo>
                <a:lnTo>
                  <a:pt x="27455" y="54695"/>
                </a:lnTo>
                <a:lnTo>
                  <a:pt x="25902" y="62605"/>
                </a:lnTo>
                <a:lnTo>
                  <a:pt x="24866" y="71265"/>
                </a:lnTo>
                <a:lnTo>
                  <a:pt x="24177" y="80426"/>
                </a:lnTo>
                <a:lnTo>
                  <a:pt x="22870" y="89919"/>
                </a:lnTo>
                <a:lnTo>
                  <a:pt x="21152" y="99635"/>
                </a:lnTo>
                <a:lnTo>
                  <a:pt x="19160" y="109498"/>
                </a:lnTo>
                <a:lnTo>
                  <a:pt x="16139" y="119461"/>
                </a:lnTo>
                <a:lnTo>
                  <a:pt x="12432" y="129489"/>
                </a:lnTo>
                <a:lnTo>
                  <a:pt x="8266" y="139562"/>
                </a:lnTo>
                <a:lnTo>
                  <a:pt x="5489" y="149663"/>
                </a:lnTo>
                <a:lnTo>
                  <a:pt x="3638" y="159784"/>
                </a:lnTo>
                <a:lnTo>
                  <a:pt x="2405" y="169918"/>
                </a:lnTo>
                <a:lnTo>
                  <a:pt x="1582" y="180061"/>
                </a:lnTo>
                <a:lnTo>
                  <a:pt x="1034" y="190210"/>
                </a:lnTo>
                <a:lnTo>
                  <a:pt x="424" y="209670"/>
                </a:lnTo>
                <a:lnTo>
                  <a:pt x="0" y="246657"/>
                </a:lnTo>
                <a:lnTo>
                  <a:pt x="1672" y="251540"/>
                </a:lnTo>
                <a:lnTo>
                  <a:pt x="4480" y="255642"/>
                </a:lnTo>
                <a:lnTo>
                  <a:pt x="17109" y="268309"/>
                </a:lnTo>
                <a:lnTo>
                  <a:pt x="19851" y="270208"/>
                </a:lnTo>
                <a:lnTo>
                  <a:pt x="22525" y="271474"/>
                </a:lnTo>
                <a:lnTo>
                  <a:pt x="30416" y="27400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InkAnnotation104"/>
          <p:cNvSpPr/>
          <p:nvPr/>
        </p:nvSpPr>
        <p:spPr>
          <a:xfrm>
            <a:off x="7856640" y="1806480"/>
            <a:ext cx="21960" cy="266760"/>
          </a:xfrm>
          <a:custGeom>
            <a:avLst/>
            <a:gdLst>
              <a:gd name="textAreaLeft" fmla="*/ 0 w 21960"/>
              <a:gd name="textAreaRight" fmla="*/ 22320 w 219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22823" h="266701">
                <a:moveTo>
                  <a:pt x="22822" y="0"/>
                </a:moveTo>
                <a:lnTo>
                  <a:pt x="22822" y="42671"/>
                </a:lnTo>
                <a:lnTo>
                  <a:pt x="21976" y="49614"/>
                </a:lnTo>
                <a:lnTo>
                  <a:pt x="20564" y="57630"/>
                </a:lnTo>
                <a:lnTo>
                  <a:pt x="18777" y="66360"/>
                </a:lnTo>
                <a:lnTo>
                  <a:pt x="14534" y="85091"/>
                </a:lnTo>
                <a:lnTo>
                  <a:pt x="4909" y="124711"/>
                </a:lnTo>
                <a:lnTo>
                  <a:pt x="3261" y="134787"/>
                </a:lnTo>
                <a:lnTo>
                  <a:pt x="2161" y="144892"/>
                </a:lnTo>
                <a:lnTo>
                  <a:pt x="1428" y="155015"/>
                </a:lnTo>
                <a:lnTo>
                  <a:pt x="940" y="164303"/>
                </a:lnTo>
                <a:lnTo>
                  <a:pt x="397" y="181397"/>
                </a:lnTo>
                <a:lnTo>
                  <a:pt x="19" y="218527"/>
                </a:lnTo>
                <a:lnTo>
                  <a:pt x="0" y="224424"/>
                </a:lnTo>
                <a:lnTo>
                  <a:pt x="834" y="230896"/>
                </a:lnTo>
                <a:lnTo>
                  <a:pt x="2237" y="237751"/>
                </a:lnTo>
                <a:lnTo>
                  <a:pt x="4019" y="244861"/>
                </a:lnTo>
                <a:lnTo>
                  <a:pt x="6053" y="250447"/>
                </a:lnTo>
                <a:lnTo>
                  <a:pt x="8256" y="255018"/>
                </a:lnTo>
                <a:lnTo>
                  <a:pt x="15202" y="2667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InkAnnotation105"/>
          <p:cNvSpPr/>
          <p:nvPr/>
        </p:nvSpPr>
        <p:spPr>
          <a:xfrm>
            <a:off x="8099280" y="1790640"/>
            <a:ext cx="328680" cy="273240"/>
          </a:xfrm>
          <a:custGeom>
            <a:avLst/>
            <a:gdLst>
              <a:gd name="textAreaLeft" fmla="*/ 0 w 328680"/>
              <a:gd name="textAreaRight" fmla="*/ 329040 w 32868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327661" h="273106">
                <a:moveTo>
                  <a:pt x="0" y="45708"/>
                </a:moveTo>
                <a:lnTo>
                  <a:pt x="0" y="34357"/>
                </a:lnTo>
                <a:lnTo>
                  <a:pt x="846" y="32214"/>
                </a:lnTo>
                <a:lnTo>
                  <a:pt x="4045" y="27575"/>
                </a:lnTo>
                <a:lnTo>
                  <a:pt x="10547" y="22691"/>
                </a:lnTo>
                <a:lnTo>
                  <a:pt x="19081" y="17698"/>
                </a:lnTo>
                <a:lnTo>
                  <a:pt x="28518" y="12657"/>
                </a:lnTo>
                <a:lnTo>
                  <a:pt x="34252" y="10127"/>
                </a:lnTo>
                <a:lnTo>
                  <a:pt x="40614" y="7594"/>
                </a:lnTo>
                <a:lnTo>
                  <a:pt x="47396" y="5059"/>
                </a:lnTo>
                <a:lnTo>
                  <a:pt x="54457" y="3369"/>
                </a:lnTo>
                <a:lnTo>
                  <a:pt x="61705" y="2242"/>
                </a:lnTo>
                <a:lnTo>
                  <a:pt x="69077" y="1490"/>
                </a:lnTo>
                <a:lnTo>
                  <a:pt x="77377" y="990"/>
                </a:lnTo>
                <a:lnTo>
                  <a:pt x="95632" y="433"/>
                </a:lnTo>
                <a:lnTo>
                  <a:pt x="136709" y="47"/>
                </a:lnTo>
                <a:lnTo>
                  <a:pt x="163506" y="0"/>
                </a:lnTo>
                <a:lnTo>
                  <a:pt x="169117" y="842"/>
                </a:lnTo>
                <a:lnTo>
                  <a:pt x="174551" y="2251"/>
                </a:lnTo>
                <a:lnTo>
                  <a:pt x="184258" y="6074"/>
                </a:lnTo>
                <a:lnTo>
                  <a:pt x="191395" y="10595"/>
                </a:lnTo>
                <a:lnTo>
                  <a:pt x="192790" y="13833"/>
                </a:lnTo>
                <a:lnTo>
                  <a:pt x="192873" y="17684"/>
                </a:lnTo>
                <a:lnTo>
                  <a:pt x="192082" y="21946"/>
                </a:lnTo>
                <a:lnTo>
                  <a:pt x="190708" y="26480"/>
                </a:lnTo>
                <a:lnTo>
                  <a:pt x="188946" y="31196"/>
                </a:lnTo>
                <a:lnTo>
                  <a:pt x="186923" y="36033"/>
                </a:lnTo>
                <a:lnTo>
                  <a:pt x="183882" y="41798"/>
                </a:lnTo>
                <a:lnTo>
                  <a:pt x="180161" y="48181"/>
                </a:lnTo>
                <a:lnTo>
                  <a:pt x="175988" y="54977"/>
                </a:lnTo>
                <a:lnTo>
                  <a:pt x="169818" y="61201"/>
                </a:lnTo>
                <a:lnTo>
                  <a:pt x="162319" y="67043"/>
                </a:lnTo>
                <a:lnTo>
                  <a:pt x="153932" y="72632"/>
                </a:lnTo>
                <a:lnTo>
                  <a:pt x="145801" y="79744"/>
                </a:lnTo>
                <a:lnTo>
                  <a:pt x="137841" y="87872"/>
                </a:lnTo>
                <a:lnTo>
                  <a:pt x="129994" y="96677"/>
                </a:lnTo>
                <a:lnTo>
                  <a:pt x="121376" y="105088"/>
                </a:lnTo>
                <a:lnTo>
                  <a:pt x="112243" y="113235"/>
                </a:lnTo>
                <a:lnTo>
                  <a:pt x="102770" y="121206"/>
                </a:lnTo>
                <a:lnTo>
                  <a:pt x="93913" y="129060"/>
                </a:lnTo>
                <a:lnTo>
                  <a:pt x="77300" y="144560"/>
                </a:lnTo>
                <a:lnTo>
                  <a:pt x="53666" y="167567"/>
                </a:lnTo>
                <a:lnTo>
                  <a:pt x="47630" y="174361"/>
                </a:lnTo>
                <a:lnTo>
                  <a:pt x="42760" y="180583"/>
                </a:lnTo>
                <a:lnTo>
                  <a:pt x="38666" y="186425"/>
                </a:lnTo>
                <a:lnTo>
                  <a:pt x="35937" y="192859"/>
                </a:lnTo>
                <a:lnTo>
                  <a:pt x="34119" y="199689"/>
                </a:lnTo>
                <a:lnTo>
                  <a:pt x="32906" y="206782"/>
                </a:lnTo>
                <a:lnTo>
                  <a:pt x="32944" y="213204"/>
                </a:lnTo>
                <a:lnTo>
                  <a:pt x="33816" y="219179"/>
                </a:lnTo>
                <a:lnTo>
                  <a:pt x="35244" y="224855"/>
                </a:lnTo>
                <a:lnTo>
                  <a:pt x="37890" y="230333"/>
                </a:lnTo>
                <a:lnTo>
                  <a:pt x="41346" y="235678"/>
                </a:lnTo>
                <a:lnTo>
                  <a:pt x="45344" y="240935"/>
                </a:lnTo>
                <a:lnTo>
                  <a:pt x="50549" y="245286"/>
                </a:lnTo>
                <a:lnTo>
                  <a:pt x="56559" y="249033"/>
                </a:lnTo>
                <a:lnTo>
                  <a:pt x="63107" y="252378"/>
                </a:lnTo>
                <a:lnTo>
                  <a:pt x="70858" y="255455"/>
                </a:lnTo>
                <a:lnTo>
                  <a:pt x="79411" y="258353"/>
                </a:lnTo>
                <a:lnTo>
                  <a:pt x="88501" y="261131"/>
                </a:lnTo>
                <a:lnTo>
                  <a:pt x="97947" y="262984"/>
                </a:lnTo>
                <a:lnTo>
                  <a:pt x="107631" y="264219"/>
                </a:lnTo>
                <a:lnTo>
                  <a:pt x="117475" y="265042"/>
                </a:lnTo>
                <a:lnTo>
                  <a:pt x="128270" y="266437"/>
                </a:lnTo>
                <a:lnTo>
                  <a:pt x="139701" y="268214"/>
                </a:lnTo>
                <a:lnTo>
                  <a:pt x="151553" y="270246"/>
                </a:lnTo>
                <a:lnTo>
                  <a:pt x="164536" y="271600"/>
                </a:lnTo>
                <a:lnTo>
                  <a:pt x="178270" y="272503"/>
                </a:lnTo>
                <a:lnTo>
                  <a:pt x="192507" y="273105"/>
                </a:lnTo>
                <a:lnTo>
                  <a:pt x="205385" y="272659"/>
                </a:lnTo>
                <a:lnTo>
                  <a:pt x="217356" y="271515"/>
                </a:lnTo>
                <a:lnTo>
                  <a:pt x="228724" y="269906"/>
                </a:lnTo>
                <a:lnTo>
                  <a:pt x="239689" y="268834"/>
                </a:lnTo>
                <a:lnTo>
                  <a:pt x="250385" y="268118"/>
                </a:lnTo>
                <a:lnTo>
                  <a:pt x="270456" y="267324"/>
                </a:lnTo>
                <a:lnTo>
                  <a:pt x="295188" y="266877"/>
                </a:lnTo>
                <a:lnTo>
                  <a:pt x="327660" y="26668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InkAnnotation106"/>
          <p:cNvSpPr/>
          <p:nvPr/>
        </p:nvSpPr>
        <p:spPr>
          <a:xfrm>
            <a:off x="6659640" y="2362320"/>
            <a:ext cx="38160" cy="174600"/>
          </a:xfrm>
          <a:custGeom>
            <a:avLst/>
            <a:gdLst>
              <a:gd name="textAreaLeft" fmla="*/ 0 w 38160"/>
              <a:gd name="textAreaRight" fmla="*/ 38520 w 381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38101" h="175261">
                <a:moveTo>
                  <a:pt x="38100" y="0"/>
                </a:moveTo>
                <a:lnTo>
                  <a:pt x="38100" y="14651"/>
                </a:lnTo>
                <a:lnTo>
                  <a:pt x="37254" y="19081"/>
                </a:lnTo>
                <a:lnTo>
                  <a:pt x="35842" y="23727"/>
                </a:lnTo>
                <a:lnTo>
                  <a:pt x="34055" y="28518"/>
                </a:lnTo>
                <a:lnTo>
                  <a:pt x="32863" y="34252"/>
                </a:lnTo>
                <a:lnTo>
                  <a:pt x="32069" y="40615"/>
                </a:lnTo>
                <a:lnTo>
                  <a:pt x="31539" y="47397"/>
                </a:lnTo>
                <a:lnTo>
                  <a:pt x="30339" y="54458"/>
                </a:lnTo>
                <a:lnTo>
                  <a:pt x="28693" y="61705"/>
                </a:lnTo>
                <a:lnTo>
                  <a:pt x="26748" y="69077"/>
                </a:lnTo>
                <a:lnTo>
                  <a:pt x="25452" y="76531"/>
                </a:lnTo>
                <a:lnTo>
                  <a:pt x="24589" y="84041"/>
                </a:lnTo>
                <a:lnTo>
                  <a:pt x="24012" y="91587"/>
                </a:lnTo>
                <a:lnTo>
                  <a:pt x="22781" y="99158"/>
                </a:lnTo>
                <a:lnTo>
                  <a:pt x="21115" y="106745"/>
                </a:lnTo>
                <a:lnTo>
                  <a:pt x="19157" y="114344"/>
                </a:lnTo>
                <a:lnTo>
                  <a:pt x="17005" y="121949"/>
                </a:lnTo>
                <a:lnTo>
                  <a:pt x="12355" y="137173"/>
                </a:lnTo>
                <a:lnTo>
                  <a:pt x="10777" y="143942"/>
                </a:lnTo>
                <a:lnTo>
                  <a:pt x="9725" y="150148"/>
                </a:lnTo>
                <a:lnTo>
                  <a:pt x="9023" y="155979"/>
                </a:lnTo>
                <a:lnTo>
                  <a:pt x="7708" y="160713"/>
                </a:lnTo>
                <a:lnTo>
                  <a:pt x="5985" y="164715"/>
                </a:lnTo>
                <a:lnTo>
                  <a:pt x="0" y="1752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InkAnnotation107"/>
          <p:cNvSpPr/>
          <p:nvPr/>
        </p:nvSpPr>
        <p:spPr>
          <a:xfrm>
            <a:off x="6850080" y="2320920"/>
            <a:ext cx="228600" cy="23184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28601" h="231977">
                <a:moveTo>
                  <a:pt x="0" y="33887"/>
                </a:moveTo>
                <a:lnTo>
                  <a:pt x="4046" y="33887"/>
                </a:lnTo>
                <a:lnTo>
                  <a:pt x="5237" y="33040"/>
                </a:lnTo>
                <a:lnTo>
                  <a:pt x="6032" y="31630"/>
                </a:lnTo>
                <a:lnTo>
                  <a:pt x="6561" y="29842"/>
                </a:lnTo>
                <a:lnTo>
                  <a:pt x="7761" y="28650"/>
                </a:lnTo>
                <a:lnTo>
                  <a:pt x="9407" y="27856"/>
                </a:lnTo>
                <a:lnTo>
                  <a:pt x="14341" y="26127"/>
                </a:lnTo>
                <a:lnTo>
                  <a:pt x="18028" y="24480"/>
                </a:lnTo>
                <a:lnTo>
                  <a:pt x="26639" y="20393"/>
                </a:lnTo>
                <a:lnTo>
                  <a:pt x="50964" y="8383"/>
                </a:lnTo>
                <a:lnTo>
                  <a:pt x="56836" y="5878"/>
                </a:lnTo>
                <a:lnTo>
                  <a:pt x="63290" y="3361"/>
                </a:lnTo>
                <a:lnTo>
                  <a:pt x="70133" y="836"/>
                </a:lnTo>
                <a:lnTo>
                  <a:pt x="77235" y="0"/>
                </a:lnTo>
                <a:lnTo>
                  <a:pt x="84511" y="289"/>
                </a:lnTo>
                <a:lnTo>
                  <a:pt x="91901" y="1328"/>
                </a:lnTo>
                <a:lnTo>
                  <a:pt x="98521" y="2021"/>
                </a:lnTo>
                <a:lnTo>
                  <a:pt x="104627" y="2483"/>
                </a:lnTo>
                <a:lnTo>
                  <a:pt x="110391" y="2791"/>
                </a:lnTo>
                <a:lnTo>
                  <a:pt x="121312" y="3134"/>
                </a:lnTo>
                <a:lnTo>
                  <a:pt x="126594" y="3225"/>
                </a:lnTo>
                <a:lnTo>
                  <a:pt x="131810" y="4132"/>
                </a:lnTo>
                <a:lnTo>
                  <a:pt x="136980" y="5584"/>
                </a:lnTo>
                <a:lnTo>
                  <a:pt x="142120" y="7398"/>
                </a:lnTo>
                <a:lnTo>
                  <a:pt x="146393" y="9454"/>
                </a:lnTo>
                <a:lnTo>
                  <a:pt x="153399" y="13997"/>
                </a:lnTo>
                <a:lnTo>
                  <a:pt x="159336" y="21096"/>
                </a:lnTo>
                <a:lnTo>
                  <a:pt x="162104" y="25360"/>
                </a:lnTo>
                <a:lnTo>
                  <a:pt x="165180" y="32355"/>
                </a:lnTo>
                <a:lnTo>
                  <a:pt x="165999" y="35406"/>
                </a:lnTo>
                <a:lnTo>
                  <a:pt x="165699" y="39133"/>
                </a:lnTo>
                <a:lnTo>
                  <a:pt x="164653" y="43311"/>
                </a:lnTo>
                <a:lnTo>
                  <a:pt x="163109" y="47790"/>
                </a:lnTo>
                <a:lnTo>
                  <a:pt x="161233" y="52469"/>
                </a:lnTo>
                <a:lnTo>
                  <a:pt x="159136" y="57282"/>
                </a:lnTo>
                <a:lnTo>
                  <a:pt x="156890" y="62184"/>
                </a:lnTo>
                <a:lnTo>
                  <a:pt x="153700" y="67991"/>
                </a:lnTo>
                <a:lnTo>
                  <a:pt x="149880" y="74403"/>
                </a:lnTo>
                <a:lnTo>
                  <a:pt x="145639" y="81218"/>
                </a:lnTo>
                <a:lnTo>
                  <a:pt x="141120" y="87454"/>
                </a:lnTo>
                <a:lnTo>
                  <a:pt x="136413" y="93305"/>
                </a:lnTo>
                <a:lnTo>
                  <a:pt x="131583" y="98899"/>
                </a:lnTo>
                <a:lnTo>
                  <a:pt x="124975" y="105168"/>
                </a:lnTo>
                <a:lnTo>
                  <a:pt x="117184" y="111888"/>
                </a:lnTo>
                <a:lnTo>
                  <a:pt x="108602" y="118908"/>
                </a:lnTo>
                <a:lnTo>
                  <a:pt x="100342" y="125281"/>
                </a:lnTo>
                <a:lnTo>
                  <a:pt x="92294" y="131223"/>
                </a:lnTo>
                <a:lnTo>
                  <a:pt x="76579" y="142341"/>
                </a:lnTo>
                <a:lnTo>
                  <a:pt x="61128" y="152927"/>
                </a:lnTo>
                <a:lnTo>
                  <a:pt x="54299" y="158120"/>
                </a:lnTo>
                <a:lnTo>
                  <a:pt x="48053" y="163276"/>
                </a:lnTo>
                <a:lnTo>
                  <a:pt x="42195" y="168406"/>
                </a:lnTo>
                <a:lnTo>
                  <a:pt x="37444" y="173520"/>
                </a:lnTo>
                <a:lnTo>
                  <a:pt x="33429" y="178622"/>
                </a:lnTo>
                <a:lnTo>
                  <a:pt x="29906" y="183717"/>
                </a:lnTo>
                <a:lnTo>
                  <a:pt x="26711" y="188807"/>
                </a:lnTo>
                <a:lnTo>
                  <a:pt x="23735" y="193894"/>
                </a:lnTo>
                <a:lnTo>
                  <a:pt x="20902" y="198978"/>
                </a:lnTo>
                <a:lnTo>
                  <a:pt x="19861" y="203214"/>
                </a:lnTo>
                <a:lnTo>
                  <a:pt x="20015" y="206885"/>
                </a:lnTo>
                <a:lnTo>
                  <a:pt x="20963" y="210179"/>
                </a:lnTo>
                <a:lnTo>
                  <a:pt x="24275" y="216097"/>
                </a:lnTo>
                <a:lnTo>
                  <a:pt x="26344" y="218860"/>
                </a:lnTo>
                <a:lnTo>
                  <a:pt x="29416" y="220702"/>
                </a:lnTo>
                <a:lnTo>
                  <a:pt x="33157" y="221931"/>
                </a:lnTo>
                <a:lnTo>
                  <a:pt x="37345" y="222749"/>
                </a:lnTo>
                <a:lnTo>
                  <a:pt x="42677" y="224142"/>
                </a:lnTo>
                <a:lnTo>
                  <a:pt x="48771" y="225917"/>
                </a:lnTo>
                <a:lnTo>
                  <a:pt x="55374" y="227947"/>
                </a:lnTo>
                <a:lnTo>
                  <a:pt x="63163" y="229300"/>
                </a:lnTo>
                <a:lnTo>
                  <a:pt x="71742" y="230202"/>
                </a:lnTo>
                <a:lnTo>
                  <a:pt x="80848" y="230804"/>
                </a:lnTo>
                <a:lnTo>
                  <a:pt x="91152" y="231205"/>
                </a:lnTo>
                <a:lnTo>
                  <a:pt x="125034" y="231769"/>
                </a:lnTo>
                <a:lnTo>
                  <a:pt x="177541" y="231976"/>
                </a:lnTo>
                <a:lnTo>
                  <a:pt x="186940" y="231139"/>
                </a:lnTo>
                <a:lnTo>
                  <a:pt x="195747" y="229735"/>
                </a:lnTo>
                <a:lnTo>
                  <a:pt x="204158" y="227953"/>
                </a:lnTo>
                <a:lnTo>
                  <a:pt x="210612" y="226764"/>
                </a:lnTo>
                <a:lnTo>
                  <a:pt x="215761" y="225972"/>
                </a:lnTo>
                <a:lnTo>
                  <a:pt x="228600" y="22438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InkAnnotation108"/>
          <p:cNvSpPr/>
          <p:nvPr/>
        </p:nvSpPr>
        <p:spPr>
          <a:xfrm>
            <a:off x="7826400" y="2583000"/>
            <a:ext cx="60480" cy="244440"/>
          </a:xfrm>
          <a:custGeom>
            <a:avLst/>
            <a:gdLst>
              <a:gd name="textAreaLeft" fmla="*/ 0 w 60480"/>
              <a:gd name="textAreaRight" fmla="*/ 60840 w 604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59861" h="243841">
                <a:moveTo>
                  <a:pt x="59860" y="0"/>
                </a:moveTo>
                <a:lnTo>
                  <a:pt x="59860" y="4045"/>
                </a:lnTo>
                <a:lnTo>
                  <a:pt x="59014" y="6084"/>
                </a:lnTo>
                <a:lnTo>
                  <a:pt x="57601" y="8289"/>
                </a:lnTo>
                <a:lnTo>
                  <a:pt x="53299" y="13867"/>
                </a:lnTo>
                <a:lnTo>
                  <a:pt x="52099" y="16018"/>
                </a:lnTo>
                <a:lnTo>
                  <a:pt x="46366" y="27136"/>
                </a:lnTo>
                <a:lnTo>
                  <a:pt x="34356" y="51029"/>
                </a:lnTo>
                <a:lnTo>
                  <a:pt x="31851" y="56879"/>
                </a:lnTo>
                <a:lnTo>
                  <a:pt x="29334" y="63320"/>
                </a:lnTo>
                <a:lnTo>
                  <a:pt x="24281" y="77249"/>
                </a:lnTo>
                <a:lnTo>
                  <a:pt x="11598" y="114438"/>
                </a:lnTo>
                <a:lnTo>
                  <a:pt x="9906" y="122012"/>
                </a:lnTo>
                <a:lnTo>
                  <a:pt x="8778" y="129602"/>
                </a:lnTo>
                <a:lnTo>
                  <a:pt x="8025" y="137201"/>
                </a:lnTo>
                <a:lnTo>
                  <a:pt x="7524" y="144807"/>
                </a:lnTo>
                <a:lnTo>
                  <a:pt x="7190" y="152418"/>
                </a:lnTo>
                <a:lnTo>
                  <a:pt x="6967" y="160032"/>
                </a:lnTo>
                <a:lnTo>
                  <a:pt x="5971" y="167648"/>
                </a:lnTo>
                <a:lnTo>
                  <a:pt x="4462" y="175266"/>
                </a:lnTo>
                <a:lnTo>
                  <a:pt x="2608" y="182884"/>
                </a:lnTo>
                <a:lnTo>
                  <a:pt x="1372" y="189656"/>
                </a:lnTo>
                <a:lnTo>
                  <a:pt x="549" y="195864"/>
                </a:lnTo>
                <a:lnTo>
                  <a:pt x="0" y="201696"/>
                </a:lnTo>
                <a:lnTo>
                  <a:pt x="481" y="207278"/>
                </a:lnTo>
                <a:lnTo>
                  <a:pt x="1647" y="212692"/>
                </a:lnTo>
                <a:lnTo>
                  <a:pt x="3272" y="217995"/>
                </a:lnTo>
                <a:lnTo>
                  <a:pt x="4355" y="222376"/>
                </a:lnTo>
                <a:lnTo>
                  <a:pt x="5558" y="229503"/>
                </a:lnTo>
                <a:lnTo>
                  <a:pt x="6725" y="232589"/>
                </a:lnTo>
                <a:lnTo>
                  <a:pt x="8351" y="235493"/>
                </a:lnTo>
                <a:lnTo>
                  <a:pt x="14141" y="2438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InkAnnotation109"/>
          <p:cNvSpPr/>
          <p:nvPr/>
        </p:nvSpPr>
        <p:spPr>
          <a:xfrm>
            <a:off x="8016840" y="2583000"/>
            <a:ext cx="228600" cy="129960"/>
          </a:xfrm>
          <a:custGeom>
            <a:avLst/>
            <a:gdLst>
              <a:gd name="textAreaLeft" fmla="*/ 0 w 228600"/>
              <a:gd name="textAreaRight" fmla="*/ 228960 w 22860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228148" h="129408">
                <a:moveTo>
                  <a:pt x="60506" y="0"/>
                </a:moveTo>
                <a:lnTo>
                  <a:pt x="60506" y="4045"/>
                </a:lnTo>
                <a:lnTo>
                  <a:pt x="59660" y="6084"/>
                </a:lnTo>
                <a:lnTo>
                  <a:pt x="58247" y="8289"/>
                </a:lnTo>
                <a:lnTo>
                  <a:pt x="56461" y="10606"/>
                </a:lnTo>
                <a:lnTo>
                  <a:pt x="54423" y="12998"/>
                </a:lnTo>
                <a:lnTo>
                  <a:pt x="52218" y="15438"/>
                </a:lnTo>
                <a:lnTo>
                  <a:pt x="49901" y="17912"/>
                </a:lnTo>
                <a:lnTo>
                  <a:pt x="47509" y="21255"/>
                </a:lnTo>
                <a:lnTo>
                  <a:pt x="45068" y="25177"/>
                </a:lnTo>
                <a:lnTo>
                  <a:pt x="42594" y="29485"/>
                </a:lnTo>
                <a:lnTo>
                  <a:pt x="39252" y="34050"/>
                </a:lnTo>
                <a:lnTo>
                  <a:pt x="35329" y="38787"/>
                </a:lnTo>
                <a:lnTo>
                  <a:pt x="31021" y="43638"/>
                </a:lnTo>
                <a:lnTo>
                  <a:pt x="27304" y="48565"/>
                </a:lnTo>
                <a:lnTo>
                  <a:pt x="23977" y="53544"/>
                </a:lnTo>
                <a:lnTo>
                  <a:pt x="20913" y="58555"/>
                </a:lnTo>
                <a:lnTo>
                  <a:pt x="18024" y="63590"/>
                </a:lnTo>
                <a:lnTo>
                  <a:pt x="12556" y="73700"/>
                </a:lnTo>
                <a:lnTo>
                  <a:pt x="4718" y="88912"/>
                </a:lnTo>
                <a:lnTo>
                  <a:pt x="2994" y="93142"/>
                </a:lnTo>
                <a:lnTo>
                  <a:pt x="1845" y="96808"/>
                </a:lnTo>
                <a:lnTo>
                  <a:pt x="1078" y="100098"/>
                </a:lnTo>
                <a:lnTo>
                  <a:pt x="567" y="103139"/>
                </a:lnTo>
                <a:lnTo>
                  <a:pt x="227" y="106013"/>
                </a:lnTo>
                <a:lnTo>
                  <a:pt x="0" y="108775"/>
                </a:lnTo>
                <a:lnTo>
                  <a:pt x="696" y="111464"/>
                </a:lnTo>
                <a:lnTo>
                  <a:pt x="2005" y="114102"/>
                </a:lnTo>
                <a:lnTo>
                  <a:pt x="3726" y="116708"/>
                </a:lnTo>
                <a:lnTo>
                  <a:pt x="5720" y="119292"/>
                </a:lnTo>
                <a:lnTo>
                  <a:pt x="7895" y="121861"/>
                </a:lnTo>
                <a:lnTo>
                  <a:pt x="10192" y="124421"/>
                </a:lnTo>
                <a:lnTo>
                  <a:pt x="14263" y="126127"/>
                </a:lnTo>
                <a:lnTo>
                  <a:pt x="19517" y="127265"/>
                </a:lnTo>
                <a:lnTo>
                  <a:pt x="25560" y="128023"/>
                </a:lnTo>
                <a:lnTo>
                  <a:pt x="32130" y="128529"/>
                </a:lnTo>
                <a:lnTo>
                  <a:pt x="39048" y="128866"/>
                </a:lnTo>
                <a:lnTo>
                  <a:pt x="53510" y="129240"/>
                </a:lnTo>
                <a:lnTo>
                  <a:pt x="68403" y="129407"/>
                </a:lnTo>
                <a:lnTo>
                  <a:pt x="77625" y="128604"/>
                </a:lnTo>
                <a:lnTo>
                  <a:pt x="88005" y="127223"/>
                </a:lnTo>
                <a:lnTo>
                  <a:pt x="99159" y="125455"/>
                </a:lnTo>
                <a:lnTo>
                  <a:pt x="109981" y="123430"/>
                </a:lnTo>
                <a:lnTo>
                  <a:pt x="131038" y="118922"/>
                </a:lnTo>
                <a:lnTo>
                  <a:pt x="142242" y="117382"/>
                </a:lnTo>
                <a:lnTo>
                  <a:pt x="153943" y="116355"/>
                </a:lnTo>
                <a:lnTo>
                  <a:pt x="165977" y="115670"/>
                </a:lnTo>
                <a:lnTo>
                  <a:pt x="176541" y="114366"/>
                </a:lnTo>
                <a:lnTo>
                  <a:pt x="186123" y="112651"/>
                </a:lnTo>
                <a:lnTo>
                  <a:pt x="195052" y="110661"/>
                </a:lnTo>
                <a:lnTo>
                  <a:pt x="202696" y="108487"/>
                </a:lnTo>
                <a:lnTo>
                  <a:pt x="209487" y="106192"/>
                </a:lnTo>
                <a:lnTo>
                  <a:pt x="228147" y="990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InkAnnotation110"/>
          <p:cNvSpPr/>
          <p:nvPr/>
        </p:nvSpPr>
        <p:spPr>
          <a:xfrm>
            <a:off x="8213760" y="2575080"/>
            <a:ext cx="76320" cy="266400"/>
          </a:xfrm>
          <a:custGeom>
            <a:avLst/>
            <a:gdLst>
              <a:gd name="textAreaLeft" fmla="*/ 0 w 76320"/>
              <a:gd name="textAreaRight" fmla="*/ 76320 w 76320"/>
              <a:gd name="textAreaTop" fmla="*/ 0 h 266400"/>
              <a:gd name="textAreaBottom" fmla="*/ 266760 h 266400"/>
            </a:gdLst>
            <a:ahLst/>
            <a:rect l="textAreaLeft" t="textAreaTop" r="textAreaRight" b="textAreaBottom"/>
            <a:pathLst>
              <a:path w="76201" h="266701">
                <a:moveTo>
                  <a:pt x="76200" y="0"/>
                </a:moveTo>
                <a:lnTo>
                  <a:pt x="72155" y="0"/>
                </a:lnTo>
                <a:lnTo>
                  <a:pt x="70963" y="847"/>
                </a:lnTo>
                <a:lnTo>
                  <a:pt x="70169" y="2258"/>
                </a:lnTo>
                <a:lnTo>
                  <a:pt x="69286" y="6084"/>
                </a:lnTo>
                <a:lnTo>
                  <a:pt x="68789" y="13844"/>
                </a:lnTo>
                <a:lnTo>
                  <a:pt x="68673" y="21957"/>
                </a:lnTo>
                <a:lnTo>
                  <a:pt x="67796" y="26492"/>
                </a:lnTo>
                <a:lnTo>
                  <a:pt x="66363" y="31208"/>
                </a:lnTo>
                <a:lnTo>
                  <a:pt x="64563" y="36045"/>
                </a:lnTo>
                <a:lnTo>
                  <a:pt x="57982" y="54989"/>
                </a:lnTo>
                <a:lnTo>
                  <a:pt x="35549" y="121963"/>
                </a:lnTo>
                <a:lnTo>
                  <a:pt x="32165" y="129569"/>
                </a:lnTo>
                <a:lnTo>
                  <a:pt x="28217" y="137179"/>
                </a:lnTo>
                <a:lnTo>
                  <a:pt x="23891" y="144793"/>
                </a:lnTo>
                <a:lnTo>
                  <a:pt x="20161" y="153255"/>
                </a:lnTo>
                <a:lnTo>
                  <a:pt x="16828" y="162284"/>
                </a:lnTo>
                <a:lnTo>
                  <a:pt x="5394" y="197062"/>
                </a:lnTo>
                <a:lnTo>
                  <a:pt x="3596" y="205035"/>
                </a:lnTo>
                <a:lnTo>
                  <a:pt x="2397" y="212890"/>
                </a:lnTo>
                <a:lnTo>
                  <a:pt x="1598" y="220667"/>
                </a:lnTo>
                <a:lnTo>
                  <a:pt x="1065" y="227544"/>
                </a:lnTo>
                <a:lnTo>
                  <a:pt x="711" y="233823"/>
                </a:lnTo>
                <a:lnTo>
                  <a:pt x="315" y="245315"/>
                </a:lnTo>
                <a:lnTo>
                  <a:pt x="0" y="2667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InkAnnotation111"/>
          <p:cNvSpPr/>
          <p:nvPr/>
        </p:nvSpPr>
        <p:spPr>
          <a:xfrm>
            <a:off x="8385120" y="2590920"/>
            <a:ext cx="217440" cy="133200"/>
          </a:xfrm>
          <a:custGeom>
            <a:avLst/>
            <a:gdLst>
              <a:gd name="textAreaLeft" fmla="*/ 0 w 217440"/>
              <a:gd name="textAreaRight" fmla="*/ 217800 w 21744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217449" h="133837">
                <a:moveTo>
                  <a:pt x="65048" y="0"/>
                </a:moveTo>
                <a:lnTo>
                  <a:pt x="65048" y="4045"/>
                </a:lnTo>
                <a:lnTo>
                  <a:pt x="64202" y="5237"/>
                </a:lnTo>
                <a:lnTo>
                  <a:pt x="62790" y="6031"/>
                </a:lnTo>
                <a:lnTo>
                  <a:pt x="61004" y="6561"/>
                </a:lnTo>
                <a:lnTo>
                  <a:pt x="59811" y="8607"/>
                </a:lnTo>
                <a:lnTo>
                  <a:pt x="59018" y="11665"/>
                </a:lnTo>
                <a:lnTo>
                  <a:pt x="58487" y="15397"/>
                </a:lnTo>
                <a:lnTo>
                  <a:pt x="58134" y="19578"/>
                </a:lnTo>
                <a:lnTo>
                  <a:pt x="57899" y="24059"/>
                </a:lnTo>
                <a:lnTo>
                  <a:pt x="57742" y="28739"/>
                </a:lnTo>
                <a:lnTo>
                  <a:pt x="55943" y="33553"/>
                </a:lnTo>
                <a:lnTo>
                  <a:pt x="53052" y="38455"/>
                </a:lnTo>
                <a:lnTo>
                  <a:pt x="49431" y="43417"/>
                </a:lnTo>
                <a:lnTo>
                  <a:pt x="47017" y="47571"/>
                </a:lnTo>
                <a:lnTo>
                  <a:pt x="45407" y="51187"/>
                </a:lnTo>
                <a:lnTo>
                  <a:pt x="44335" y="54445"/>
                </a:lnTo>
                <a:lnTo>
                  <a:pt x="41926" y="58310"/>
                </a:lnTo>
                <a:lnTo>
                  <a:pt x="38627" y="62580"/>
                </a:lnTo>
                <a:lnTo>
                  <a:pt x="34734" y="67120"/>
                </a:lnTo>
                <a:lnTo>
                  <a:pt x="31292" y="71840"/>
                </a:lnTo>
                <a:lnTo>
                  <a:pt x="28150" y="76680"/>
                </a:lnTo>
                <a:lnTo>
                  <a:pt x="25210" y="81600"/>
                </a:lnTo>
                <a:lnTo>
                  <a:pt x="22403" y="85727"/>
                </a:lnTo>
                <a:lnTo>
                  <a:pt x="19685" y="89324"/>
                </a:lnTo>
                <a:lnTo>
                  <a:pt x="17026" y="92570"/>
                </a:lnTo>
                <a:lnTo>
                  <a:pt x="14406" y="96426"/>
                </a:lnTo>
                <a:lnTo>
                  <a:pt x="11814" y="100691"/>
                </a:lnTo>
                <a:lnTo>
                  <a:pt x="9239" y="105227"/>
                </a:lnTo>
                <a:lnTo>
                  <a:pt x="7522" y="109098"/>
                </a:lnTo>
                <a:lnTo>
                  <a:pt x="6377" y="112525"/>
                </a:lnTo>
                <a:lnTo>
                  <a:pt x="5615" y="115657"/>
                </a:lnTo>
                <a:lnTo>
                  <a:pt x="4260" y="118592"/>
                </a:lnTo>
                <a:lnTo>
                  <a:pt x="2509" y="121394"/>
                </a:lnTo>
                <a:lnTo>
                  <a:pt x="496" y="124109"/>
                </a:lnTo>
                <a:lnTo>
                  <a:pt x="0" y="125920"/>
                </a:lnTo>
                <a:lnTo>
                  <a:pt x="516" y="127127"/>
                </a:lnTo>
                <a:lnTo>
                  <a:pt x="5312" y="130069"/>
                </a:lnTo>
                <a:lnTo>
                  <a:pt x="11969" y="133444"/>
                </a:lnTo>
                <a:lnTo>
                  <a:pt x="16116" y="133836"/>
                </a:lnTo>
                <a:lnTo>
                  <a:pt x="20574" y="133250"/>
                </a:lnTo>
                <a:lnTo>
                  <a:pt x="25238" y="132014"/>
                </a:lnTo>
                <a:lnTo>
                  <a:pt x="30889" y="131189"/>
                </a:lnTo>
                <a:lnTo>
                  <a:pt x="37196" y="130639"/>
                </a:lnTo>
                <a:lnTo>
                  <a:pt x="43940" y="130273"/>
                </a:lnTo>
                <a:lnTo>
                  <a:pt x="50976" y="129182"/>
                </a:lnTo>
                <a:lnTo>
                  <a:pt x="58206" y="127608"/>
                </a:lnTo>
                <a:lnTo>
                  <a:pt x="65567" y="125712"/>
                </a:lnTo>
                <a:lnTo>
                  <a:pt x="74707" y="124448"/>
                </a:lnTo>
                <a:lnTo>
                  <a:pt x="85035" y="123605"/>
                </a:lnTo>
                <a:lnTo>
                  <a:pt x="96153" y="123043"/>
                </a:lnTo>
                <a:lnTo>
                  <a:pt x="106950" y="121822"/>
                </a:lnTo>
                <a:lnTo>
                  <a:pt x="117536" y="120161"/>
                </a:lnTo>
                <a:lnTo>
                  <a:pt x="127981" y="118208"/>
                </a:lnTo>
                <a:lnTo>
                  <a:pt x="148617" y="113779"/>
                </a:lnTo>
                <a:lnTo>
                  <a:pt x="197095" y="102378"/>
                </a:lnTo>
                <a:lnTo>
                  <a:pt x="203032" y="101272"/>
                </a:lnTo>
                <a:lnTo>
                  <a:pt x="217448" y="990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InkAnnotation112"/>
          <p:cNvSpPr/>
          <p:nvPr/>
        </p:nvSpPr>
        <p:spPr>
          <a:xfrm>
            <a:off x="8572680" y="2552760"/>
            <a:ext cx="91800" cy="350640"/>
          </a:xfrm>
          <a:custGeom>
            <a:avLst/>
            <a:gdLst>
              <a:gd name="textAreaLeft" fmla="*/ 0 w 91800"/>
              <a:gd name="textAreaRight" fmla="*/ 92160 w 91800"/>
              <a:gd name="textAreaTop" fmla="*/ 0 h 350640"/>
              <a:gd name="textAreaBottom" fmla="*/ 351000 h 350640"/>
            </a:gdLst>
            <a:ahLst/>
            <a:rect l="textAreaLeft" t="textAreaTop" r="textAreaRight" b="textAreaBottom"/>
            <a:pathLst>
              <a:path w="91060" h="350521">
                <a:moveTo>
                  <a:pt x="91059" y="0"/>
                </a:moveTo>
                <a:lnTo>
                  <a:pt x="87014" y="8090"/>
                </a:lnTo>
                <a:lnTo>
                  <a:pt x="85028" y="14320"/>
                </a:lnTo>
                <a:lnTo>
                  <a:pt x="83298" y="20758"/>
                </a:lnTo>
                <a:lnTo>
                  <a:pt x="81652" y="24845"/>
                </a:lnTo>
                <a:lnTo>
                  <a:pt x="79708" y="29264"/>
                </a:lnTo>
                <a:lnTo>
                  <a:pt x="77565" y="34749"/>
                </a:lnTo>
                <a:lnTo>
                  <a:pt x="72926" y="47617"/>
                </a:lnTo>
                <a:lnTo>
                  <a:pt x="69657" y="54605"/>
                </a:lnTo>
                <a:lnTo>
                  <a:pt x="65785" y="61803"/>
                </a:lnTo>
                <a:lnTo>
                  <a:pt x="61509" y="69142"/>
                </a:lnTo>
                <a:lnTo>
                  <a:pt x="58660" y="76575"/>
                </a:lnTo>
                <a:lnTo>
                  <a:pt x="56759" y="84070"/>
                </a:lnTo>
                <a:lnTo>
                  <a:pt x="55493" y="91606"/>
                </a:lnTo>
                <a:lnTo>
                  <a:pt x="52955" y="100018"/>
                </a:lnTo>
                <a:lnTo>
                  <a:pt x="49569" y="109012"/>
                </a:lnTo>
                <a:lnTo>
                  <a:pt x="45619" y="118395"/>
                </a:lnTo>
                <a:lnTo>
                  <a:pt x="42140" y="127190"/>
                </a:lnTo>
                <a:lnTo>
                  <a:pt x="36015" y="143735"/>
                </a:lnTo>
                <a:lnTo>
                  <a:pt x="33197" y="152550"/>
                </a:lnTo>
                <a:lnTo>
                  <a:pt x="30471" y="161814"/>
                </a:lnTo>
                <a:lnTo>
                  <a:pt x="27806" y="171376"/>
                </a:lnTo>
                <a:lnTo>
                  <a:pt x="24338" y="180290"/>
                </a:lnTo>
                <a:lnTo>
                  <a:pt x="20332" y="188774"/>
                </a:lnTo>
                <a:lnTo>
                  <a:pt x="15967" y="196969"/>
                </a:lnTo>
                <a:lnTo>
                  <a:pt x="13058" y="205819"/>
                </a:lnTo>
                <a:lnTo>
                  <a:pt x="11119" y="215106"/>
                </a:lnTo>
                <a:lnTo>
                  <a:pt x="9825" y="224684"/>
                </a:lnTo>
                <a:lnTo>
                  <a:pt x="8116" y="233610"/>
                </a:lnTo>
                <a:lnTo>
                  <a:pt x="6131" y="242100"/>
                </a:lnTo>
                <a:lnTo>
                  <a:pt x="3961" y="250300"/>
                </a:lnTo>
                <a:lnTo>
                  <a:pt x="2514" y="259153"/>
                </a:lnTo>
                <a:lnTo>
                  <a:pt x="1549" y="268443"/>
                </a:lnTo>
                <a:lnTo>
                  <a:pt x="906" y="278022"/>
                </a:lnTo>
                <a:lnTo>
                  <a:pt x="477" y="286948"/>
                </a:lnTo>
                <a:lnTo>
                  <a:pt x="0" y="303639"/>
                </a:lnTo>
                <a:lnTo>
                  <a:pt x="721" y="311646"/>
                </a:lnTo>
                <a:lnTo>
                  <a:pt x="2047" y="319524"/>
                </a:lnTo>
                <a:lnTo>
                  <a:pt x="3778" y="327316"/>
                </a:lnTo>
                <a:lnTo>
                  <a:pt x="5701" y="338232"/>
                </a:lnTo>
                <a:lnTo>
                  <a:pt x="7239" y="3505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InkAnnotation113"/>
          <p:cNvSpPr/>
          <p:nvPr/>
        </p:nvSpPr>
        <p:spPr>
          <a:xfrm>
            <a:off x="5821200" y="3040200"/>
            <a:ext cx="54000" cy="198360"/>
          </a:xfrm>
          <a:custGeom>
            <a:avLst/>
            <a:gdLst>
              <a:gd name="textAreaLeft" fmla="*/ 0 w 54000"/>
              <a:gd name="textAreaRight" fmla="*/ 54360 w 5400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53341" h="198121">
                <a:moveTo>
                  <a:pt x="53340" y="0"/>
                </a:moveTo>
                <a:lnTo>
                  <a:pt x="53340" y="10606"/>
                </a:lnTo>
                <a:lnTo>
                  <a:pt x="52494" y="12997"/>
                </a:lnTo>
                <a:lnTo>
                  <a:pt x="51083" y="15438"/>
                </a:lnTo>
                <a:lnTo>
                  <a:pt x="49295" y="17912"/>
                </a:lnTo>
                <a:lnTo>
                  <a:pt x="47257" y="21255"/>
                </a:lnTo>
                <a:lnTo>
                  <a:pt x="45052" y="25176"/>
                </a:lnTo>
                <a:lnTo>
                  <a:pt x="40343" y="34049"/>
                </a:lnTo>
                <a:lnTo>
                  <a:pt x="35428" y="43638"/>
                </a:lnTo>
                <a:lnTo>
                  <a:pt x="33779" y="48565"/>
                </a:lnTo>
                <a:lnTo>
                  <a:pt x="32679" y="53544"/>
                </a:lnTo>
                <a:lnTo>
                  <a:pt x="31946" y="58555"/>
                </a:lnTo>
                <a:lnTo>
                  <a:pt x="30611" y="63590"/>
                </a:lnTo>
                <a:lnTo>
                  <a:pt x="28874" y="68641"/>
                </a:lnTo>
                <a:lnTo>
                  <a:pt x="26870" y="73700"/>
                </a:lnTo>
                <a:lnTo>
                  <a:pt x="24687" y="78767"/>
                </a:lnTo>
                <a:lnTo>
                  <a:pt x="20003" y="88912"/>
                </a:lnTo>
                <a:lnTo>
                  <a:pt x="17569" y="94835"/>
                </a:lnTo>
                <a:lnTo>
                  <a:pt x="15099" y="101323"/>
                </a:lnTo>
                <a:lnTo>
                  <a:pt x="12607" y="108189"/>
                </a:lnTo>
                <a:lnTo>
                  <a:pt x="10098" y="114459"/>
                </a:lnTo>
                <a:lnTo>
                  <a:pt x="7579" y="120333"/>
                </a:lnTo>
                <a:lnTo>
                  <a:pt x="5052" y="125942"/>
                </a:lnTo>
                <a:lnTo>
                  <a:pt x="3368" y="131375"/>
                </a:lnTo>
                <a:lnTo>
                  <a:pt x="2246" y="136690"/>
                </a:lnTo>
                <a:lnTo>
                  <a:pt x="1497" y="141927"/>
                </a:lnTo>
                <a:lnTo>
                  <a:pt x="998" y="147111"/>
                </a:lnTo>
                <a:lnTo>
                  <a:pt x="665" y="152261"/>
                </a:lnTo>
                <a:lnTo>
                  <a:pt x="443" y="157387"/>
                </a:lnTo>
                <a:lnTo>
                  <a:pt x="198" y="167599"/>
                </a:lnTo>
                <a:lnTo>
                  <a:pt x="0" y="1981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InkAnnotation114"/>
          <p:cNvSpPr/>
          <p:nvPr/>
        </p:nvSpPr>
        <p:spPr>
          <a:xfrm>
            <a:off x="5959440" y="3063960"/>
            <a:ext cx="204840" cy="90360"/>
          </a:xfrm>
          <a:custGeom>
            <a:avLst/>
            <a:gdLst>
              <a:gd name="textAreaLeft" fmla="*/ 0 w 204840"/>
              <a:gd name="textAreaRight" fmla="*/ 205200 w 20484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04547" h="91335">
                <a:moveTo>
                  <a:pt x="59766" y="7618"/>
                </a:moveTo>
                <a:lnTo>
                  <a:pt x="59766" y="312"/>
                </a:lnTo>
                <a:lnTo>
                  <a:pt x="65798" y="40"/>
                </a:lnTo>
                <a:lnTo>
                  <a:pt x="66326" y="26"/>
                </a:lnTo>
                <a:lnTo>
                  <a:pt x="60732" y="0"/>
                </a:lnTo>
                <a:lnTo>
                  <a:pt x="57937" y="2257"/>
                </a:lnTo>
                <a:lnTo>
                  <a:pt x="56007" y="4044"/>
                </a:lnTo>
                <a:lnTo>
                  <a:pt x="53874" y="5235"/>
                </a:lnTo>
                <a:lnTo>
                  <a:pt x="49245" y="6559"/>
                </a:lnTo>
                <a:lnTo>
                  <a:pt x="45978" y="7759"/>
                </a:lnTo>
                <a:lnTo>
                  <a:pt x="42107" y="9405"/>
                </a:lnTo>
                <a:lnTo>
                  <a:pt x="37834" y="11350"/>
                </a:lnTo>
                <a:lnTo>
                  <a:pt x="34138" y="13492"/>
                </a:lnTo>
                <a:lnTo>
                  <a:pt x="30827" y="15768"/>
                </a:lnTo>
                <a:lnTo>
                  <a:pt x="27773" y="18131"/>
                </a:lnTo>
                <a:lnTo>
                  <a:pt x="24891" y="20553"/>
                </a:lnTo>
                <a:lnTo>
                  <a:pt x="22123" y="23015"/>
                </a:lnTo>
                <a:lnTo>
                  <a:pt x="19430" y="25502"/>
                </a:lnTo>
                <a:lnTo>
                  <a:pt x="16789" y="27161"/>
                </a:lnTo>
                <a:lnTo>
                  <a:pt x="11596" y="29004"/>
                </a:lnTo>
                <a:lnTo>
                  <a:pt x="9873" y="30342"/>
                </a:lnTo>
                <a:lnTo>
                  <a:pt x="8723" y="32081"/>
                </a:lnTo>
                <a:lnTo>
                  <a:pt x="7958" y="34086"/>
                </a:lnTo>
                <a:lnTo>
                  <a:pt x="6600" y="36270"/>
                </a:lnTo>
                <a:lnTo>
                  <a:pt x="4849" y="38573"/>
                </a:lnTo>
                <a:lnTo>
                  <a:pt x="2835" y="40955"/>
                </a:lnTo>
                <a:lnTo>
                  <a:pt x="1492" y="43389"/>
                </a:lnTo>
                <a:lnTo>
                  <a:pt x="596" y="45859"/>
                </a:lnTo>
                <a:lnTo>
                  <a:pt x="0" y="48352"/>
                </a:lnTo>
                <a:lnTo>
                  <a:pt x="448" y="50860"/>
                </a:lnTo>
                <a:lnTo>
                  <a:pt x="1594" y="53380"/>
                </a:lnTo>
                <a:lnTo>
                  <a:pt x="3205" y="55906"/>
                </a:lnTo>
                <a:lnTo>
                  <a:pt x="5125" y="57590"/>
                </a:lnTo>
                <a:lnTo>
                  <a:pt x="7253" y="58713"/>
                </a:lnTo>
                <a:lnTo>
                  <a:pt x="12720" y="60807"/>
                </a:lnTo>
                <a:lnTo>
                  <a:pt x="16548" y="62550"/>
                </a:lnTo>
                <a:lnTo>
                  <a:pt x="20794" y="64560"/>
                </a:lnTo>
                <a:lnTo>
                  <a:pt x="26165" y="66746"/>
                </a:lnTo>
                <a:lnTo>
                  <a:pt x="32286" y="69050"/>
                </a:lnTo>
                <a:lnTo>
                  <a:pt x="53034" y="76338"/>
                </a:lnTo>
                <a:lnTo>
                  <a:pt x="60358" y="78831"/>
                </a:lnTo>
                <a:lnTo>
                  <a:pt x="67781" y="80493"/>
                </a:lnTo>
                <a:lnTo>
                  <a:pt x="75270" y="81602"/>
                </a:lnTo>
                <a:lnTo>
                  <a:pt x="82802" y="82341"/>
                </a:lnTo>
                <a:lnTo>
                  <a:pt x="91209" y="83680"/>
                </a:lnTo>
                <a:lnTo>
                  <a:pt x="100202" y="85419"/>
                </a:lnTo>
                <a:lnTo>
                  <a:pt x="109583" y="87426"/>
                </a:lnTo>
                <a:lnTo>
                  <a:pt x="118377" y="88763"/>
                </a:lnTo>
                <a:lnTo>
                  <a:pt x="126780" y="89655"/>
                </a:lnTo>
                <a:lnTo>
                  <a:pt x="134922" y="90249"/>
                </a:lnTo>
                <a:lnTo>
                  <a:pt x="143736" y="90645"/>
                </a:lnTo>
                <a:lnTo>
                  <a:pt x="162562" y="91086"/>
                </a:lnTo>
                <a:lnTo>
                  <a:pt x="188155" y="91334"/>
                </a:lnTo>
                <a:lnTo>
                  <a:pt x="193619" y="90522"/>
                </a:lnTo>
                <a:lnTo>
                  <a:pt x="197261" y="89134"/>
                </a:lnTo>
                <a:lnTo>
                  <a:pt x="204546" y="838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InkAnnotation115"/>
          <p:cNvSpPr/>
          <p:nvPr/>
        </p:nvSpPr>
        <p:spPr>
          <a:xfrm>
            <a:off x="6141960" y="3048120"/>
            <a:ext cx="42840" cy="236520"/>
          </a:xfrm>
          <a:custGeom>
            <a:avLst/>
            <a:gdLst>
              <a:gd name="textAreaLeft" fmla="*/ 0 w 42840"/>
              <a:gd name="textAreaRight" fmla="*/ 43200 w 428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42360" h="236221">
                <a:moveTo>
                  <a:pt x="37968" y="0"/>
                </a:moveTo>
                <a:lnTo>
                  <a:pt x="37968" y="11351"/>
                </a:lnTo>
                <a:lnTo>
                  <a:pt x="38815" y="13494"/>
                </a:lnTo>
                <a:lnTo>
                  <a:pt x="40227" y="15769"/>
                </a:lnTo>
                <a:lnTo>
                  <a:pt x="42014" y="18133"/>
                </a:lnTo>
                <a:lnTo>
                  <a:pt x="42359" y="21402"/>
                </a:lnTo>
                <a:lnTo>
                  <a:pt x="41742" y="25274"/>
                </a:lnTo>
                <a:lnTo>
                  <a:pt x="40484" y="29550"/>
                </a:lnTo>
                <a:lnTo>
                  <a:pt x="39645" y="34093"/>
                </a:lnTo>
                <a:lnTo>
                  <a:pt x="39087" y="38815"/>
                </a:lnTo>
                <a:lnTo>
                  <a:pt x="38714" y="43657"/>
                </a:lnTo>
                <a:lnTo>
                  <a:pt x="37619" y="48578"/>
                </a:lnTo>
                <a:lnTo>
                  <a:pt x="36042" y="53552"/>
                </a:lnTo>
                <a:lnTo>
                  <a:pt x="34144" y="58561"/>
                </a:lnTo>
                <a:lnTo>
                  <a:pt x="32032" y="63594"/>
                </a:lnTo>
                <a:lnTo>
                  <a:pt x="29777" y="68643"/>
                </a:lnTo>
                <a:lnTo>
                  <a:pt x="27428" y="73702"/>
                </a:lnTo>
                <a:lnTo>
                  <a:pt x="25015" y="79615"/>
                </a:lnTo>
                <a:lnTo>
                  <a:pt x="22559" y="86096"/>
                </a:lnTo>
                <a:lnTo>
                  <a:pt x="17574" y="100072"/>
                </a:lnTo>
                <a:lnTo>
                  <a:pt x="4938" y="137293"/>
                </a:lnTo>
                <a:lnTo>
                  <a:pt x="3249" y="144869"/>
                </a:lnTo>
                <a:lnTo>
                  <a:pt x="2121" y="152459"/>
                </a:lnTo>
                <a:lnTo>
                  <a:pt x="1371" y="160059"/>
                </a:lnTo>
                <a:lnTo>
                  <a:pt x="870" y="166819"/>
                </a:lnTo>
                <a:lnTo>
                  <a:pt x="535" y="173019"/>
                </a:lnTo>
                <a:lnTo>
                  <a:pt x="313" y="178846"/>
                </a:lnTo>
                <a:lnTo>
                  <a:pt x="0" y="199182"/>
                </a:lnTo>
                <a:lnTo>
                  <a:pt x="803" y="205601"/>
                </a:lnTo>
                <a:lnTo>
                  <a:pt x="2185" y="211575"/>
                </a:lnTo>
                <a:lnTo>
                  <a:pt x="3952" y="217250"/>
                </a:lnTo>
                <a:lnTo>
                  <a:pt x="5131" y="221879"/>
                </a:lnTo>
                <a:lnTo>
                  <a:pt x="5917" y="225813"/>
                </a:lnTo>
                <a:lnTo>
                  <a:pt x="7489" y="2362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InkAnnotation116"/>
          <p:cNvSpPr/>
          <p:nvPr/>
        </p:nvSpPr>
        <p:spPr>
          <a:xfrm>
            <a:off x="6286680" y="3063960"/>
            <a:ext cx="168120" cy="158760"/>
          </a:xfrm>
          <a:custGeom>
            <a:avLst/>
            <a:gdLst>
              <a:gd name="textAreaLeft" fmla="*/ 0 w 168120"/>
              <a:gd name="textAreaRight" fmla="*/ 168480 w 168120"/>
              <a:gd name="textAreaTop" fmla="*/ 0 h 158760"/>
              <a:gd name="textAreaBottom" fmla="*/ 158760 h 158760"/>
            </a:gdLst>
            <a:ahLst/>
            <a:rect l="textAreaLeft" t="textAreaTop" r="textAreaRight" b="textAreaBottom"/>
            <a:pathLst>
              <a:path w="167512" h="158827">
                <a:moveTo>
                  <a:pt x="45590" y="0"/>
                </a:moveTo>
                <a:lnTo>
                  <a:pt x="41545" y="4045"/>
                </a:lnTo>
                <a:lnTo>
                  <a:pt x="40354" y="6084"/>
                </a:lnTo>
                <a:lnTo>
                  <a:pt x="39029" y="10606"/>
                </a:lnTo>
                <a:lnTo>
                  <a:pt x="36183" y="15438"/>
                </a:lnTo>
                <a:lnTo>
                  <a:pt x="34239" y="17912"/>
                </a:lnTo>
                <a:lnTo>
                  <a:pt x="32096" y="21255"/>
                </a:lnTo>
                <a:lnTo>
                  <a:pt x="29820" y="25177"/>
                </a:lnTo>
                <a:lnTo>
                  <a:pt x="27457" y="29485"/>
                </a:lnTo>
                <a:lnTo>
                  <a:pt x="25881" y="33203"/>
                </a:lnTo>
                <a:lnTo>
                  <a:pt x="24831" y="36529"/>
                </a:lnTo>
                <a:lnTo>
                  <a:pt x="24131" y="39593"/>
                </a:lnTo>
                <a:lnTo>
                  <a:pt x="22817" y="43328"/>
                </a:lnTo>
                <a:lnTo>
                  <a:pt x="21095" y="47512"/>
                </a:lnTo>
                <a:lnTo>
                  <a:pt x="19099" y="51995"/>
                </a:lnTo>
                <a:lnTo>
                  <a:pt x="14625" y="61491"/>
                </a:lnTo>
                <a:lnTo>
                  <a:pt x="4854" y="81385"/>
                </a:lnTo>
                <a:lnTo>
                  <a:pt x="3193" y="86430"/>
                </a:lnTo>
                <a:lnTo>
                  <a:pt x="2085" y="91486"/>
                </a:lnTo>
                <a:lnTo>
                  <a:pt x="1347" y="96551"/>
                </a:lnTo>
                <a:lnTo>
                  <a:pt x="855" y="100774"/>
                </a:lnTo>
                <a:lnTo>
                  <a:pt x="527" y="104436"/>
                </a:lnTo>
                <a:lnTo>
                  <a:pt x="308" y="107724"/>
                </a:lnTo>
                <a:lnTo>
                  <a:pt x="162" y="111609"/>
                </a:lnTo>
                <a:lnTo>
                  <a:pt x="0" y="120442"/>
                </a:lnTo>
                <a:lnTo>
                  <a:pt x="803" y="124321"/>
                </a:lnTo>
                <a:lnTo>
                  <a:pt x="2185" y="127754"/>
                </a:lnTo>
                <a:lnTo>
                  <a:pt x="3954" y="130889"/>
                </a:lnTo>
                <a:lnTo>
                  <a:pt x="5979" y="133826"/>
                </a:lnTo>
                <a:lnTo>
                  <a:pt x="8177" y="136631"/>
                </a:lnTo>
                <a:lnTo>
                  <a:pt x="10488" y="139347"/>
                </a:lnTo>
                <a:lnTo>
                  <a:pt x="13722" y="142005"/>
                </a:lnTo>
                <a:lnTo>
                  <a:pt x="17572" y="144623"/>
                </a:lnTo>
                <a:lnTo>
                  <a:pt x="21831" y="147215"/>
                </a:lnTo>
                <a:lnTo>
                  <a:pt x="27211" y="148944"/>
                </a:lnTo>
                <a:lnTo>
                  <a:pt x="33337" y="150096"/>
                </a:lnTo>
                <a:lnTo>
                  <a:pt x="39961" y="150864"/>
                </a:lnTo>
                <a:lnTo>
                  <a:pt x="46071" y="152223"/>
                </a:lnTo>
                <a:lnTo>
                  <a:pt x="51838" y="153975"/>
                </a:lnTo>
                <a:lnTo>
                  <a:pt x="57375" y="155990"/>
                </a:lnTo>
                <a:lnTo>
                  <a:pt x="63606" y="157333"/>
                </a:lnTo>
                <a:lnTo>
                  <a:pt x="70301" y="158229"/>
                </a:lnTo>
                <a:lnTo>
                  <a:pt x="77305" y="158826"/>
                </a:lnTo>
                <a:lnTo>
                  <a:pt x="85360" y="158378"/>
                </a:lnTo>
                <a:lnTo>
                  <a:pt x="94117" y="157232"/>
                </a:lnTo>
                <a:lnTo>
                  <a:pt x="103341" y="155621"/>
                </a:lnTo>
                <a:lnTo>
                  <a:pt x="112031" y="154548"/>
                </a:lnTo>
                <a:lnTo>
                  <a:pt x="120364" y="153831"/>
                </a:lnTo>
                <a:lnTo>
                  <a:pt x="128460" y="153355"/>
                </a:lnTo>
                <a:lnTo>
                  <a:pt x="134703" y="152190"/>
                </a:lnTo>
                <a:lnTo>
                  <a:pt x="139713" y="150566"/>
                </a:lnTo>
                <a:lnTo>
                  <a:pt x="143899" y="148637"/>
                </a:lnTo>
                <a:lnTo>
                  <a:pt x="148382" y="147352"/>
                </a:lnTo>
                <a:lnTo>
                  <a:pt x="153065" y="146495"/>
                </a:lnTo>
                <a:lnTo>
                  <a:pt x="167511" y="1447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InkAnnotation117"/>
          <p:cNvSpPr/>
          <p:nvPr/>
        </p:nvSpPr>
        <p:spPr>
          <a:xfrm>
            <a:off x="6454800" y="3078000"/>
            <a:ext cx="52200" cy="228600"/>
          </a:xfrm>
          <a:custGeom>
            <a:avLst/>
            <a:gdLst>
              <a:gd name="textAreaLeft" fmla="*/ 0 w 52200"/>
              <a:gd name="textAreaRight" fmla="*/ 52560 w 52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3340" h="228601">
                <a:moveTo>
                  <a:pt x="53339" y="0"/>
                </a:moveTo>
                <a:lnTo>
                  <a:pt x="53339" y="32286"/>
                </a:lnTo>
                <a:lnTo>
                  <a:pt x="52493" y="35917"/>
                </a:lnTo>
                <a:lnTo>
                  <a:pt x="51081" y="40032"/>
                </a:lnTo>
                <a:lnTo>
                  <a:pt x="49294" y="44468"/>
                </a:lnTo>
                <a:lnTo>
                  <a:pt x="45051" y="56170"/>
                </a:lnTo>
                <a:lnTo>
                  <a:pt x="42734" y="62847"/>
                </a:lnTo>
                <a:lnTo>
                  <a:pt x="41189" y="68991"/>
                </a:lnTo>
                <a:lnTo>
                  <a:pt x="40158" y="74781"/>
                </a:lnTo>
                <a:lnTo>
                  <a:pt x="39472" y="80334"/>
                </a:lnTo>
                <a:lnTo>
                  <a:pt x="38168" y="86576"/>
                </a:lnTo>
                <a:lnTo>
                  <a:pt x="36452" y="93277"/>
                </a:lnTo>
                <a:lnTo>
                  <a:pt x="34461" y="100285"/>
                </a:lnTo>
                <a:lnTo>
                  <a:pt x="29990" y="114844"/>
                </a:lnTo>
                <a:lnTo>
                  <a:pt x="27614" y="122283"/>
                </a:lnTo>
                <a:lnTo>
                  <a:pt x="25182" y="128935"/>
                </a:lnTo>
                <a:lnTo>
                  <a:pt x="22715" y="135064"/>
                </a:lnTo>
                <a:lnTo>
                  <a:pt x="20223" y="140842"/>
                </a:lnTo>
                <a:lnTo>
                  <a:pt x="17716" y="147235"/>
                </a:lnTo>
                <a:lnTo>
                  <a:pt x="12670" y="161111"/>
                </a:lnTo>
                <a:lnTo>
                  <a:pt x="5071" y="183203"/>
                </a:lnTo>
                <a:lnTo>
                  <a:pt x="3381" y="190715"/>
                </a:lnTo>
                <a:lnTo>
                  <a:pt x="2253" y="198264"/>
                </a:lnTo>
                <a:lnTo>
                  <a:pt x="1001" y="211730"/>
                </a:lnTo>
                <a:lnTo>
                  <a:pt x="667" y="216507"/>
                </a:lnTo>
                <a:lnTo>
                  <a:pt x="0" y="2286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InkAnnotation118"/>
          <p:cNvSpPr/>
          <p:nvPr/>
        </p:nvSpPr>
        <p:spPr>
          <a:xfrm>
            <a:off x="7772400" y="3306600"/>
            <a:ext cx="60480" cy="252720"/>
          </a:xfrm>
          <a:custGeom>
            <a:avLst/>
            <a:gdLst>
              <a:gd name="textAreaLeft" fmla="*/ 0 w 60480"/>
              <a:gd name="textAreaRight" fmla="*/ 60840 w 6048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60921" h="251461">
                <a:moveTo>
                  <a:pt x="60920" y="0"/>
                </a:moveTo>
                <a:lnTo>
                  <a:pt x="60920" y="4045"/>
                </a:lnTo>
                <a:lnTo>
                  <a:pt x="60074" y="5237"/>
                </a:lnTo>
                <a:lnTo>
                  <a:pt x="58662" y="6031"/>
                </a:lnTo>
                <a:lnTo>
                  <a:pt x="56876" y="6561"/>
                </a:lnTo>
                <a:lnTo>
                  <a:pt x="55683" y="7760"/>
                </a:lnTo>
                <a:lnTo>
                  <a:pt x="54890" y="9407"/>
                </a:lnTo>
                <a:lnTo>
                  <a:pt x="53160" y="14341"/>
                </a:lnTo>
                <a:lnTo>
                  <a:pt x="51514" y="18027"/>
                </a:lnTo>
                <a:lnTo>
                  <a:pt x="49570" y="22178"/>
                </a:lnTo>
                <a:lnTo>
                  <a:pt x="48274" y="26639"/>
                </a:lnTo>
                <a:lnTo>
                  <a:pt x="47409" y="31306"/>
                </a:lnTo>
                <a:lnTo>
                  <a:pt x="46833" y="36111"/>
                </a:lnTo>
                <a:lnTo>
                  <a:pt x="45602" y="41007"/>
                </a:lnTo>
                <a:lnTo>
                  <a:pt x="43935" y="45965"/>
                </a:lnTo>
                <a:lnTo>
                  <a:pt x="41977" y="50963"/>
                </a:lnTo>
                <a:lnTo>
                  <a:pt x="40672" y="56835"/>
                </a:lnTo>
                <a:lnTo>
                  <a:pt x="39801" y="63290"/>
                </a:lnTo>
                <a:lnTo>
                  <a:pt x="39221" y="70133"/>
                </a:lnTo>
                <a:lnTo>
                  <a:pt x="37987" y="77236"/>
                </a:lnTo>
                <a:lnTo>
                  <a:pt x="36319" y="84510"/>
                </a:lnTo>
                <a:lnTo>
                  <a:pt x="34359" y="91901"/>
                </a:lnTo>
                <a:lnTo>
                  <a:pt x="29925" y="106884"/>
                </a:lnTo>
                <a:lnTo>
                  <a:pt x="20179" y="137200"/>
                </a:lnTo>
                <a:lnTo>
                  <a:pt x="5032" y="182883"/>
                </a:lnTo>
                <a:lnTo>
                  <a:pt x="3342" y="189655"/>
                </a:lnTo>
                <a:lnTo>
                  <a:pt x="2215" y="195864"/>
                </a:lnTo>
                <a:lnTo>
                  <a:pt x="1463" y="201696"/>
                </a:lnTo>
                <a:lnTo>
                  <a:pt x="963" y="207277"/>
                </a:lnTo>
                <a:lnTo>
                  <a:pt x="629" y="212691"/>
                </a:lnTo>
                <a:lnTo>
                  <a:pt x="258" y="222376"/>
                </a:lnTo>
                <a:lnTo>
                  <a:pt x="49" y="232589"/>
                </a:lnTo>
                <a:lnTo>
                  <a:pt x="0" y="238275"/>
                </a:lnTo>
                <a:lnTo>
                  <a:pt x="833" y="240977"/>
                </a:lnTo>
                <a:lnTo>
                  <a:pt x="2236" y="243625"/>
                </a:lnTo>
                <a:lnTo>
                  <a:pt x="7581" y="2514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InkAnnotation119"/>
          <p:cNvSpPr/>
          <p:nvPr/>
        </p:nvSpPr>
        <p:spPr>
          <a:xfrm>
            <a:off x="7985160" y="3298680"/>
            <a:ext cx="214200" cy="100080"/>
          </a:xfrm>
          <a:custGeom>
            <a:avLst/>
            <a:gdLst>
              <a:gd name="textAreaLeft" fmla="*/ 0 w 214200"/>
              <a:gd name="textAreaRight" fmla="*/ 214560 w 21420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213291" h="99044">
                <a:moveTo>
                  <a:pt x="45651" y="7612"/>
                </a:moveTo>
                <a:lnTo>
                  <a:pt x="49696" y="7612"/>
                </a:lnTo>
                <a:lnTo>
                  <a:pt x="50888" y="6765"/>
                </a:lnTo>
                <a:lnTo>
                  <a:pt x="51682" y="5354"/>
                </a:lnTo>
                <a:lnTo>
                  <a:pt x="53230" y="132"/>
                </a:lnTo>
                <a:lnTo>
                  <a:pt x="53267" y="4"/>
                </a:lnTo>
                <a:lnTo>
                  <a:pt x="53269" y="0"/>
                </a:lnTo>
                <a:lnTo>
                  <a:pt x="53270" y="4040"/>
                </a:lnTo>
                <a:lnTo>
                  <a:pt x="52424" y="6077"/>
                </a:lnTo>
                <a:lnTo>
                  <a:pt x="51012" y="8282"/>
                </a:lnTo>
                <a:lnTo>
                  <a:pt x="49226" y="10599"/>
                </a:lnTo>
                <a:lnTo>
                  <a:pt x="48034" y="12990"/>
                </a:lnTo>
                <a:lnTo>
                  <a:pt x="47240" y="15430"/>
                </a:lnTo>
                <a:lnTo>
                  <a:pt x="46709" y="17904"/>
                </a:lnTo>
                <a:lnTo>
                  <a:pt x="45510" y="20400"/>
                </a:lnTo>
                <a:lnTo>
                  <a:pt x="43864" y="22911"/>
                </a:lnTo>
                <a:lnTo>
                  <a:pt x="41920" y="25431"/>
                </a:lnTo>
                <a:lnTo>
                  <a:pt x="38931" y="28805"/>
                </a:lnTo>
                <a:lnTo>
                  <a:pt x="31093" y="37069"/>
                </a:lnTo>
                <a:lnTo>
                  <a:pt x="21206" y="47197"/>
                </a:lnTo>
                <a:lnTo>
                  <a:pt x="17501" y="50088"/>
                </a:lnTo>
                <a:lnTo>
                  <a:pt x="13338" y="52863"/>
                </a:lnTo>
                <a:lnTo>
                  <a:pt x="8869" y="55559"/>
                </a:lnTo>
                <a:lnTo>
                  <a:pt x="5890" y="58203"/>
                </a:lnTo>
                <a:lnTo>
                  <a:pt x="3903" y="60813"/>
                </a:lnTo>
                <a:lnTo>
                  <a:pt x="2580" y="63400"/>
                </a:lnTo>
                <a:lnTo>
                  <a:pt x="1697" y="65970"/>
                </a:lnTo>
                <a:lnTo>
                  <a:pt x="1108" y="68531"/>
                </a:lnTo>
                <a:lnTo>
                  <a:pt x="715" y="71085"/>
                </a:lnTo>
                <a:lnTo>
                  <a:pt x="454" y="73634"/>
                </a:lnTo>
                <a:lnTo>
                  <a:pt x="280" y="76180"/>
                </a:lnTo>
                <a:lnTo>
                  <a:pt x="163" y="78724"/>
                </a:lnTo>
                <a:lnTo>
                  <a:pt x="35" y="83809"/>
                </a:lnTo>
                <a:lnTo>
                  <a:pt x="0" y="86350"/>
                </a:lnTo>
                <a:lnTo>
                  <a:pt x="824" y="88044"/>
                </a:lnTo>
                <a:lnTo>
                  <a:pt x="2219" y="89174"/>
                </a:lnTo>
                <a:lnTo>
                  <a:pt x="3997" y="89926"/>
                </a:lnTo>
                <a:lnTo>
                  <a:pt x="8230" y="93021"/>
                </a:lnTo>
                <a:lnTo>
                  <a:pt x="10543" y="95031"/>
                </a:lnTo>
                <a:lnTo>
                  <a:pt x="13780" y="96371"/>
                </a:lnTo>
                <a:lnTo>
                  <a:pt x="17631" y="97265"/>
                </a:lnTo>
                <a:lnTo>
                  <a:pt x="21891" y="97861"/>
                </a:lnTo>
                <a:lnTo>
                  <a:pt x="27271" y="98258"/>
                </a:lnTo>
                <a:lnTo>
                  <a:pt x="33398" y="98523"/>
                </a:lnTo>
                <a:lnTo>
                  <a:pt x="47825" y="98817"/>
                </a:lnTo>
                <a:lnTo>
                  <a:pt x="120530" y="99043"/>
                </a:lnTo>
                <a:lnTo>
                  <a:pt x="129436" y="98199"/>
                </a:lnTo>
                <a:lnTo>
                  <a:pt x="138761" y="96790"/>
                </a:lnTo>
                <a:lnTo>
                  <a:pt x="148364" y="95004"/>
                </a:lnTo>
                <a:lnTo>
                  <a:pt x="156460" y="92967"/>
                </a:lnTo>
                <a:lnTo>
                  <a:pt x="163549" y="90762"/>
                </a:lnTo>
                <a:lnTo>
                  <a:pt x="176790" y="86054"/>
                </a:lnTo>
                <a:lnTo>
                  <a:pt x="191141" y="81140"/>
                </a:lnTo>
                <a:lnTo>
                  <a:pt x="196830" y="79490"/>
                </a:lnTo>
                <a:lnTo>
                  <a:pt x="201470" y="78391"/>
                </a:lnTo>
                <a:lnTo>
                  <a:pt x="213290" y="7619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InkAnnotation120"/>
          <p:cNvSpPr/>
          <p:nvPr/>
        </p:nvSpPr>
        <p:spPr>
          <a:xfrm>
            <a:off x="8161200" y="3292560"/>
            <a:ext cx="73080" cy="266760"/>
          </a:xfrm>
          <a:custGeom>
            <a:avLst/>
            <a:gdLst>
              <a:gd name="textAreaLeft" fmla="*/ 0 w 73080"/>
              <a:gd name="textAreaRight" fmla="*/ 73440 w 7308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72615" h="266701">
                <a:moveTo>
                  <a:pt x="68224" y="0"/>
                </a:moveTo>
                <a:lnTo>
                  <a:pt x="72269" y="4045"/>
                </a:lnTo>
                <a:lnTo>
                  <a:pt x="72614" y="5237"/>
                </a:lnTo>
                <a:lnTo>
                  <a:pt x="71997" y="6031"/>
                </a:lnTo>
                <a:lnTo>
                  <a:pt x="70740" y="6561"/>
                </a:lnTo>
                <a:lnTo>
                  <a:pt x="69901" y="8607"/>
                </a:lnTo>
                <a:lnTo>
                  <a:pt x="68969" y="15397"/>
                </a:lnTo>
                <a:lnTo>
                  <a:pt x="68721" y="19578"/>
                </a:lnTo>
                <a:lnTo>
                  <a:pt x="68446" y="28739"/>
                </a:lnTo>
                <a:lnTo>
                  <a:pt x="67525" y="32706"/>
                </a:lnTo>
                <a:lnTo>
                  <a:pt x="66064" y="36198"/>
                </a:lnTo>
                <a:lnTo>
                  <a:pt x="64244" y="39372"/>
                </a:lnTo>
                <a:lnTo>
                  <a:pt x="59964" y="47414"/>
                </a:lnTo>
                <a:lnTo>
                  <a:pt x="57638" y="51930"/>
                </a:lnTo>
                <a:lnTo>
                  <a:pt x="55240" y="57480"/>
                </a:lnTo>
                <a:lnTo>
                  <a:pt x="52794" y="63720"/>
                </a:lnTo>
                <a:lnTo>
                  <a:pt x="47820" y="77426"/>
                </a:lnTo>
                <a:lnTo>
                  <a:pt x="42787" y="91985"/>
                </a:lnTo>
                <a:lnTo>
                  <a:pt x="39413" y="99424"/>
                </a:lnTo>
                <a:lnTo>
                  <a:pt x="35470" y="106922"/>
                </a:lnTo>
                <a:lnTo>
                  <a:pt x="31147" y="114462"/>
                </a:lnTo>
                <a:lnTo>
                  <a:pt x="27420" y="122028"/>
                </a:lnTo>
                <a:lnTo>
                  <a:pt x="24088" y="129612"/>
                </a:lnTo>
                <a:lnTo>
                  <a:pt x="21021" y="137208"/>
                </a:lnTo>
                <a:lnTo>
                  <a:pt x="15354" y="152421"/>
                </a:lnTo>
                <a:lnTo>
                  <a:pt x="12658" y="160034"/>
                </a:lnTo>
                <a:lnTo>
                  <a:pt x="10860" y="167650"/>
                </a:lnTo>
                <a:lnTo>
                  <a:pt x="9662" y="175267"/>
                </a:lnTo>
                <a:lnTo>
                  <a:pt x="8863" y="182884"/>
                </a:lnTo>
                <a:lnTo>
                  <a:pt x="7484" y="190503"/>
                </a:lnTo>
                <a:lnTo>
                  <a:pt x="5716" y="198122"/>
                </a:lnTo>
                <a:lnTo>
                  <a:pt x="3693" y="205741"/>
                </a:lnTo>
                <a:lnTo>
                  <a:pt x="2344" y="212514"/>
                </a:lnTo>
                <a:lnTo>
                  <a:pt x="1444" y="218722"/>
                </a:lnTo>
                <a:lnTo>
                  <a:pt x="844" y="224555"/>
                </a:lnTo>
                <a:lnTo>
                  <a:pt x="444" y="230137"/>
                </a:lnTo>
                <a:lnTo>
                  <a:pt x="177" y="235551"/>
                </a:lnTo>
                <a:lnTo>
                  <a:pt x="0" y="240854"/>
                </a:lnTo>
                <a:lnTo>
                  <a:pt x="728" y="245236"/>
                </a:lnTo>
                <a:lnTo>
                  <a:pt x="2061" y="249004"/>
                </a:lnTo>
                <a:lnTo>
                  <a:pt x="3795" y="252362"/>
                </a:lnTo>
                <a:lnTo>
                  <a:pt x="5722" y="258352"/>
                </a:lnTo>
                <a:lnTo>
                  <a:pt x="7265" y="2667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InkAnnotation121"/>
          <p:cNvSpPr/>
          <p:nvPr/>
        </p:nvSpPr>
        <p:spPr>
          <a:xfrm>
            <a:off x="8344080" y="3298680"/>
            <a:ext cx="206280" cy="138240"/>
          </a:xfrm>
          <a:custGeom>
            <a:avLst/>
            <a:gdLst>
              <a:gd name="textAreaLeft" fmla="*/ 0 w 206280"/>
              <a:gd name="textAreaRight" fmla="*/ 206640 w 20628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205700" h="136808">
                <a:moveTo>
                  <a:pt x="76158" y="0"/>
                </a:moveTo>
                <a:lnTo>
                  <a:pt x="72113" y="0"/>
                </a:lnTo>
                <a:lnTo>
                  <a:pt x="70921" y="1694"/>
                </a:lnTo>
                <a:lnTo>
                  <a:pt x="70127" y="4516"/>
                </a:lnTo>
                <a:lnTo>
                  <a:pt x="69597" y="8091"/>
                </a:lnTo>
                <a:lnTo>
                  <a:pt x="68398" y="12167"/>
                </a:lnTo>
                <a:lnTo>
                  <a:pt x="66752" y="16578"/>
                </a:lnTo>
                <a:lnTo>
                  <a:pt x="64808" y="21212"/>
                </a:lnTo>
                <a:lnTo>
                  <a:pt x="62664" y="25148"/>
                </a:lnTo>
                <a:lnTo>
                  <a:pt x="60389" y="28619"/>
                </a:lnTo>
                <a:lnTo>
                  <a:pt x="58026" y="31779"/>
                </a:lnTo>
                <a:lnTo>
                  <a:pt x="55603" y="35580"/>
                </a:lnTo>
                <a:lnTo>
                  <a:pt x="53141" y="39807"/>
                </a:lnTo>
                <a:lnTo>
                  <a:pt x="50654" y="44318"/>
                </a:lnTo>
                <a:lnTo>
                  <a:pt x="45632" y="53846"/>
                </a:lnTo>
                <a:lnTo>
                  <a:pt x="35509" y="73760"/>
                </a:lnTo>
                <a:lnTo>
                  <a:pt x="32126" y="77960"/>
                </a:lnTo>
                <a:lnTo>
                  <a:pt x="28176" y="81607"/>
                </a:lnTo>
                <a:lnTo>
                  <a:pt x="23850" y="84884"/>
                </a:lnTo>
                <a:lnTo>
                  <a:pt x="20120" y="88763"/>
                </a:lnTo>
                <a:lnTo>
                  <a:pt x="16786" y="93042"/>
                </a:lnTo>
                <a:lnTo>
                  <a:pt x="13716" y="97588"/>
                </a:lnTo>
                <a:lnTo>
                  <a:pt x="10823" y="101466"/>
                </a:lnTo>
                <a:lnTo>
                  <a:pt x="8049" y="104897"/>
                </a:lnTo>
                <a:lnTo>
                  <a:pt x="5353" y="108032"/>
                </a:lnTo>
                <a:lnTo>
                  <a:pt x="3554" y="110968"/>
                </a:lnTo>
                <a:lnTo>
                  <a:pt x="2356" y="113772"/>
                </a:lnTo>
                <a:lnTo>
                  <a:pt x="1556" y="116488"/>
                </a:lnTo>
                <a:lnTo>
                  <a:pt x="1023" y="119145"/>
                </a:lnTo>
                <a:lnTo>
                  <a:pt x="670" y="121763"/>
                </a:lnTo>
                <a:lnTo>
                  <a:pt x="98" y="128004"/>
                </a:lnTo>
                <a:lnTo>
                  <a:pt x="22" y="131115"/>
                </a:lnTo>
                <a:lnTo>
                  <a:pt x="0" y="133130"/>
                </a:lnTo>
                <a:lnTo>
                  <a:pt x="832" y="134474"/>
                </a:lnTo>
                <a:lnTo>
                  <a:pt x="2235" y="135369"/>
                </a:lnTo>
                <a:lnTo>
                  <a:pt x="4016" y="135966"/>
                </a:lnTo>
                <a:lnTo>
                  <a:pt x="6897" y="136364"/>
                </a:lnTo>
                <a:lnTo>
                  <a:pt x="10511" y="136629"/>
                </a:lnTo>
                <a:lnTo>
                  <a:pt x="14613" y="136807"/>
                </a:lnTo>
                <a:lnTo>
                  <a:pt x="19041" y="136078"/>
                </a:lnTo>
                <a:lnTo>
                  <a:pt x="23687" y="134745"/>
                </a:lnTo>
                <a:lnTo>
                  <a:pt x="28477" y="133010"/>
                </a:lnTo>
                <a:lnTo>
                  <a:pt x="34212" y="131853"/>
                </a:lnTo>
                <a:lnTo>
                  <a:pt x="40574" y="131082"/>
                </a:lnTo>
                <a:lnTo>
                  <a:pt x="47355" y="130568"/>
                </a:lnTo>
                <a:lnTo>
                  <a:pt x="54417" y="130226"/>
                </a:lnTo>
                <a:lnTo>
                  <a:pt x="69035" y="129845"/>
                </a:lnTo>
                <a:lnTo>
                  <a:pt x="78183" y="128897"/>
                </a:lnTo>
                <a:lnTo>
                  <a:pt x="88515" y="127418"/>
                </a:lnTo>
                <a:lnTo>
                  <a:pt x="99636" y="125585"/>
                </a:lnTo>
                <a:lnTo>
                  <a:pt x="110437" y="123517"/>
                </a:lnTo>
                <a:lnTo>
                  <a:pt x="131469" y="118961"/>
                </a:lnTo>
                <a:lnTo>
                  <a:pt x="140973" y="117407"/>
                </a:lnTo>
                <a:lnTo>
                  <a:pt x="149847" y="116371"/>
                </a:lnTo>
                <a:lnTo>
                  <a:pt x="158304" y="115681"/>
                </a:lnTo>
                <a:lnTo>
                  <a:pt x="166483" y="114374"/>
                </a:lnTo>
                <a:lnTo>
                  <a:pt x="174474" y="112657"/>
                </a:lnTo>
                <a:lnTo>
                  <a:pt x="182342" y="110664"/>
                </a:lnTo>
                <a:lnTo>
                  <a:pt x="188435" y="109336"/>
                </a:lnTo>
                <a:lnTo>
                  <a:pt x="193342" y="108451"/>
                </a:lnTo>
                <a:lnTo>
                  <a:pt x="205699" y="1066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InkAnnotation122"/>
          <p:cNvSpPr/>
          <p:nvPr/>
        </p:nvSpPr>
        <p:spPr>
          <a:xfrm>
            <a:off x="8420040" y="3314880"/>
            <a:ext cx="182520" cy="282240"/>
          </a:xfrm>
          <a:custGeom>
            <a:avLst/>
            <a:gdLst>
              <a:gd name="textAreaLeft" fmla="*/ 0 w 182520"/>
              <a:gd name="textAreaRight" fmla="*/ 182880 w 182520"/>
              <a:gd name="textAreaTop" fmla="*/ 0 h 282240"/>
              <a:gd name="textAreaBottom" fmla="*/ 282600 h 282240"/>
            </a:gdLst>
            <a:ahLst/>
            <a:rect l="textAreaLeft" t="textAreaTop" r="textAreaRight" b="textAreaBottom"/>
            <a:pathLst>
              <a:path w="182881" h="281941">
                <a:moveTo>
                  <a:pt x="182880" y="0"/>
                </a:moveTo>
                <a:lnTo>
                  <a:pt x="176319" y="6560"/>
                </a:lnTo>
                <a:lnTo>
                  <a:pt x="171216" y="9406"/>
                </a:lnTo>
                <a:lnTo>
                  <a:pt x="167484" y="11351"/>
                </a:lnTo>
                <a:lnTo>
                  <a:pt x="164149" y="14341"/>
                </a:lnTo>
                <a:lnTo>
                  <a:pt x="161079" y="18027"/>
                </a:lnTo>
                <a:lnTo>
                  <a:pt x="158186" y="22178"/>
                </a:lnTo>
                <a:lnTo>
                  <a:pt x="156258" y="26639"/>
                </a:lnTo>
                <a:lnTo>
                  <a:pt x="154972" y="31305"/>
                </a:lnTo>
                <a:lnTo>
                  <a:pt x="154115" y="36110"/>
                </a:lnTo>
                <a:lnTo>
                  <a:pt x="151850" y="41853"/>
                </a:lnTo>
                <a:lnTo>
                  <a:pt x="148647" y="48222"/>
                </a:lnTo>
                <a:lnTo>
                  <a:pt x="144818" y="55008"/>
                </a:lnTo>
                <a:lnTo>
                  <a:pt x="141419" y="62072"/>
                </a:lnTo>
                <a:lnTo>
                  <a:pt x="138306" y="69321"/>
                </a:lnTo>
                <a:lnTo>
                  <a:pt x="135383" y="76694"/>
                </a:lnTo>
                <a:lnTo>
                  <a:pt x="131743" y="84149"/>
                </a:lnTo>
                <a:lnTo>
                  <a:pt x="127622" y="91660"/>
                </a:lnTo>
                <a:lnTo>
                  <a:pt x="123182" y="99206"/>
                </a:lnTo>
                <a:lnTo>
                  <a:pt x="118528" y="107624"/>
                </a:lnTo>
                <a:lnTo>
                  <a:pt x="108842" y="126008"/>
                </a:lnTo>
                <a:lnTo>
                  <a:pt x="93869" y="155399"/>
                </a:lnTo>
                <a:lnTo>
                  <a:pt x="87979" y="165406"/>
                </a:lnTo>
                <a:lnTo>
                  <a:pt x="81512" y="175463"/>
                </a:lnTo>
                <a:lnTo>
                  <a:pt x="74661" y="185556"/>
                </a:lnTo>
                <a:lnTo>
                  <a:pt x="66708" y="196517"/>
                </a:lnTo>
                <a:lnTo>
                  <a:pt x="48839" y="219985"/>
                </a:lnTo>
                <a:lnTo>
                  <a:pt x="41873" y="229630"/>
                </a:lnTo>
                <a:lnTo>
                  <a:pt x="36382" y="237753"/>
                </a:lnTo>
                <a:lnTo>
                  <a:pt x="31875" y="244862"/>
                </a:lnTo>
                <a:lnTo>
                  <a:pt x="26329" y="252141"/>
                </a:lnTo>
                <a:lnTo>
                  <a:pt x="20094" y="259534"/>
                </a:lnTo>
                <a:lnTo>
                  <a:pt x="0" y="2819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InkAnnotation123"/>
          <p:cNvSpPr/>
          <p:nvPr/>
        </p:nvSpPr>
        <p:spPr>
          <a:xfrm>
            <a:off x="366840" y="1050840"/>
            <a:ext cx="349200" cy="870120"/>
          </a:xfrm>
          <a:custGeom>
            <a:avLst/>
            <a:gdLst>
              <a:gd name="textAreaLeft" fmla="*/ 0 w 349200"/>
              <a:gd name="textAreaRight" fmla="*/ 349560 w 34920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348854" h="868681">
                <a:moveTo>
                  <a:pt x="287893" y="0"/>
                </a:moveTo>
                <a:lnTo>
                  <a:pt x="279803" y="0"/>
                </a:lnTo>
                <a:lnTo>
                  <a:pt x="277420" y="847"/>
                </a:lnTo>
                <a:lnTo>
                  <a:pt x="275831" y="2258"/>
                </a:lnTo>
                <a:lnTo>
                  <a:pt x="274772" y="4045"/>
                </a:lnTo>
                <a:lnTo>
                  <a:pt x="272372" y="5237"/>
                </a:lnTo>
                <a:lnTo>
                  <a:pt x="265190" y="6561"/>
                </a:lnTo>
                <a:lnTo>
                  <a:pt x="256354" y="11665"/>
                </a:lnTo>
                <a:lnTo>
                  <a:pt x="246783" y="19578"/>
                </a:lnTo>
                <a:lnTo>
                  <a:pt x="236884" y="28739"/>
                </a:lnTo>
                <a:lnTo>
                  <a:pt x="217746" y="47462"/>
                </a:lnTo>
                <a:lnTo>
                  <a:pt x="211495" y="54501"/>
                </a:lnTo>
                <a:lnTo>
                  <a:pt x="205634" y="61734"/>
                </a:lnTo>
                <a:lnTo>
                  <a:pt x="200034" y="69096"/>
                </a:lnTo>
                <a:lnTo>
                  <a:pt x="192914" y="76544"/>
                </a:lnTo>
                <a:lnTo>
                  <a:pt x="184780" y="84050"/>
                </a:lnTo>
                <a:lnTo>
                  <a:pt x="175971" y="91593"/>
                </a:lnTo>
                <a:lnTo>
                  <a:pt x="168405" y="100009"/>
                </a:lnTo>
                <a:lnTo>
                  <a:pt x="161668" y="109006"/>
                </a:lnTo>
                <a:lnTo>
                  <a:pt x="155483" y="118391"/>
                </a:lnTo>
                <a:lnTo>
                  <a:pt x="147973" y="128881"/>
                </a:lnTo>
                <a:lnTo>
                  <a:pt x="130597" y="151825"/>
                </a:lnTo>
                <a:lnTo>
                  <a:pt x="122916" y="163023"/>
                </a:lnTo>
                <a:lnTo>
                  <a:pt x="116102" y="173876"/>
                </a:lnTo>
                <a:lnTo>
                  <a:pt x="88953" y="219672"/>
                </a:lnTo>
                <a:lnTo>
                  <a:pt x="82453" y="231961"/>
                </a:lnTo>
                <a:lnTo>
                  <a:pt x="76426" y="244388"/>
                </a:lnTo>
                <a:lnTo>
                  <a:pt x="70715" y="256905"/>
                </a:lnTo>
                <a:lnTo>
                  <a:pt x="59854" y="282102"/>
                </a:lnTo>
                <a:lnTo>
                  <a:pt x="49382" y="308259"/>
                </a:lnTo>
                <a:lnTo>
                  <a:pt x="39084" y="336817"/>
                </a:lnTo>
                <a:lnTo>
                  <a:pt x="23766" y="381456"/>
                </a:lnTo>
                <a:lnTo>
                  <a:pt x="19521" y="395697"/>
                </a:lnTo>
                <a:lnTo>
                  <a:pt x="12548" y="422810"/>
                </a:lnTo>
                <a:lnTo>
                  <a:pt x="10349" y="436813"/>
                </a:lnTo>
                <a:lnTo>
                  <a:pt x="8884" y="451229"/>
                </a:lnTo>
                <a:lnTo>
                  <a:pt x="7907" y="465919"/>
                </a:lnTo>
                <a:lnTo>
                  <a:pt x="6409" y="479946"/>
                </a:lnTo>
                <a:lnTo>
                  <a:pt x="2487" y="506821"/>
                </a:lnTo>
                <a:lnTo>
                  <a:pt x="179" y="532876"/>
                </a:lnTo>
                <a:lnTo>
                  <a:pt x="0" y="558567"/>
                </a:lnTo>
                <a:lnTo>
                  <a:pt x="2743" y="584097"/>
                </a:lnTo>
                <a:lnTo>
                  <a:pt x="6784" y="609554"/>
                </a:lnTo>
                <a:lnTo>
                  <a:pt x="11402" y="634133"/>
                </a:lnTo>
                <a:lnTo>
                  <a:pt x="16277" y="656346"/>
                </a:lnTo>
                <a:lnTo>
                  <a:pt x="25781" y="677507"/>
                </a:lnTo>
                <a:lnTo>
                  <a:pt x="31872" y="687891"/>
                </a:lnTo>
                <a:lnTo>
                  <a:pt x="37626" y="698201"/>
                </a:lnTo>
                <a:lnTo>
                  <a:pt x="48534" y="718687"/>
                </a:lnTo>
                <a:lnTo>
                  <a:pt x="54660" y="728045"/>
                </a:lnTo>
                <a:lnTo>
                  <a:pt x="61285" y="736823"/>
                </a:lnTo>
                <a:lnTo>
                  <a:pt x="68241" y="745215"/>
                </a:lnTo>
                <a:lnTo>
                  <a:pt x="76265" y="753351"/>
                </a:lnTo>
                <a:lnTo>
                  <a:pt x="85001" y="761314"/>
                </a:lnTo>
                <a:lnTo>
                  <a:pt x="94211" y="769162"/>
                </a:lnTo>
                <a:lnTo>
                  <a:pt x="113477" y="784657"/>
                </a:lnTo>
                <a:lnTo>
                  <a:pt x="123355" y="792345"/>
                </a:lnTo>
                <a:lnTo>
                  <a:pt x="133328" y="799163"/>
                </a:lnTo>
                <a:lnTo>
                  <a:pt x="143363" y="805402"/>
                </a:lnTo>
                <a:lnTo>
                  <a:pt x="153440" y="811255"/>
                </a:lnTo>
                <a:lnTo>
                  <a:pt x="163544" y="816003"/>
                </a:lnTo>
                <a:lnTo>
                  <a:pt x="173667" y="820016"/>
                </a:lnTo>
                <a:lnTo>
                  <a:pt x="183802" y="823537"/>
                </a:lnTo>
                <a:lnTo>
                  <a:pt x="193946" y="827578"/>
                </a:lnTo>
                <a:lnTo>
                  <a:pt x="204095" y="831966"/>
                </a:lnTo>
                <a:lnTo>
                  <a:pt x="214248" y="836584"/>
                </a:lnTo>
                <a:lnTo>
                  <a:pt x="224403" y="840509"/>
                </a:lnTo>
                <a:lnTo>
                  <a:pt x="234560" y="843973"/>
                </a:lnTo>
                <a:lnTo>
                  <a:pt x="244718" y="847129"/>
                </a:lnTo>
                <a:lnTo>
                  <a:pt x="254029" y="849233"/>
                </a:lnTo>
                <a:lnTo>
                  <a:pt x="262777" y="850635"/>
                </a:lnTo>
                <a:lnTo>
                  <a:pt x="271149" y="851570"/>
                </a:lnTo>
                <a:lnTo>
                  <a:pt x="279271" y="853040"/>
                </a:lnTo>
                <a:lnTo>
                  <a:pt x="287225" y="854867"/>
                </a:lnTo>
                <a:lnTo>
                  <a:pt x="295068" y="856931"/>
                </a:lnTo>
                <a:lnTo>
                  <a:pt x="301989" y="859154"/>
                </a:lnTo>
                <a:lnTo>
                  <a:pt x="308297" y="861483"/>
                </a:lnTo>
                <a:lnTo>
                  <a:pt x="318975" y="865482"/>
                </a:lnTo>
                <a:lnTo>
                  <a:pt x="326543" y="867259"/>
                </a:lnTo>
                <a:lnTo>
                  <a:pt x="334986" y="868048"/>
                </a:lnTo>
                <a:lnTo>
                  <a:pt x="348853" y="8686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InkAnnotation124"/>
          <p:cNvSpPr/>
          <p:nvPr/>
        </p:nvSpPr>
        <p:spPr>
          <a:xfrm>
            <a:off x="4991040" y="1211400"/>
            <a:ext cx="487440" cy="861840"/>
          </a:xfrm>
          <a:custGeom>
            <a:avLst/>
            <a:gdLst>
              <a:gd name="textAreaLeft" fmla="*/ 0 w 487440"/>
              <a:gd name="textAreaRight" fmla="*/ 487800 w 487440"/>
              <a:gd name="textAreaTop" fmla="*/ 0 h 861840"/>
              <a:gd name="textAreaBottom" fmla="*/ 862200 h 861840"/>
            </a:gdLst>
            <a:ahLst/>
            <a:rect l="textAreaLeft" t="textAreaTop" r="textAreaRight" b="textAreaBottom"/>
            <a:pathLst>
              <a:path w="487225" h="861034">
                <a:moveTo>
                  <a:pt x="487224" y="7593"/>
                </a:moveTo>
                <a:lnTo>
                  <a:pt x="483179" y="7593"/>
                </a:lnTo>
                <a:lnTo>
                  <a:pt x="481141" y="6746"/>
                </a:lnTo>
                <a:lnTo>
                  <a:pt x="474227" y="2356"/>
                </a:lnTo>
                <a:lnTo>
                  <a:pt x="469312" y="1032"/>
                </a:lnTo>
                <a:lnTo>
                  <a:pt x="457740" y="287"/>
                </a:lnTo>
                <a:lnTo>
                  <a:pt x="443587" y="66"/>
                </a:lnTo>
                <a:lnTo>
                  <a:pt x="432714" y="0"/>
                </a:lnTo>
                <a:lnTo>
                  <a:pt x="422358" y="2243"/>
                </a:lnTo>
                <a:lnTo>
                  <a:pt x="409288" y="6062"/>
                </a:lnTo>
                <a:lnTo>
                  <a:pt x="395012" y="10581"/>
                </a:lnTo>
                <a:lnTo>
                  <a:pt x="380201" y="17670"/>
                </a:lnTo>
                <a:lnTo>
                  <a:pt x="372696" y="21931"/>
                </a:lnTo>
                <a:lnTo>
                  <a:pt x="355325" y="31181"/>
                </a:lnTo>
                <a:lnTo>
                  <a:pt x="316579" y="50917"/>
                </a:lnTo>
                <a:lnTo>
                  <a:pt x="306573" y="56796"/>
                </a:lnTo>
                <a:lnTo>
                  <a:pt x="296517" y="63255"/>
                </a:lnTo>
                <a:lnTo>
                  <a:pt x="286426" y="70101"/>
                </a:lnTo>
                <a:lnTo>
                  <a:pt x="277159" y="77205"/>
                </a:lnTo>
                <a:lnTo>
                  <a:pt x="268441" y="84481"/>
                </a:lnTo>
                <a:lnTo>
                  <a:pt x="260089" y="91871"/>
                </a:lnTo>
                <a:lnTo>
                  <a:pt x="250287" y="99339"/>
                </a:lnTo>
                <a:lnTo>
                  <a:pt x="239520" y="106857"/>
                </a:lnTo>
                <a:lnTo>
                  <a:pt x="228108" y="114409"/>
                </a:lnTo>
                <a:lnTo>
                  <a:pt x="217960" y="121984"/>
                </a:lnTo>
                <a:lnTo>
                  <a:pt x="208654" y="129573"/>
                </a:lnTo>
                <a:lnTo>
                  <a:pt x="199911" y="137173"/>
                </a:lnTo>
                <a:lnTo>
                  <a:pt x="190695" y="145626"/>
                </a:lnTo>
                <a:lnTo>
                  <a:pt x="171425" y="164050"/>
                </a:lnTo>
                <a:lnTo>
                  <a:pt x="145581" y="189417"/>
                </a:lnTo>
                <a:lnTo>
                  <a:pt x="137542" y="198236"/>
                </a:lnTo>
                <a:lnTo>
                  <a:pt x="129643" y="207502"/>
                </a:lnTo>
                <a:lnTo>
                  <a:pt x="114939" y="226828"/>
                </a:lnTo>
                <a:lnTo>
                  <a:pt x="102760" y="246706"/>
                </a:lnTo>
                <a:lnTo>
                  <a:pt x="95448" y="257595"/>
                </a:lnTo>
                <a:lnTo>
                  <a:pt x="87187" y="269088"/>
                </a:lnTo>
                <a:lnTo>
                  <a:pt x="78292" y="280983"/>
                </a:lnTo>
                <a:lnTo>
                  <a:pt x="63894" y="303231"/>
                </a:lnTo>
                <a:lnTo>
                  <a:pt x="52698" y="324408"/>
                </a:lnTo>
                <a:lnTo>
                  <a:pt x="44899" y="345108"/>
                </a:lnTo>
                <a:lnTo>
                  <a:pt x="36353" y="367855"/>
                </a:lnTo>
                <a:lnTo>
                  <a:pt x="27757" y="391230"/>
                </a:lnTo>
                <a:lnTo>
                  <a:pt x="21114" y="412907"/>
                </a:lnTo>
                <a:lnTo>
                  <a:pt x="15340" y="433830"/>
                </a:lnTo>
                <a:lnTo>
                  <a:pt x="9951" y="455265"/>
                </a:lnTo>
                <a:lnTo>
                  <a:pt x="4734" y="478903"/>
                </a:lnTo>
                <a:lnTo>
                  <a:pt x="1850" y="501262"/>
                </a:lnTo>
                <a:lnTo>
                  <a:pt x="570" y="522488"/>
                </a:lnTo>
                <a:lnTo>
                  <a:pt x="0" y="543211"/>
                </a:lnTo>
                <a:lnTo>
                  <a:pt x="2004" y="563710"/>
                </a:lnTo>
                <a:lnTo>
                  <a:pt x="5718" y="584109"/>
                </a:lnTo>
                <a:lnTo>
                  <a:pt x="10190" y="604465"/>
                </a:lnTo>
                <a:lnTo>
                  <a:pt x="17468" y="630919"/>
                </a:lnTo>
                <a:lnTo>
                  <a:pt x="22468" y="649258"/>
                </a:lnTo>
                <a:lnTo>
                  <a:pt x="28359" y="667851"/>
                </a:lnTo>
                <a:lnTo>
                  <a:pt x="41196" y="692598"/>
                </a:lnTo>
                <a:lnTo>
                  <a:pt x="50794" y="708280"/>
                </a:lnTo>
                <a:lnTo>
                  <a:pt x="62961" y="721458"/>
                </a:lnTo>
                <a:lnTo>
                  <a:pt x="75990" y="733807"/>
                </a:lnTo>
                <a:lnTo>
                  <a:pt x="87425" y="747761"/>
                </a:lnTo>
                <a:lnTo>
                  <a:pt x="100408" y="757914"/>
                </a:lnTo>
                <a:lnTo>
                  <a:pt x="114646" y="766096"/>
                </a:lnTo>
                <a:lnTo>
                  <a:pt x="129441" y="775377"/>
                </a:lnTo>
                <a:lnTo>
                  <a:pt x="152050" y="790122"/>
                </a:lnTo>
                <a:lnTo>
                  <a:pt x="167231" y="797908"/>
                </a:lnTo>
                <a:lnTo>
                  <a:pt x="174835" y="801170"/>
                </a:lnTo>
                <a:lnTo>
                  <a:pt x="183292" y="804191"/>
                </a:lnTo>
                <a:lnTo>
                  <a:pt x="192316" y="807052"/>
                </a:lnTo>
                <a:lnTo>
                  <a:pt x="201718" y="809805"/>
                </a:lnTo>
                <a:lnTo>
                  <a:pt x="216682" y="815123"/>
                </a:lnTo>
                <a:lnTo>
                  <a:pt x="223043" y="817726"/>
                </a:lnTo>
                <a:lnTo>
                  <a:pt x="230669" y="819462"/>
                </a:lnTo>
                <a:lnTo>
                  <a:pt x="239141" y="820619"/>
                </a:lnTo>
                <a:lnTo>
                  <a:pt x="248175" y="821390"/>
                </a:lnTo>
                <a:lnTo>
                  <a:pt x="256738" y="822751"/>
                </a:lnTo>
                <a:lnTo>
                  <a:pt x="264987" y="824505"/>
                </a:lnTo>
                <a:lnTo>
                  <a:pt x="280078" y="828712"/>
                </a:lnTo>
                <a:lnTo>
                  <a:pt x="292431" y="833403"/>
                </a:lnTo>
                <a:lnTo>
                  <a:pt x="305823" y="836053"/>
                </a:lnTo>
                <a:lnTo>
                  <a:pt x="319394" y="838078"/>
                </a:lnTo>
                <a:lnTo>
                  <a:pt x="331071" y="841800"/>
                </a:lnTo>
                <a:lnTo>
                  <a:pt x="344162" y="844018"/>
                </a:lnTo>
                <a:lnTo>
                  <a:pt x="357601" y="845004"/>
                </a:lnTo>
                <a:lnTo>
                  <a:pt x="369219" y="845442"/>
                </a:lnTo>
                <a:lnTo>
                  <a:pt x="373840" y="846406"/>
                </a:lnTo>
                <a:lnTo>
                  <a:pt x="385237" y="850961"/>
                </a:lnTo>
                <a:lnTo>
                  <a:pt x="399314" y="852928"/>
                </a:lnTo>
                <a:lnTo>
                  <a:pt x="400677" y="853090"/>
                </a:lnTo>
                <a:lnTo>
                  <a:pt x="404450" y="855527"/>
                </a:lnTo>
                <a:lnTo>
                  <a:pt x="411024" y="8610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d9d9d9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Properties Summary: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 are number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149400" y="4876920"/>
            <a:ext cx="8839080" cy="1557000"/>
          </a:xfrm>
          <a:prstGeom prst="rect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dentit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perty of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Ex 5) 9 + 0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dentit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Property of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= 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Ex 6) 6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914400" y="114300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+ 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+ 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1 + 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4435560" y="1170000"/>
            <a:ext cx="2590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 X 1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X 1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25 X 1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8"/>
          <p:cNvGrpSpPr/>
          <p:nvPr/>
        </p:nvGrpSpPr>
        <p:grpSpPr>
          <a:xfrm>
            <a:off x="2187720" y="1181160"/>
            <a:ext cx="5333760" cy="1874880"/>
            <a:chOff x="2187720" y="1181160"/>
            <a:chExt cx="5333760" cy="1874880"/>
          </a:xfrm>
        </p:grpSpPr>
        <p:sp>
          <p:nvSpPr>
            <p:cNvPr id="147" name="SMARTInkAnnotation54"/>
            <p:cNvSpPr/>
            <p:nvPr/>
          </p:nvSpPr>
          <p:spPr>
            <a:xfrm>
              <a:off x="2187720" y="1181160"/>
              <a:ext cx="396000" cy="28908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w="396241" h="289085">
                  <a:moveTo>
                    <a:pt x="0" y="75724"/>
                  </a:moveTo>
                  <a:lnTo>
                    <a:pt x="0" y="71679"/>
                  </a:lnTo>
                  <a:lnTo>
                    <a:pt x="847" y="70487"/>
                  </a:lnTo>
                  <a:lnTo>
                    <a:pt x="2258" y="69693"/>
                  </a:lnTo>
                  <a:lnTo>
                    <a:pt x="4046" y="69163"/>
                  </a:lnTo>
                  <a:lnTo>
                    <a:pt x="8289" y="66317"/>
                  </a:lnTo>
                  <a:lnTo>
                    <a:pt x="10606" y="64373"/>
                  </a:lnTo>
                  <a:lnTo>
                    <a:pt x="19954" y="59955"/>
                  </a:lnTo>
                  <a:lnTo>
                    <a:pt x="26003" y="57591"/>
                  </a:lnTo>
                  <a:lnTo>
                    <a:pt x="33422" y="54322"/>
                  </a:lnTo>
                  <a:lnTo>
                    <a:pt x="50697" y="46174"/>
                  </a:lnTo>
                  <a:lnTo>
                    <a:pt x="60891" y="42478"/>
                  </a:lnTo>
                  <a:lnTo>
                    <a:pt x="71921" y="39166"/>
                  </a:lnTo>
                  <a:lnTo>
                    <a:pt x="83507" y="36112"/>
                  </a:lnTo>
                  <a:lnTo>
                    <a:pt x="95465" y="32383"/>
                  </a:lnTo>
                  <a:lnTo>
                    <a:pt x="107670" y="28203"/>
                  </a:lnTo>
                  <a:lnTo>
                    <a:pt x="120040" y="23723"/>
                  </a:lnTo>
                  <a:lnTo>
                    <a:pt x="133367" y="19890"/>
                  </a:lnTo>
                  <a:lnTo>
                    <a:pt x="147331" y="16488"/>
                  </a:lnTo>
                  <a:lnTo>
                    <a:pt x="161721" y="13374"/>
                  </a:lnTo>
                  <a:lnTo>
                    <a:pt x="191256" y="7655"/>
                  </a:lnTo>
                  <a:lnTo>
                    <a:pt x="206244" y="4945"/>
                  </a:lnTo>
                  <a:lnTo>
                    <a:pt x="220470" y="3138"/>
                  </a:lnTo>
                  <a:lnTo>
                    <a:pt x="234186" y="1933"/>
                  </a:lnTo>
                  <a:lnTo>
                    <a:pt x="247564" y="1130"/>
                  </a:lnTo>
                  <a:lnTo>
                    <a:pt x="271460" y="238"/>
                  </a:lnTo>
                  <a:lnTo>
                    <a:pt x="282573" y="0"/>
                  </a:lnTo>
                  <a:lnTo>
                    <a:pt x="292522" y="1535"/>
                  </a:lnTo>
                  <a:lnTo>
                    <a:pt x="301695" y="4251"/>
                  </a:lnTo>
                  <a:lnTo>
                    <a:pt x="310350" y="7755"/>
                  </a:lnTo>
                  <a:lnTo>
                    <a:pt x="317813" y="10938"/>
                  </a:lnTo>
                  <a:lnTo>
                    <a:pt x="330621" y="16733"/>
                  </a:lnTo>
                  <a:lnTo>
                    <a:pt x="334714" y="19463"/>
                  </a:lnTo>
                  <a:lnTo>
                    <a:pt x="337443" y="22130"/>
                  </a:lnTo>
                  <a:lnTo>
                    <a:pt x="339262" y="24755"/>
                  </a:lnTo>
                  <a:lnTo>
                    <a:pt x="339628" y="29045"/>
                  </a:lnTo>
                  <a:lnTo>
                    <a:pt x="339026" y="34444"/>
                  </a:lnTo>
                  <a:lnTo>
                    <a:pt x="337777" y="40584"/>
                  </a:lnTo>
                  <a:lnTo>
                    <a:pt x="333558" y="47218"/>
                  </a:lnTo>
                  <a:lnTo>
                    <a:pt x="327359" y="54180"/>
                  </a:lnTo>
                  <a:lnTo>
                    <a:pt x="311439" y="69536"/>
                  </a:lnTo>
                  <a:lnTo>
                    <a:pt x="293075" y="87649"/>
                  </a:lnTo>
                  <a:lnTo>
                    <a:pt x="282590" y="97221"/>
                  </a:lnTo>
                  <a:lnTo>
                    <a:pt x="271367" y="106989"/>
                  </a:lnTo>
                  <a:lnTo>
                    <a:pt x="259651" y="116887"/>
                  </a:lnTo>
                  <a:lnTo>
                    <a:pt x="246761" y="126026"/>
                  </a:lnTo>
                  <a:lnTo>
                    <a:pt x="233087" y="134659"/>
                  </a:lnTo>
                  <a:lnTo>
                    <a:pt x="218892" y="142954"/>
                  </a:lnTo>
                  <a:lnTo>
                    <a:pt x="205194" y="151871"/>
                  </a:lnTo>
                  <a:lnTo>
                    <a:pt x="191830" y="161202"/>
                  </a:lnTo>
                  <a:lnTo>
                    <a:pt x="134105" y="203632"/>
                  </a:lnTo>
                  <a:lnTo>
                    <a:pt x="116329" y="216110"/>
                  </a:lnTo>
                  <a:lnTo>
                    <a:pt x="111420" y="221808"/>
                  </a:lnTo>
                  <a:lnTo>
                    <a:pt x="108993" y="227300"/>
                  </a:lnTo>
                  <a:lnTo>
                    <a:pt x="108222" y="232655"/>
                  </a:lnTo>
                  <a:lnTo>
                    <a:pt x="108555" y="237918"/>
                  </a:lnTo>
                  <a:lnTo>
                    <a:pt x="109623" y="243120"/>
                  </a:lnTo>
                  <a:lnTo>
                    <a:pt x="111182" y="248281"/>
                  </a:lnTo>
                  <a:lnTo>
                    <a:pt x="115608" y="252569"/>
                  </a:lnTo>
                  <a:lnTo>
                    <a:pt x="121946" y="256274"/>
                  </a:lnTo>
                  <a:lnTo>
                    <a:pt x="129557" y="259591"/>
                  </a:lnTo>
                  <a:lnTo>
                    <a:pt x="139711" y="262649"/>
                  </a:lnTo>
                  <a:lnTo>
                    <a:pt x="151561" y="265534"/>
                  </a:lnTo>
                  <a:lnTo>
                    <a:pt x="164540" y="268304"/>
                  </a:lnTo>
                  <a:lnTo>
                    <a:pt x="179120" y="270997"/>
                  </a:lnTo>
                  <a:lnTo>
                    <a:pt x="211125" y="276248"/>
                  </a:lnTo>
                  <a:lnTo>
                    <a:pt x="227957" y="277986"/>
                  </a:lnTo>
                  <a:lnTo>
                    <a:pt x="245104" y="279146"/>
                  </a:lnTo>
                  <a:lnTo>
                    <a:pt x="262463" y="279919"/>
                  </a:lnTo>
                  <a:lnTo>
                    <a:pt x="281655" y="281280"/>
                  </a:lnTo>
                  <a:lnTo>
                    <a:pt x="340840" y="286396"/>
                  </a:lnTo>
                  <a:lnTo>
                    <a:pt x="355920" y="287292"/>
                  </a:lnTo>
                  <a:lnTo>
                    <a:pt x="396240" y="2890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MARTInkAnnotation55"/>
            <p:cNvSpPr/>
            <p:nvPr/>
          </p:nvSpPr>
          <p:spPr>
            <a:xfrm>
              <a:off x="2202840" y="1882440"/>
              <a:ext cx="488880" cy="42624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426240"/>
                <a:gd name="textAreaBottom" fmla="*/ 426600 h 426240"/>
              </a:gdLst>
              <a:ahLst/>
              <a:rect l="textAreaLeft" t="textAreaTop" r="textAreaRight" b="textAreaBottom"/>
              <a:pathLst>
                <a:path w="489029" h="426171">
                  <a:moveTo>
                    <a:pt x="7527" y="83270"/>
                  </a:moveTo>
                  <a:lnTo>
                    <a:pt x="3482" y="83270"/>
                  </a:lnTo>
                  <a:lnTo>
                    <a:pt x="2290" y="82423"/>
                  </a:lnTo>
                  <a:lnTo>
                    <a:pt x="1496" y="81012"/>
                  </a:lnTo>
                  <a:lnTo>
                    <a:pt x="0" y="75964"/>
                  </a:lnTo>
                  <a:lnTo>
                    <a:pt x="3980" y="71698"/>
                  </a:lnTo>
                  <a:lnTo>
                    <a:pt x="18611" y="65072"/>
                  </a:lnTo>
                  <a:lnTo>
                    <a:pt x="25923" y="61825"/>
                  </a:lnTo>
                  <a:lnTo>
                    <a:pt x="43079" y="53701"/>
                  </a:lnTo>
                  <a:lnTo>
                    <a:pt x="53241" y="49164"/>
                  </a:lnTo>
                  <a:lnTo>
                    <a:pt x="75822" y="39607"/>
                  </a:lnTo>
                  <a:lnTo>
                    <a:pt x="89464" y="35535"/>
                  </a:lnTo>
                  <a:lnTo>
                    <a:pt x="104485" y="31973"/>
                  </a:lnTo>
                  <a:lnTo>
                    <a:pt x="120426" y="28752"/>
                  </a:lnTo>
                  <a:lnTo>
                    <a:pt x="136980" y="24912"/>
                  </a:lnTo>
                  <a:lnTo>
                    <a:pt x="171177" y="16129"/>
                  </a:lnTo>
                  <a:lnTo>
                    <a:pt x="189440" y="12262"/>
                  </a:lnTo>
                  <a:lnTo>
                    <a:pt x="208389" y="8838"/>
                  </a:lnTo>
                  <a:lnTo>
                    <a:pt x="227795" y="5709"/>
                  </a:lnTo>
                  <a:lnTo>
                    <a:pt x="246659" y="3623"/>
                  </a:lnTo>
                  <a:lnTo>
                    <a:pt x="265162" y="2232"/>
                  </a:lnTo>
                  <a:lnTo>
                    <a:pt x="283424" y="1304"/>
                  </a:lnTo>
                  <a:lnTo>
                    <a:pt x="319519" y="274"/>
                  </a:lnTo>
                  <a:lnTo>
                    <a:pt x="337442" y="0"/>
                  </a:lnTo>
                  <a:lnTo>
                    <a:pt x="351930" y="663"/>
                  </a:lnTo>
                  <a:lnTo>
                    <a:pt x="364129" y="1952"/>
                  </a:lnTo>
                  <a:lnTo>
                    <a:pt x="374802" y="3658"/>
                  </a:lnTo>
                  <a:lnTo>
                    <a:pt x="384457" y="6489"/>
                  </a:lnTo>
                  <a:lnTo>
                    <a:pt x="393434" y="10069"/>
                  </a:lnTo>
                  <a:lnTo>
                    <a:pt x="401958" y="14150"/>
                  </a:lnTo>
                  <a:lnTo>
                    <a:pt x="406794" y="17716"/>
                  </a:lnTo>
                  <a:lnTo>
                    <a:pt x="409172" y="20941"/>
                  </a:lnTo>
                  <a:lnTo>
                    <a:pt x="409911" y="23937"/>
                  </a:lnTo>
                  <a:lnTo>
                    <a:pt x="407863" y="28475"/>
                  </a:lnTo>
                  <a:lnTo>
                    <a:pt x="398814" y="40290"/>
                  </a:lnTo>
                  <a:lnTo>
                    <a:pt x="386326" y="51750"/>
                  </a:lnTo>
                  <a:lnTo>
                    <a:pt x="379440" y="57177"/>
                  </a:lnTo>
                  <a:lnTo>
                    <a:pt x="369769" y="63335"/>
                  </a:lnTo>
                  <a:lnTo>
                    <a:pt x="358242" y="69980"/>
                  </a:lnTo>
                  <a:lnTo>
                    <a:pt x="332734" y="84136"/>
                  </a:lnTo>
                  <a:lnTo>
                    <a:pt x="281864" y="113921"/>
                  </a:lnTo>
                  <a:lnTo>
                    <a:pt x="269159" y="121484"/>
                  </a:lnTo>
                  <a:lnTo>
                    <a:pt x="258148" y="129066"/>
                  </a:lnTo>
                  <a:lnTo>
                    <a:pt x="248268" y="136661"/>
                  </a:lnTo>
                  <a:lnTo>
                    <a:pt x="239141" y="144264"/>
                  </a:lnTo>
                  <a:lnTo>
                    <a:pt x="224484" y="157227"/>
                  </a:lnTo>
                  <a:lnTo>
                    <a:pt x="218205" y="163055"/>
                  </a:lnTo>
                  <a:lnTo>
                    <a:pt x="214019" y="168633"/>
                  </a:lnTo>
                  <a:lnTo>
                    <a:pt x="209368" y="179347"/>
                  </a:lnTo>
                  <a:lnTo>
                    <a:pt x="209821" y="184575"/>
                  </a:lnTo>
                  <a:lnTo>
                    <a:pt x="211816" y="189753"/>
                  </a:lnTo>
                  <a:lnTo>
                    <a:pt x="214840" y="194899"/>
                  </a:lnTo>
                  <a:lnTo>
                    <a:pt x="227231" y="205132"/>
                  </a:lnTo>
                  <a:lnTo>
                    <a:pt x="235276" y="210231"/>
                  </a:lnTo>
                  <a:lnTo>
                    <a:pt x="244873" y="215324"/>
                  </a:lnTo>
                  <a:lnTo>
                    <a:pt x="255505" y="220413"/>
                  </a:lnTo>
                  <a:lnTo>
                    <a:pt x="266826" y="225499"/>
                  </a:lnTo>
                  <a:lnTo>
                    <a:pt x="279453" y="229736"/>
                  </a:lnTo>
                  <a:lnTo>
                    <a:pt x="292950" y="233407"/>
                  </a:lnTo>
                  <a:lnTo>
                    <a:pt x="307029" y="236702"/>
                  </a:lnTo>
                  <a:lnTo>
                    <a:pt x="338477" y="244878"/>
                  </a:lnTo>
                  <a:lnTo>
                    <a:pt x="355160" y="249429"/>
                  </a:lnTo>
                  <a:lnTo>
                    <a:pt x="387245" y="259000"/>
                  </a:lnTo>
                  <a:lnTo>
                    <a:pt x="402912" y="263924"/>
                  </a:lnTo>
                  <a:lnTo>
                    <a:pt x="416744" y="268899"/>
                  </a:lnTo>
                  <a:lnTo>
                    <a:pt x="429351" y="273909"/>
                  </a:lnTo>
                  <a:lnTo>
                    <a:pt x="441144" y="278943"/>
                  </a:lnTo>
                  <a:lnTo>
                    <a:pt x="451545" y="284839"/>
                  </a:lnTo>
                  <a:lnTo>
                    <a:pt x="461019" y="291309"/>
                  </a:lnTo>
                  <a:lnTo>
                    <a:pt x="469875" y="298163"/>
                  </a:lnTo>
                  <a:lnTo>
                    <a:pt x="481973" y="310294"/>
                  </a:lnTo>
                  <a:lnTo>
                    <a:pt x="486385" y="315899"/>
                  </a:lnTo>
                  <a:lnTo>
                    <a:pt x="488479" y="321330"/>
                  </a:lnTo>
                  <a:lnTo>
                    <a:pt x="489028" y="326643"/>
                  </a:lnTo>
                  <a:lnTo>
                    <a:pt x="488548" y="331879"/>
                  </a:lnTo>
                  <a:lnTo>
                    <a:pt x="485688" y="337063"/>
                  </a:lnTo>
                  <a:lnTo>
                    <a:pt x="475736" y="347338"/>
                  </a:lnTo>
                  <a:lnTo>
                    <a:pt x="460589" y="357549"/>
                  </a:lnTo>
                  <a:lnTo>
                    <a:pt x="451808" y="362643"/>
                  </a:lnTo>
                  <a:lnTo>
                    <a:pt x="442568" y="366885"/>
                  </a:lnTo>
                  <a:lnTo>
                    <a:pt x="433021" y="370560"/>
                  </a:lnTo>
                  <a:lnTo>
                    <a:pt x="385275" y="386587"/>
                  </a:lnTo>
                  <a:lnTo>
                    <a:pt x="358859" y="396160"/>
                  </a:lnTo>
                  <a:lnTo>
                    <a:pt x="345889" y="401083"/>
                  </a:lnTo>
                  <a:lnTo>
                    <a:pt x="332161" y="405212"/>
                  </a:lnTo>
                  <a:lnTo>
                    <a:pt x="317930" y="408812"/>
                  </a:lnTo>
                  <a:lnTo>
                    <a:pt x="275887" y="417922"/>
                  </a:lnTo>
                  <a:lnTo>
                    <a:pt x="262634" y="420672"/>
                  </a:lnTo>
                  <a:lnTo>
                    <a:pt x="252105" y="422505"/>
                  </a:lnTo>
                  <a:lnTo>
                    <a:pt x="243392" y="423726"/>
                  </a:lnTo>
                  <a:lnTo>
                    <a:pt x="220887" y="42617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MARTInkAnnotation56"/>
            <p:cNvSpPr/>
            <p:nvPr/>
          </p:nvSpPr>
          <p:spPr>
            <a:xfrm>
              <a:off x="2435760" y="2751120"/>
              <a:ext cx="140040" cy="2894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140232" h="289561">
                  <a:moveTo>
                    <a:pt x="140231" y="0"/>
                  </a:moveTo>
                  <a:lnTo>
                    <a:pt x="136186" y="0"/>
                  </a:lnTo>
                  <a:lnTo>
                    <a:pt x="134994" y="847"/>
                  </a:lnTo>
                  <a:lnTo>
                    <a:pt x="134200" y="2258"/>
                  </a:lnTo>
                  <a:lnTo>
                    <a:pt x="131974" y="8607"/>
                  </a:lnTo>
                  <a:lnTo>
                    <a:pt x="122033" y="28739"/>
                  </a:lnTo>
                  <a:lnTo>
                    <a:pt x="119632" y="34400"/>
                  </a:lnTo>
                  <a:lnTo>
                    <a:pt x="117185" y="40713"/>
                  </a:lnTo>
                  <a:lnTo>
                    <a:pt x="114707" y="47462"/>
                  </a:lnTo>
                  <a:lnTo>
                    <a:pt x="111361" y="54502"/>
                  </a:lnTo>
                  <a:lnTo>
                    <a:pt x="107438" y="61734"/>
                  </a:lnTo>
                  <a:lnTo>
                    <a:pt x="103129" y="69096"/>
                  </a:lnTo>
                  <a:lnTo>
                    <a:pt x="98563" y="77391"/>
                  </a:lnTo>
                  <a:lnTo>
                    <a:pt x="88974" y="95638"/>
                  </a:lnTo>
                  <a:lnTo>
                    <a:pt x="74056" y="124951"/>
                  </a:lnTo>
                  <a:lnTo>
                    <a:pt x="68174" y="134948"/>
                  </a:lnTo>
                  <a:lnTo>
                    <a:pt x="61713" y="144998"/>
                  </a:lnTo>
                  <a:lnTo>
                    <a:pt x="54866" y="155085"/>
                  </a:lnTo>
                  <a:lnTo>
                    <a:pt x="48608" y="165197"/>
                  </a:lnTo>
                  <a:lnTo>
                    <a:pt x="42742" y="175325"/>
                  </a:lnTo>
                  <a:lnTo>
                    <a:pt x="31709" y="195609"/>
                  </a:lnTo>
                  <a:lnTo>
                    <a:pt x="21161" y="215913"/>
                  </a:lnTo>
                  <a:lnTo>
                    <a:pt x="16825" y="225222"/>
                  </a:lnTo>
                  <a:lnTo>
                    <a:pt x="13087" y="233968"/>
                  </a:lnTo>
                  <a:lnTo>
                    <a:pt x="9748" y="242339"/>
                  </a:lnTo>
                  <a:lnTo>
                    <a:pt x="3781" y="258413"/>
                  </a:lnTo>
                  <a:lnTo>
                    <a:pt x="1004" y="266255"/>
                  </a:lnTo>
                  <a:lnTo>
                    <a:pt x="0" y="272330"/>
                  </a:lnTo>
                  <a:lnTo>
                    <a:pt x="177" y="277227"/>
                  </a:lnTo>
                  <a:lnTo>
                    <a:pt x="3071" y="2895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SMARTInkAnnotation57"/>
            <p:cNvSpPr/>
            <p:nvPr/>
          </p:nvSpPr>
          <p:spPr>
            <a:xfrm>
              <a:off x="2692440" y="2759040"/>
              <a:ext cx="172080" cy="24732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72293" h="247168">
                  <a:moveTo>
                    <a:pt x="13238" y="7592"/>
                  </a:moveTo>
                  <a:lnTo>
                    <a:pt x="17283" y="7592"/>
                  </a:lnTo>
                  <a:lnTo>
                    <a:pt x="18475" y="6745"/>
                  </a:lnTo>
                  <a:lnTo>
                    <a:pt x="19269" y="5334"/>
                  </a:lnTo>
                  <a:lnTo>
                    <a:pt x="19799" y="3547"/>
                  </a:lnTo>
                  <a:lnTo>
                    <a:pt x="21845" y="2355"/>
                  </a:lnTo>
                  <a:lnTo>
                    <a:pt x="24903" y="1561"/>
                  </a:lnTo>
                  <a:lnTo>
                    <a:pt x="28635" y="1031"/>
                  </a:lnTo>
                  <a:lnTo>
                    <a:pt x="33662" y="678"/>
                  </a:lnTo>
                  <a:lnTo>
                    <a:pt x="39554" y="443"/>
                  </a:lnTo>
                  <a:lnTo>
                    <a:pt x="52874" y="181"/>
                  </a:lnTo>
                  <a:lnTo>
                    <a:pt x="93686" y="0"/>
                  </a:lnTo>
                  <a:lnTo>
                    <a:pt x="103276" y="837"/>
                  </a:lnTo>
                  <a:lnTo>
                    <a:pt x="113057" y="2242"/>
                  </a:lnTo>
                  <a:lnTo>
                    <a:pt x="122964" y="4025"/>
                  </a:lnTo>
                  <a:lnTo>
                    <a:pt x="131262" y="6061"/>
                  </a:lnTo>
                  <a:lnTo>
                    <a:pt x="138487" y="8264"/>
                  </a:lnTo>
                  <a:lnTo>
                    <a:pt x="144997" y="10580"/>
                  </a:lnTo>
                  <a:lnTo>
                    <a:pt x="151031" y="13818"/>
                  </a:lnTo>
                  <a:lnTo>
                    <a:pt x="156747" y="17669"/>
                  </a:lnTo>
                  <a:lnTo>
                    <a:pt x="162251" y="21930"/>
                  </a:lnTo>
                  <a:lnTo>
                    <a:pt x="165920" y="25617"/>
                  </a:lnTo>
                  <a:lnTo>
                    <a:pt x="169997" y="31972"/>
                  </a:lnTo>
                  <a:lnTo>
                    <a:pt x="171084" y="35699"/>
                  </a:lnTo>
                  <a:lnTo>
                    <a:pt x="171809" y="39877"/>
                  </a:lnTo>
                  <a:lnTo>
                    <a:pt x="172292" y="44355"/>
                  </a:lnTo>
                  <a:lnTo>
                    <a:pt x="171767" y="49034"/>
                  </a:lnTo>
                  <a:lnTo>
                    <a:pt x="170571" y="53847"/>
                  </a:lnTo>
                  <a:lnTo>
                    <a:pt x="168927" y="58748"/>
                  </a:lnTo>
                  <a:lnTo>
                    <a:pt x="165290" y="64556"/>
                  </a:lnTo>
                  <a:lnTo>
                    <a:pt x="160326" y="70968"/>
                  </a:lnTo>
                  <a:lnTo>
                    <a:pt x="154477" y="77783"/>
                  </a:lnTo>
                  <a:lnTo>
                    <a:pt x="148884" y="84019"/>
                  </a:lnTo>
                  <a:lnTo>
                    <a:pt x="138154" y="95464"/>
                  </a:lnTo>
                  <a:lnTo>
                    <a:pt x="130382" y="101734"/>
                  </a:lnTo>
                  <a:lnTo>
                    <a:pt x="120967" y="108453"/>
                  </a:lnTo>
                  <a:lnTo>
                    <a:pt x="110457" y="115473"/>
                  </a:lnTo>
                  <a:lnTo>
                    <a:pt x="100064" y="121846"/>
                  </a:lnTo>
                  <a:lnTo>
                    <a:pt x="89749" y="127788"/>
                  </a:lnTo>
                  <a:lnTo>
                    <a:pt x="79486" y="133443"/>
                  </a:lnTo>
                  <a:lnTo>
                    <a:pt x="70103" y="139753"/>
                  </a:lnTo>
                  <a:lnTo>
                    <a:pt x="61308" y="146499"/>
                  </a:lnTo>
                  <a:lnTo>
                    <a:pt x="52905" y="153537"/>
                  </a:lnTo>
                  <a:lnTo>
                    <a:pt x="45609" y="159922"/>
                  </a:lnTo>
                  <a:lnTo>
                    <a:pt x="32987" y="171532"/>
                  </a:lnTo>
                  <a:lnTo>
                    <a:pt x="27251" y="177846"/>
                  </a:lnTo>
                  <a:lnTo>
                    <a:pt x="21734" y="184594"/>
                  </a:lnTo>
                  <a:lnTo>
                    <a:pt x="16362" y="191634"/>
                  </a:lnTo>
                  <a:lnTo>
                    <a:pt x="11934" y="198020"/>
                  </a:lnTo>
                  <a:lnTo>
                    <a:pt x="8135" y="203971"/>
                  </a:lnTo>
                  <a:lnTo>
                    <a:pt x="4756" y="209631"/>
                  </a:lnTo>
                  <a:lnTo>
                    <a:pt x="2504" y="214251"/>
                  </a:lnTo>
                  <a:lnTo>
                    <a:pt x="0" y="221643"/>
                  </a:lnTo>
                  <a:lnTo>
                    <a:pt x="180" y="224800"/>
                  </a:lnTo>
                  <a:lnTo>
                    <a:pt x="1146" y="227750"/>
                  </a:lnTo>
                  <a:lnTo>
                    <a:pt x="2637" y="230564"/>
                  </a:lnTo>
                  <a:lnTo>
                    <a:pt x="6170" y="233287"/>
                  </a:lnTo>
                  <a:lnTo>
                    <a:pt x="11066" y="235949"/>
                  </a:lnTo>
                  <a:lnTo>
                    <a:pt x="16870" y="238570"/>
                  </a:lnTo>
                  <a:lnTo>
                    <a:pt x="23280" y="241164"/>
                  </a:lnTo>
                  <a:lnTo>
                    <a:pt x="37175" y="246304"/>
                  </a:lnTo>
                  <a:lnTo>
                    <a:pt x="45282" y="247167"/>
                  </a:lnTo>
                  <a:lnTo>
                    <a:pt x="54074" y="246895"/>
                  </a:lnTo>
                  <a:lnTo>
                    <a:pt x="63322" y="245868"/>
                  </a:lnTo>
                  <a:lnTo>
                    <a:pt x="87145" y="242468"/>
                  </a:lnTo>
                  <a:lnTo>
                    <a:pt x="100609" y="240376"/>
                  </a:lnTo>
                  <a:lnTo>
                    <a:pt x="111279" y="238981"/>
                  </a:lnTo>
                  <a:lnTo>
                    <a:pt x="120085" y="238052"/>
                  </a:lnTo>
                  <a:lnTo>
                    <a:pt x="127649" y="237432"/>
                  </a:lnTo>
                  <a:lnTo>
                    <a:pt x="135232" y="236172"/>
                  </a:lnTo>
                  <a:lnTo>
                    <a:pt x="142828" y="234485"/>
                  </a:lnTo>
                  <a:lnTo>
                    <a:pt x="165638" y="2285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MARTInkAnnotation58"/>
            <p:cNvSpPr/>
            <p:nvPr/>
          </p:nvSpPr>
          <p:spPr>
            <a:xfrm>
              <a:off x="3033360" y="2743560"/>
              <a:ext cx="45720" cy="312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45721" h="312421">
                  <a:moveTo>
                    <a:pt x="45720" y="0"/>
                  </a:moveTo>
                  <a:lnTo>
                    <a:pt x="45720" y="7527"/>
                  </a:lnTo>
                  <a:lnTo>
                    <a:pt x="41675" y="15683"/>
                  </a:lnTo>
                  <a:lnTo>
                    <a:pt x="40483" y="19769"/>
                  </a:lnTo>
                  <a:lnTo>
                    <a:pt x="39159" y="28824"/>
                  </a:lnTo>
                  <a:lnTo>
                    <a:pt x="37960" y="34456"/>
                  </a:lnTo>
                  <a:lnTo>
                    <a:pt x="36313" y="40751"/>
                  </a:lnTo>
                  <a:lnTo>
                    <a:pt x="34369" y="47487"/>
                  </a:lnTo>
                  <a:lnTo>
                    <a:pt x="33073" y="54518"/>
                  </a:lnTo>
                  <a:lnTo>
                    <a:pt x="32209" y="61745"/>
                  </a:lnTo>
                  <a:lnTo>
                    <a:pt x="31632" y="69104"/>
                  </a:lnTo>
                  <a:lnTo>
                    <a:pt x="30402" y="77396"/>
                  </a:lnTo>
                  <a:lnTo>
                    <a:pt x="28734" y="86310"/>
                  </a:lnTo>
                  <a:lnTo>
                    <a:pt x="24624" y="105247"/>
                  </a:lnTo>
                  <a:lnTo>
                    <a:pt x="12598" y="155086"/>
                  </a:lnTo>
                  <a:lnTo>
                    <a:pt x="10939" y="166044"/>
                  </a:lnTo>
                  <a:lnTo>
                    <a:pt x="9832" y="177583"/>
                  </a:lnTo>
                  <a:lnTo>
                    <a:pt x="9095" y="189508"/>
                  </a:lnTo>
                  <a:lnTo>
                    <a:pt x="7757" y="200846"/>
                  </a:lnTo>
                  <a:lnTo>
                    <a:pt x="6018" y="211791"/>
                  </a:lnTo>
                  <a:lnTo>
                    <a:pt x="4012" y="222474"/>
                  </a:lnTo>
                  <a:lnTo>
                    <a:pt x="2675" y="233829"/>
                  </a:lnTo>
                  <a:lnTo>
                    <a:pt x="1783" y="245633"/>
                  </a:lnTo>
                  <a:lnTo>
                    <a:pt x="793" y="267497"/>
                  </a:lnTo>
                  <a:lnTo>
                    <a:pt x="235" y="289326"/>
                  </a:lnTo>
                  <a:lnTo>
                    <a:pt x="0" y="3124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MARTInkAnnotation59"/>
            <p:cNvSpPr/>
            <p:nvPr/>
          </p:nvSpPr>
          <p:spPr>
            <a:xfrm>
              <a:off x="5846760" y="1317600"/>
              <a:ext cx="302040" cy="272520"/>
            </a:xfrm>
            <a:custGeom>
              <a:avLst/>
              <a:gdLst>
                <a:gd name="textAreaLeft" fmla="*/ 0 w 302040"/>
                <a:gd name="textAreaRight" fmla="*/ 302400 w 30204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302248" h="272684">
                  <a:moveTo>
                    <a:pt x="74687" y="0"/>
                  </a:moveTo>
                  <a:lnTo>
                    <a:pt x="74687" y="6561"/>
                  </a:lnTo>
                  <a:lnTo>
                    <a:pt x="69450" y="13494"/>
                  </a:lnTo>
                  <a:lnTo>
                    <a:pt x="68125" y="18133"/>
                  </a:lnTo>
                  <a:lnTo>
                    <a:pt x="67380" y="25505"/>
                  </a:lnTo>
                  <a:lnTo>
                    <a:pt x="62690" y="32784"/>
                  </a:lnTo>
                  <a:lnTo>
                    <a:pt x="59069" y="37096"/>
                  </a:lnTo>
                  <a:lnTo>
                    <a:pt x="55808" y="41664"/>
                  </a:lnTo>
                  <a:lnTo>
                    <a:pt x="52787" y="46403"/>
                  </a:lnTo>
                  <a:lnTo>
                    <a:pt x="49926" y="51255"/>
                  </a:lnTo>
                  <a:lnTo>
                    <a:pt x="42233" y="58905"/>
                  </a:lnTo>
                  <a:lnTo>
                    <a:pt x="37811" y="62130"/>
                  </a:lnTo>
                  <a:lnTo>
                    <a:pt x="30639" y="70229"/>
                  </a:lnTo>
                  <a:lnTo>
                    <a:pt x="24630" y="78626"/>
                  </a:lnTo>
                  <a:lnTo>
                    <a:pt x="19136" y="85181"/>
                  </a:lnTo>
                  <a:lnTo>
                    <a:pt x="13873" y="93174"/>
                  </a:lnTo>
                  <a:lnTo>
                    <a:pt x="8712" y="101524"/>
                  </a:lnTo>
                  <a:lnTo>
                    <a:pt x="3595" y="108057"/>
                  </a:lnTo>
                  <a:lnTo>
                    <a:pt x="0" y="112450"/>
                  </a:lnTo>
                  <a:lnTo>
                    <a:pt x="342" y="113914"/>
                  </a:lnTo>
                  <a:lnTo>
                    <a:pt x="2980" y="117797"/>
                  </a:lnTo>
                  <a:lnTo>
                    <a:pt x="4869" y="119172"/>
                  </a:lnTo>
                  <a:lnTo>
                    <a:pt x="9225" y="120699"/>
                  </a:lnTo>
                  <a:lnTo>
                    <a:pt x="18499" y="121377"/>
                  </a:lnTo>
                  <a:lnTo>
                    <a:pt x="31934" y="121679"/>
                  </a:lnTo>
                  <a:lnTo>
                    <a:pt x="148855" y="121917"/>
                  </a:lnTo>
                  <a:lnTo>
                    <a:pt x="161386" y="123611"/>
                  </a:lnTo>
                  <a:lnTo>
                    <a:pt x="173973" y="126434"/>
                  </a:lnTo>
                  <a:lnTo>
                    <a:pt x="198400" y="133240"/>
                  </a:lnTo>
                  <a:lnTo>
                    <a:pt x="220546" y="139087"/>
                  </a:lnTo>
                  <a:lnTo>
                    <a:pt x="230346" y="142678"/>
                  </a:lnTo>
                  <a:lnTo>
                    <a:pt x="239419" y="146765"/>
                  </a:lnTo>
                  <a:lnTo>
                    <a:pt x="248008" y="151184"/>
                  </a:lnTo>
                  <a:lnTo>
                    <a:pt x="256274" y="154976"/>
                  </a:lnTo>
                  <a:lnTo>
                    <a:pt x="264325" y="158351"/>
                  </a:lnTo>
                  <a:lnTo>
                    <a:pt x="272232" y="161447"/>
                  </a:lnTo>
                  <a:lnTo>
                    <a:pt x="279197" y="165205"/>
                  </a:lnTo>
                  <a:lnTo>
                    <a:pt x="285533" y="169403"/>
                  </a:lnTo>
                  <a:lnTo>
                    <a:pt x="291451" y="173896"/>
                  </a:lnTo>
                  <a:lnTo>
                    <a:pt x="295396" y="178584"/>
                  </a:lnTo>
                  <a:lnTo>
                    <a:pt x="298026" y="183403"/>
                  </a:lnTo>
                  <a:lnTo>
                    <a:pt x="299780" y="188308"/>
                  </a:lnTo>
                  <a:lnTo>
                    <a:pt x="300948" y="193272"/>
                  </a:lnTo>
                  <a:lnTo>
                    <a:pt x="301728" y="198275"/>
                  </a:lnTo>
                  <a:lnTo>
                    <a:pt x="302247" y="203303"/>
                  </a:lnTo>
                  <a:lnTo>
                    <a:pt x="301747" y="208349"/>
                  </a:lnTo>
                  <a:lnTo>
                    <a:pt x="300567" y="213406"/>
                  </a:lnTo>
                  <a:lnTo>
                    <a:pt x="298933" y="218471"/>
                  </a:lnTo>
                  <a:lnTo>
                    <a:pt x="296151" y="223540"/>
                  </a:lnTo>
                  <a:lnTo>
                    <a:pt x="292603" y="228614"/>
                  </a:lnTo>
                  <a:lnTo>
                    <a:pt x="288544" y="233689"/>
                  </a:lnTo>
                  <a:lnTo>
                    <a:pt x="283298" y="238766"/>
                  </a:lnTo>
                  <a:lnTo>
                    <a:pt x="277261" y="243844"/>
                  </a:lnTo>
                  <a:lnTo>
                    <a:pt x="270696" y="248923"/>
                  </a:lnTo>
                  <a:lnTo>
                    <a:pt x="262933" y="253155"/>
                  </a:lnTo>
                  <a:lnTo>
                    <a:pt x="254371" y="256824"/>
                  </a:lnTo>
                  <a:lnTo>
                    <a:pt x="245276" y="260116"/>
                  </a:lnTo>
                  <a:lnTo>
                    <a:pt x="234979" y="263157"/>
                  </a:lnTo>
                  <a:lnTo>
                    <a:pt x="223881" y="266031"/>
                  </a:lnTo>
                  <a:lnTo>
                    <a:pt x="212250" y="268794"/>
                  </a:lnTo>
                  <a:lnTo>
                    <a:pt x="200261" y="270636"/>
                  </a:lnTo>
                  <a:lnTo>
                    <a:pt x="188037" y="271864"/>
                  </a:lnTo>
                  <a:lnTo>
                    <a:pt x="175654" y="272683"/>
                  </a:lnTo>
                  <a:lnTo>
                    <a:pt x="164011" y="272382"/>
                  </a:lnTo>
                  <a:lnTo>
                    <a:pt x="152863" y="271335"/>
                  </a:lnTo>
                  <a:lnTo>
                    <a:pt x="142044" y="269790"/>
                  </a:lnTo>
                  <a:lnTo>
                    <a:pt x="118733" y="265815"/>
                  </a:lnTo>
                  <a:lnTo>
                    <a:pt x="106592" y="263570"/>
                  </a:lnTo>
                  <a:lnTo>
                    <a:pt x="96803" y="261227"/>
                  </a:lnTo>
                  <a:lnTo>
                    <a:pt x="88584" y="258818"/>
                  </a:lnTo>
                  <a:lnTo>
                    <a:pt x="67066" y="2514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MARTInkAnnotation60"/>
            <p:cNvSpPr/>
            <p:nvPr/>
          </p:nvSpPr>
          <p:spPr>
            <a:xfrm>
              <a:off x="5921280" y="1294920"/>
              <a:ext cx="258840" cy="2268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59080" h="22861">
                  <a:moveTo>
                    <a:pt x="0" y="22860"/>
                  </a:moveTo>
                  <a:lnTo>
                    <a:pt x="0" y="18815"/>
                  </a:lnTo>
                  <a:lnTo>
                    <a:pt x="846" y="17623"/>
                  </a:lnTo>
                  <a:lnTo>
                    <a:pt x="2257" y="16829"/>
                  </a:lnTo>
                  <a:lnTo>
                    <a:pt x="6560" y="15554"/>
                  </a:lnTo>
                  <a:lnTo>
                    <a:pt x="8607" y="14603"/>
                  </a:lnTo>
                  <a:lnTo>
                    <a:pt x="15396" y="11288"/>
                  </a:lnTo>
                  <a:lnTo>
                    <a:pt x="19577" y="10065"/>
                  </a:lnTo>
                  <a:lnTo>
                    <a:pt x="24058" y="9250"/>
                  </a:lnTo>
                  <a:lnTo>
                    <a:pt x="28738" y="8707"/>
                  </a:lnTo>
                  <a:lnTo>
                    <a:pt x="34399" y="7498"/>
                  </a:lnTo>
                  <a:lnTo>
                    <a:pt x="40713" y="5845"/>
                  </a:lnTo>
                  <a:lnTo>
                    <a:pt x="47461" y="3897"/>
                  </a:lnTo>
                  <a:lnTo>
                    <a:pt x="56194" y="2598"/>
                  </a:lnTo>
                  <a:lnTo>
                    <a:pt x="66249" y="1732"/>
                  </a:lnTo>
                  <a:lnTo>
                    <a:pt x="77186" y="1155"/>
                  </a:lnTo>
                  <a:lnTo>
                    <a:pt x="100627" y="513"/>
                  </a:lnTo>
                  <a:lnTo>
                    <a:pt x="25907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MARTInkAnnotation61"/>
            <p:cNvSpPr/>
            <p:nvPr/>
          </p:nvSpPr>
          <p:spPr>
            <a:xfrm>
              <a:off x="6356160" y="1325520"/>
              <a:ext cx="265320" cy="24984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65399" h="249787">
                  <a:moveTo>
                    <a:pt x="68219" y="0"/>
                  </a:moveTo>
                  <a:lnTo>
                    <a:pt x="68219" y="4045"/>
                  </a:lnTo>
                  <a:lnTo>
                    <a:pt x="67372" y="6084"/>
                  </a:lnTo>
                  <a:lnTo>
                    <a:pt x="64174" y="10606"/>
                  </a:lnTo>
                  <a:lnTo>
                    <a:pt x="62982" y="13844"/>
                  </a:lnTo>
                  <a:lnTo>
                    <a:pt x="62187" y="17696"/>
                  </a:lnTo>
                  <a:lnTo>
                    <a:pt x="61658" y="21957"/>
                  </a:lnTo>
                  <a:lnTo>
                    <a:pt x="60458" y="26492"/>
                  </a:lnTo>
                  <a:lnTo>
                    <a:pt x="58812" y="31208"/>
                  </a:lnTo>
                  <a:lnTo>
                    <a:pt x="56868" y="36045"/>
                  </a:lnTo>
                  <a:lnTo>
                    <a:pt x="55571" y="40964"/>
                  </a:lnTo>
                  <a:lnTo>
                    <a:pt x="54708" y="45936"/>
                  </a:lnTo>
                  <a:lnTo>
                    <a:pt x="54131" y="50944"/>
                  </a:lnTo>
                  <a:lnTo>
                    <a:pt x="52900" y="55976"/>
                  </a:lnTo>
                  <a:lnTo>
                    <a:pt x="51233" y="61024"/>
                  </a:lnTo>
                  <a:lnTo>
                    <a:pt x="49275" y="66083"/>
                  </a:lnTo>
                  <a:lnTo>
                    <a:pt x="47123" y="71148"/>
                  </a:lnTo>
                  <a:lnTo>
                    <a:pt x="42474" y="81293"/>
                  </a:lnTo>
                  <a:lnTo>
                    <a:pt x="35097" y="96524"/>
                  </a:lnTo>
                  <a:lnTo>
                    <a:pt x="31745" y="100756"/>
                  </a:lnTo>
                  <a:lnTo>
                    <a:pt x="23504" y="107716"/>
                  </a:lnTo>
                  <a:lnTo>
                    <a:pt x="16454" y="113632"/>
                  </a:lnTo>
                  <a:lnTo>
                    <a:pt x="13389" y="116394"/>
                  </a:lnTo>
                  <a:lnTo>
                    <a:pt x="11346" y="119083"/>
                  </a:lnTo>
                  <a:lnTo>
                    <a:pt x="9075" y="124328"/>
                  </a:lnTo>
                  <a:lnTo>
                    <a:pt x="7623" y="126065"/>
                  </a:lnTo>
                  <a:lnTo>
                    <a:pt x="5809" y="127224"/>
                  </a:lnTo>
                  <a:lnTo>
                    <a:pt x="0" y="129405"/>
                  </a:lnTo>
                  <a:lnTo>
                    <a:pt x="5794" y="123430"/>
                  </a:lnTo>
                  <a:lnTo>
                    <a:pt x="10277" y="118922"/>
                  </a:lnTo>
                  <a:lnTo>
                    <a:pt x="14351" y="116535"/>
                  </a:lnTo>
                  <a:lnTo>
                    <a:pt x="19607" y="114097"/>
                  </a:lnTo>
                  <a:lnTo>
                    <a:pt x="25651" y="111625"/>
                  </a:lnTo>
                  <a:lnTo>
                    <a:pt x="32221" y="108283"/>
                  </a:lnTo>
                  <a:lnTo>
                    <a:pt x="39140" y="104362"/>
                  </a:lnTo>
                  <a:lnTo>
                    <a:pt x="46293" y="100055"/>
                  </a:lnTo>
                  <a:lnTo>
                    <a:pt x="54448" y="95490"/>
                  </a:lnTo>
                  <a:lnTo>
                    <a:pt x="72541" y="85902"/>
                  </a:lnTo>
                  <a:lnTo>
                    <a:pt x="82954" y="82668"/>
                  </a:lnTo>
                  <a:lnTo>
                    <a:pt x="94129" y="80512"/>
                  </a:lnTo>
                  <a:lnTo>
                    <a:pt x="105813" y="79075"/>
                  </a:lnTo>
                  <a:lnTo>
                    <a:pt x="116142" y="78116"/>
                  </a:lnTo>
                  <a:lnTo>
                    <a:pt x="125568" y="77478"/>
                  </a:lnTo>
                  <a:lnTo>
                    <a:pt x="134392" y="77052"/>
                  </a:lnTo>
                  <a:lnTo>
                    <a:pt x="143661" y="77615"/>
                  </a:lnTo>
                  <a:lnTo>
                    <a:pt x="153226" y="78836"/>
                  </a:lnTo>
                  <a:lnTo>
                    <a:pt x="162991" y="80498"/>
                  </a:lnTo>
                  <a:lnTo>
                    <a:pt x="172887" y="82452"/>
                  </a:lnTo>
                  <a:lnTo>
                    <a:pt x="192914" y="86881"/>
                  </a:lnTo>
                  <a:lnTo>
                    <a:pt x="202149" y="89247"/>
                  </a:lnTo>
                  <a:lnTo>
                    <a:pt x="210846" y="91671"/>
                  </a:lnTo>
                  <a:lnTo>
                    <a:pt x="219184" y="94134"/>
                  </a:lnTo>
                  <a:lnTo>
                    <a:pt x="226436" y="98316"/>
                  </a:lnTo>
                  <a:lnTo>
                    <a:pt x="232963" y="103644"/>
                  </a:lnTo>
                  <a:lnTo>
                    <a:pt x="255607" y="126400"/>
                  </a:lnTo>
                  <a:lnTo>
                    <a:pt x="259185" y="132527"/>
                  </a:lnTo>
                  <a:lnTo>
                    <a:pt x="261569" y="139151"/>
                  </a:lnTo>
                  <a:lnTo>
                    <a:pt x="263160" y="146108"/>
                  </a:lnTo>
                  <a:lnTo>
                    <a:pt x="264219" y="152438"/>
                  </a:lnTo>
                  <a:lnTo>
                    <a:pt x="264926" y="158352"/>
                  </a:lnTo>
                  <a:lnTo>
                    <a:pt x="265398" y="163988"/>
                  </a:lnTo>
                  <a:lnTo>
                    <a:pt x="264019" y="170286"/>
                  </a:lnTo>
                  <a:lnTo>
                    <a:pt x="261405" y="177024"/>
                  </a:lnTo>
                  <a:lnTo>
                    <a:pt x="257969" y="184056"/>
                  </a:lnTo>
                  <a:lnTo>
                    <a:pt x="253987" y="191284"/>
                  </a:lnTo>
                  <a:lnTo>
                    <a:pt x="249638" y="198643"/>
                  </a:lnTo>
                  <a:lnTo>
                    <a:pt x="245044" y="206088"/>
                  </a:lnTo>
                  <a:lnTo>
                    <a:pt x="238597" y="212746"/>
                  </a:lnTo>
                  <a:lnTo>
                    <a:pt x="230910" y="218877"/>
                  </a:lnTo>
                  <a:lnTo>
                    <a:pt x="222400" y="224658"/>
                  </a:lnTo>
                  <a:lnTo>
                    <a:pt x="214187" y="229359"/>
                  </a:lnTo>
                  <a:lnTo>
                    <a:pt x="206171" y="233339"/>
                  </a:lnTo>
                  <a:lnTo>
                    <a:pt x="198287" y="236839"/>
                  </a:lnTo>
                  <a:lnTo>
                    <a:pt x="188798" y="240020"/>
                  </a:lnTo>
                  <a:lnTo>
                    <a:pt x="178238" y="242987"/>
                  </a:lnTo>
                  <a:lnTo>
                    <a:pt x="166965" y="245811"/>
                  </a:lnTo>
                  <a:lnTo>
                    <a:pt x="156910" y="247694"/>
                  </a:lnTo>
                  <a:lnTo>
                    <a:pt x="147666" y="248949"/>
                  </a:lnTo>
                  <a:lnTo>
                    <a:pt x="138963" y="249786"/>
                  </a:lnTo>
                  <a:lnTo>
                    <a:pt x="129775" y="249497"/>
                  </a:lnTo>
                  <a:lnTo>
                    <a:pt x="120264" y="248458"/>
                  </a:lnTo>
                  <a:lnTo>
                    <a:pt x="110535" y="246919"/>
                  </a:lnTo>
                  <a:lnTo>
                    <a:pt x="103204" y="245893"/>
                  </a:lnTo>
                  <a:lnTo>
                    <a:pt x="97469" y="245209"/>
                  </a:lnTo>
                  <a:lnTo>
                    <a:pt x="92799" y="244752"/>
                  </a:lnTo>
                  <a:lnTo>
                    <a:pt x="87992" y="244448"/>
                  </a:lnTo>
                  <a:lnTo>
                    <a:pt x="68219" y="2438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SMARTInkAnnotation62"/>
            <p:cNvSpPr/>
            <p:nvPr/>
          </p:nvSpPr>
          <p:spPr>
            <a:xfrm>
              <a:off x="6462360" y="1317960"/>
              <a:ext cx="251280" cy="1512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51461" h="15148">
                  <a:moveTo>
                    <a:pt x="0" y="7527"/>
                  </a:moveTo>
                  <a:lnTo>
                    <a:pt x="14651" y="7527"/>
                  </a:lnTo>
                  <a:lnTo>
                    <a:pt x="18234" y="6680"/>
                  </a:lnTo>
                  <a:lnTo>
                    <a:pt x="21469" y="5269"/>
                  </a:lnTo>
                  <a:lnTo>
                    <a:pt x="24473" y="3482"/>
                  </a:lnTo>
                  <a:lnTo>
                    <a:pt x="29862" y="2290"/>
                  </a:lnTo>
                  <a:lnTo>
                    <a:pt x="36841" y="1496"/>
                  </a:lnTo>
                  <a:lnTo>
                    <a:pt x="44881" y="966"/>
                  </a:lnTo>
                  <a:lnTo>
                    <a:pt x="54474" y="613"/>
                  </a:lnTo>
                  <a:lnTo>
                    <a:pt x="87354" y="116"/>
                  </a:lnTo>
                  <a:lnTo>
                    <a:pt x="108534" y="0"/>
                  </a:lnTo>
                  <a:lnTo>
                    <a:pt x="119769" y="816"/>
                  </a:lnTo>
                  <a:lnTo>
                    <a:pt x="131493" y="2206"/>
                  </a:lnTo>
                  <a:lnTo>
                    <a:pt x="143541" y="3980"/>
                  </a:lnTo>
                  <a:lnTo>
                    <a:pt x="155807" y="5162"/>
                  </a:lnTo>
                  <a:lnTo>
                    <a:pt x="168219" y="5951"/>
                  </a:lnTo>
                  <a:lnTo>
                    <a:pt x="193297" y="6826"/>
                  </a:lnTo>
                  <a:lnTo>
                    <a:pt x="218555" y="7216"/>
                  </a:lnTo>
                  <a:lnTo>
                    <a:pt x="227830" y="8166"/>
                  </a:lnTo>
                  <a:lnTo>
                    <a:pt x="234861" y="9647"/>
                  </a:lnTo>
                  <a:lnTo>
                    <a:pt x="251460" y="1514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SMARTInkAnnotation63"/>
            <p:cNvSpPr/>
            <p:nvPr/>
          </p:nvSpPr>
          <p:spPr>
            <a:xfrm>
              <a:off x="5945040" y="1973520"/>
              <a:ext cx="244800" cy="2203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245073" h="220391">
                  <a:moveTo>
                    <a:pt x="159086" y="0"/>
                  </a:moveTo>
                  <a:lnTo>
                    <a:pt x="155041" y="0"/>
                  </a:lnTo>
                  <a:lnTo>
                    <a:pt x="153003" y="847"/>
                  </a:lnTo>
                  <a:lnTo>
                    <a:pt x="148481" y="4045"/>
                  </a:lnTo>
                  <a:lnTo>
                    <a:pt x="141390" y="10547"/>
                  </a:lnTo>
                  <a:lnTo>
                    <a:pt x="137129" y="14651"/>
                  </a:lnTo>
                  <a:lnTo>
                    <a:pt x="131749" y="19081"/>
                  </a:lnTo>
                  <a:lnTo>
                    <a:pt x="125621" y="23727"/>
                  </a:lnTo>
                  <a:lnTo>
                    <a:pt x="93491" y="47396"/>
                  </a:lnTo>
                  <a:lnTo>
                    <a:pt x="84876" y="54458"/>
                  </a:lnTo>
                  <a:lnTo>
                    <a:pt x="76593" y="61705"/>
                  </a:lnTo>
                  <a:lnTo>
                    <a:pt x="68531" y="69077"/>
                  </a:lnTo>
                  <a:lnTo>
                    <a:pt x="52799" y="84041"/>
                  </a:lnTo>
                  <a:lnTo>
                    <a:pt x="45049" y="91587"/>
                  </a:lnTo>
                  <a:lnTo>
                    <a:pt x="38187" y="100005"/>
                  </a:lnTo>
                  <a:lnTo>
                    <a:pt x="31921" y="109003"/>
                  </a:lnTo>
                  <a:lnTo>
                    <a:pt x="20442" y="127186"/>
                  </a:lnTo>
                  <a:lnTo>
                    <a:pt x="9696" y="143734"/>
                  </a:lnTo>
                  <a:lnTo>
                    <a:pt x="6152" y="151702"/>
                  </a:lnTo>
                  <a:lnTo>
                    <a:pt x="3790" y="159555"/>
                  </a:lnTo>
                  <a:lnTo>
                    <a:pt x="2216" y="167330"/>
                  </a:lnTo>
                  <a:lnTo>
                    <a:pt x="1166" y="174207"/>
                  </a:lnTo>
                  <a:lnTo>
                    <a:pt x="466" y="180485"/>
                  </a:lnTo>
                  <a:lnTo>
                    <a:pt x="0" y="186363"/>
                  </a:lnTo>
                  <a:lnTo>
                    <a:pt x="1382" y="191975"/>
                  </a:lnTo>
                  <a:lnTo>
                    <a:pt x="3997" y="197410"/>
                  </a:lnTo>
                  <a:lnTo>
                    <a:pt x="7433" y="202727"/>
                  </a:lnTo>
                  <a:lnTo>
                    <a:pt x="12264" y="207118"/>
                  </a:lnTo>
                  <a:lnTo>
                    <a:pt x="18025" y="210892"/>
                  </a:lnTo>
                  <a:lnTo>
                    <a:pt x="24406" y="214255"/>
                  </a:lnTo>
                  <a:lnTo>
                    <a:pt x="32046" y="216496"/>
                  </a:lnTo>
                  <a:lnTo>
                    <a:pt x="40526" y="217991"/>
                  </a:lnTo>
                  <a:lnTo>
                    <a:pt x="49566" y="218987"/>
                  </a:lnTo>
                  <a:lnTo>
                    <a:pt x="59827" y="219651"/>
                  </a:lnTo>
                  <a:lnTo>
                    <a:pt x="70900" y="220094"/>
                  </a:lnTo>
                  <a:lnTo>
                    <a:pt x="82515" y="220390"/>
                  </a:lnTo>
                  <a:lnTo>
                    <a:pt x="93646" y="219740"/>
                  </a:lnTo>
                  <a:lnTo>
                    <a:pt x="104453" y="218460"/>
                  </a:lnTo>
                  <a:lnTo>
                    <a:pt x="115044" y="216760"/>
                  </a:lnTo>
                  <a:lnTo>
                    <a:pt x="126338" y="213933"/>
                  </a:lnTo>
                  <a:lnTo>
                    <a:pt x="138101" y="210355"/>
                  </a:lnTo>
                  <a:lnTo>
                    <a:pt x="150176" y="206277"/>
                  </a:lnTo>
                  <a:lnTo>
                    <a:pt x="161612" y="201865"/>
                  </a:lnTo>
                  <a:lnTo>
                    <a:pt x="172624" y="197230"/>
                  </a:lnTo>
                  <a:lnTo>
                    <a:pt x="183351" y="192447"/>
                  </a:lnTo>
                  <a:lnTo>
                    <a:pt x="193043" y="186718"/>
                  </a:lnTo>
                  <a:lnTo>
                    <a:pt x="202044" y="180358"/>
                  </a:lnTo>
                  <a:lnTo>
                    <a:pt x="210585" y="173579"/>
                  </a:lnTo>
                  <a:lnTo>
                    <a:pt x="217972" y="166520"/>
                  </a:lnTo>
                  <a:lnTo>
                    <a:pt x="224590" y="159273"/>
                  </a:lnTo>
                  <a:lnTo>
                    <a:pt x="230695" y="151902"/>
                  </a:lnTo>
                  <a:lnTo>
                    <a:pt x="235612" y="145295"/>
                  </a:lnTo>
                  <a:lnTo>
                    <a:pt x="239737" y="139196"/>
                  </a:lnTo>
                  <a:lnTo>
                    <a:pt x="243334" y="133438"/>
                  </a:lnTo>
                  <a:lnTo>
                    <a:pt x="244884" y="127905"/>
                  </a:lnTo>
                  <a:lnTo>
                    <a:pt x="245072" y="122523"/>
                  </a:lnTo>
                  <a:lnTo>
                    <a:pt x="244350" y="117242"/>
                  </a:lnTo>
                  <a:lnTo>
                    <a:pt x="242175" y="112875"/>
                  </a:lnTo>
                  <a:lnTo>
                    <a:pt x="239033" y="109117"/>
                  </a:lnTo>
                  <a:lnTo>
                    <a:pt x="235244" y="105765"/>
                  </a:lnTo>
                  <a:lnTo>
                    <a:pt x="231025" y="103530"/>
                  </a:lnTo>
                  <a:lnTo>
                    <a:pt x="226519" y="102040"/>
                  </a:lnTo>
                  <a:lnTo>
                    <a:pt x="221821" y="101046"/>
                  </a:lnTo>
                  <a:lnTo>
                    <a:pt x="216150" y="100384"/>
                  </a:lnTo>
                  <a:lnTo>
                    <a:pt x="209828" y="99943"/>
                  </a:lnTo>
                  <a:lnTo>
                    <a:pt x="203074" y="99649"/>
                  </a:lnTo>
                  <a:lnTo>
                    <a:pt x="188797" y="99321"/>
                  </a:lnTo>
                  <a:lnTo>
                    <a:pt x="181433" y="99234"/>
                  </a:lnTo>
                  <a:lnTo>
                    <a:pt x="174831" y="100023"/>
                  </a:lnTo>
                  <a:lnTo>
                    <a:pt x="168736" y="101395"/>
                  </a:lnTo>
                  <a:lnTo>
                    <a:pt x="162980" y="103157"/>
                  </a:lnTo>
                  <a:lnTo>
                    <a:pt x="157449" y="106024"/>
                  </a:lnTo>
                  <a:lnTo>
                    <a:pt x="152068" y="109630"/>
                  </a:lnTo>
                  <a:lnTo>
                    <a:pt x="146787" y="113727"/>
                  </a:lnTo>
                  <a:lnTo>
                    <a:pt x="143267" y="118151"/>
                  </a:lnTo>
                  <a:lnTo>
                    <a:pt x="140920" y="122794"/>
                  </a:lnTo>
                  <a:lnTo>
                    <a:pt x="139355" y="127583"/>
                  </a:lnTo>
                  <a:lnTo>
                    <a:pt x="139159" y="133315"/>
                  </a:lnTo>
                  <a:lnTo>
                    <a:pt x="139875" y="139677"/>
                  </a:lnTo>
                  <a:lnTo>
                    <a:pt x="141199" y="146458"/>
                  </a:lnTo>
                  <a:lnTo>
                    <a:pt x="143775" y="152672"/>
                  </a:lnTo>
                  <a:lnTo>
                    <a:pt x="147185" y="158508"/>
                  </a:lnTo>
                  <a:lnTo>
                    <a:pt x="151152" y="164092"/>
                  </a:lnTo>
                  <a:lnTo>
                    <a:pt x="156337" y="170355"/>
                  </a:lnTo>
                  <a:lnTo>
                    <a:pt x="162333" y="177070"/>
                  </a:lnTo>
                  <a:lnTo>
                    <a:pt x="168871" y="184087"/>
                  </a:lnTo>
                  <a:lnTo>
                    <a:pt x="174923" y="189611"/>
                  </a:lnTo>
                  <a:lnTo>
                    <a:pt x="180651" y="194141"/>
                  </a:lnTo>
                  <a:lnTo>
                    <a:pt x="197186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SMARTInkAnnotation64"/>
            <p:cNvSpPr/>
            <p:nvPr/>
          </p:nvSpPr>
          <p:spPr>
            <a:xfrm>
              <a:off x="6211080" y="2751120"/>
              <a:ext cx="167400" cy="28944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167641" h="289561">
                  <a:moveTo>
                    <a:pt x="167640" y="0"/>
                  </a:moveTo>
                  <a:lnTo>
                    <a:pt x="157034" y="10606"/>
                  </a:lnTo>
                  <a:lnTo>
                    <a:pt x="152202" y="17696"/>
                  </a:lnTo>
                  <a:lnTo>
                    <a:pt x="149727" y="21957"/>
                  </a:lnTo>
                  <a:lnTo>
                    <a:pt x="147232" y="27338"/>
                  </a:lnTo>
                  <a:lnTo>
                    <a:pt x="144722" y="33466"/>
                  </a:lnTo>
                  <a:lnTo>
                    <a:pt x="142201" y="40090"/>
                  </a:lnTo>
                  <a:lnTo>
                    <a:pt x="138828" y="46200"/>
                  </a:lnTo>
                  <a:lnTo>
                    <a:pt x="134885" y="51967"/>
                  </a:lnTo>
                  <a:lnTo>
                    <a:pt x="130563" y="57505"/>
                  </a:lnTo>
                  <a:lnTo>
                    <a:pt x="125988" y="63736"/>
                  </a:lnTo>
                  <a:lnTo>
                    <a:pt x="104222" y="94247"/>
                  </a:lnTo>
                  <a:lnTo>
                    <a:pt x="69103" y="141763"/>
                  </a:lnTo>
                  <a:lnTo>
                    <a:pt x="57242" y="158679"/>
                  </a:lnTo>
                  <a:lnTo>
                    <a:pt x="41044" y="182483"/>
                  </a:lnTo>
                  <a:lnTo>
                    <a:pt x="35829" y="191082"/>
                  </a:lnTo>
                  <a:lnTo>
                    <a:pt x="30659" y="200201"/>
                  </a:lnTo>
                  <a:lnTo>
                    <a:pt x="17551" y="224701"/>
                  </a:lnTo>
                  <a:lnTo>
                    <a:pt x="5537" y="248150"/>
                  </a:lnTo>
                  <a:lnTo>
                    <a:pt x="3691" y="253487"/>
                  </a:lnTo>
                  <a:lnTo>
                    <a:pt x="2461" y="258738"/>
                  </a:lnTo>
                  <a:lnTo>
                    <a:pt x="1641" y="263932"/>
                  </a:lnTo>
                  <a:lnTo>
                    <a:pt x="730" y="271961"/>
                  </a:lnTo>
                  <a:lnTo>
                    <a:pt x="324" y="278351"/>
                  </a:lnTo>
                  <a:lnTo>
                    <a:pt x="0" y="2895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MARTInkAnnotation65"/>
            <p:cNvSpPr/>
            <p:nvPr/>
          </p:nvSpPr>
          <p:spPr>
            <a:xfrm>
              <a:off x="6409800" y="2774160"/>
              <a:ext cx="217080" cy="22032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217432" h="220467">
                  <a:moveTo>
                    <a:pt x="182235" y="0"/>
                  </a:moveTo>
                  <a:lnTo>
                    <a:pt x="161808" y="0"/>
                  </a:lnTo>
                  <a:lnTo>
                    <a:pt x="155940" y="2258"/>
                  </a:lnTo>
                  <a:lnTo>
                    <a:pt x="152005" y="4045"/>
                  </a:lnTo>
                  <a:lnTo>
                    <a:pt x="147688" y="6930"/>
                  </a:lnTo>
                  <a:lnTo>
                    <a:pt x="143117" y="10547"/>
                  </a:lnTo>
                  <a:lnTo>
                    <a:pt x="138376" y="14651"/>
                  </a:lnTo>
                  <a:lnTo>
                    <a:pt x="131829" y="19081"/>
                  </a:lnTo>
                  <a:lnTo>
                    <a:pt x="124078" y="23727"/>
                  </a:lnTo>
                  <a:lnTo>
                    <a:pt x="115524" y="28518"/>
                  </a:lnTo>
                  <a:lnTo>
                    <a:pt x="107281" y="34252"/>
                  </a:lnTo>
                  <a:lnTo>
                    <a:pt x="99245" y="40615"/>
                  </a:lnTo>
                  <a:lnTo>
                    <a:pt x="91348" y="47396"/>
                  </a:lnTo>
                  <a:lnTo>
                    <a:pt x="83544" y="54457"/>
                  </a:lnTo>
                  <a:lnTo>
                    <a:pt x="68099" y="69077"/>
                  </a:lnTo>
                  <a:lnTo>
                    <a:pt x="59578" y="76531"/>
                  </a:lnTo>
                  <a:lnTo>
                    <a:pt x="50510" y="84041"/>
                  </a:lnTo>
                  <a:lnTo>
                    <a:pt x="41078" y="91587"/>
                  </a:lnTo>
                  <a:lnTo>
                    <a:pt x="33097" y="99158"/>
                  </a:lnTo>
                  <a:lnTo>
                    <a:pt x="26083" y="106745"/>
                  </a:lnTo>
                  <a:lnTo>
                    <a:pt x="19714" y="114344"/>
                  </a:lnTo>
                  <a:lnTo>
                    <a:pt x="14621" y="121949"/>
                  </a:lnTo>
                  <a:lnTo>
                    <a:pt x="10379" y="129559"/>
                  </a:lnTo>
                  <a:lnTo>
                    <a:pt x="6704" y="137173"/>
                  </a:lnTo>
                  <a:lnTo>
                    <a:pt x="4255" y="143942"/>
                  </a:lnTo>
                  <a:lnTo>
                    <a:pt x="2622" y="150148"/>
                  </a:lnTo>
                  <a:lnTo>
                    <a:pt x="1533" y="155979"/>
                  </a:lnTo>
                  <a:lnTo>
                    <a:pt x="807" y="161559"/>
                  </a:lnTo>
                  <a:lnTo>
                    <a:pt x="323" y="166973"/>
                  </a:lnTo>
                  <a:lnTo>
                    <a:pt x="0" y="172275"/>
                  </a:lnTo>
                  <a:lnTo>
                    <a:pt x="1479" y="178350"/>
                  </a:lnTo>
                  <a:lnTo>
                    <a:pt x="4157" y="184940"/>
                  </a:lnTo>
                  <a:lnTo>
                    <a:pt x="7637" y="191873"/>
                  </a:lnTo>
                  <a:lnTo>
                    <a:pt x="11649" y="197342"/>
                  </a:lnTo>
                  <a:lnTo>
                    <a:pt x="16018" y="201835"/>
                  </a:lnTo>
                  <a:lnTo>
                    <a:pt x="20623" y="205677"/>
                  </a:lnTo>
                  <a:lnTo>
                    <a:pt x="27081" y="209084"/>
                  </a:lnTo>
                  <a:lnTo>
                    <a:pt x="34772" y="212203"/>
                  </a:lnTo>
                  <a:lnTo>
                    <a:pt x="43286" y="215128"/>
                  </a:lnTo>
                  <a:lnTo>
                    <a:pt x="52349" y="217079"/>
                  </a:lnTo>
                  <a:lnTo>
                    <a:pt x="61778" y="218379"/>
                  </a:lnTo>
                  <a:lnTo>
                    <a:pt x="71450" y="219246"/>
                  </a:lnTo>
                  <a:lnTo>
                    <a:pt x="80438" y="219824"/>
                  </a:lnTo>
                  <a:lnTo>
                    <a:pt x="97198" y="220466"/>
                  </a:lnTo>
                  <a:lnTo>
                    <a:pt x="106071" y="219791"/>
                  </a:lnTo>
                  <a:lnTo>
                    <a:pt x="115372" y="218494"/>
                  </a:lnTo>
                  <a:lnTo>
                    <a:pt x="124959" y="216782"/>
                  </a:lnTo>
                  <a:lnTo>
                    <a:pt x="134739" y="213102"/>
                  </a:lnTo>
                  <a:lnTo>
                    <a:pt x="144643" y="208108"/>
                  </a:lnTo>
                  <a:lnTo>
                    <a:pt x="154634" y="202239"/>
                  </a:lnTo>
                  <a:lnTo>
                    <a:pt x="162988" y="195786"/>
                  </a:lnTo>
                  <a:lnTo>
                    <a:pt x="170250" y="188944"/>
                  </a:lnTo>
                  <a:lnTo>
                    <a:pt x="176785" y="181842"/>
                  </a:lnTo>
                  <a:lnTo>
                    <a:pt x="182835" y="173722"/>
                  </a:lnTo>
                  <a:lnTo>
                    <a:pt x="188563" y="164921"/>
                  </a:lnTo>
                  <a:lnTo>
                    <a:pt x="194073" y="155668"/>
                  </a:lnTo>
                  <a:lnTo>
                    <a:pt x="204712" y="138612"/>
                  </a:lnTo>
                  <a:lnTo>
                    <a:pt x="209920" y="130508"/>
                  </a:lnTo>
                  <a:lnTo>
                    <a:pt x="213392" y="121718"/>
                  </a:lnTo>
                  <a:lnTo>
                    <a:pt x="215706" y="112473"/>
                  </a:lnTo>
                  <a:lnTo>
                    <a:pt x="217249" y="102922"/>
                  </a:lnTo>
                  <a:lnTo>
                    <a:pt x="217431" y="94015"/>
                  </a:lnTo>
                  <a:lnTo>
                    <a:pt x="216706" y="85536"/>
                  </a:lnTo>
                  <a:lnTo>
                    <a:pt x="215376" y="77344"/>
                  </a:lnTo>
                  <a:lnTo>
                    <a:pt x="213642" y="69343"/>
                  </a:lnTo>
                  <a:lnTo>
                    <a:pt x="211639" y="61469"/>
                  </a:lnTo>
                  <a:lnTo>
                    <a:pt x="209458" y="53679"/>
                  </a:lnTo>
                  <a:lnTo>
                    <a:pt x="205464" y="46793"/>
                  </a:lnTo>
                  <a:lnTo>
                    <a:pt x="200261" y="40508"/>
                  </a:lnTo>
                  <a:lnTo>
                    <a:pt x="194252" y="34626"/>
                  </a:lnTo>
                  <a:lnTo>
                    <a:pt x="190246" y="29857"/>
                  </a:lnTo>
                  <a:lnTo>
                    <a:pt x="187577" y="25831"/>
                  </a:lnTo>
                  <a:lnTo>
                    <a:pt x="185796" y="22301"/>
                  </a:lnTo>
                  <a:lnTo>
                    <a:pt x="182069" y="19101"/>
                  </a:lnTo>
                  <a:lnTo>
                    <a:pt x="177044" y="16120"/>
                  </a:lnTo>
                  <a:lnTo>
                    <a:pt x="159375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MARTInkAnnotation66"/>
            <p:cNvSpPr/>
            <p:nvPr/>
          </p:nvSpPr>
          <p:spPr>
            <a:xfrm>
              <a:off x="6771960" y="2789280"/>
              <a:ext cx="254160" cy="1890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254307" h="188949">
                  <a:moveTo>
                    <a:pt x="40945" y="53336"/>
                  </a:moveTo>
                  <a:lnTo>
                    <a:pt x="34384" y="46775"/>
                  </a:lnTo>
                  <a:lnTo>
                    <a:pt x="33796" y="43929"/>
                  </a:lnTo>
                  <a:lnTo>
                    <a:pt x="33418" y="39248"/>
                  </a:lnTo>
                  <a:lnTo>
                    <a:pt x="35625" y="36350"/>
                  </a:lnTo>
                  <a:lnTo>
                    <a:pt x="37397" y="34392"/>
                  </a:lnTo>
                  <a:lnTo>
                    <a:pt x="43885" y="29959"/>
                  </a:lnTo>
                  <a:lnTo>
                    <a:pt x="51565" y="25166"/>
                  </a:lnTo>
                  <a:lnTo>
                    <a:pt x="57801" y="20214"/>
                  </a:lnTo>
                  <a:lnTo>
                    <a:pt x="62342" y="17708"/>
                  </a:lnTo>
                  <a:lnTo>
                    <a:pt x="67910" y="15191"/>
                  </a:lnTo>
                  <a:lnTo>
                    <a:pt x="74162" y="12666"/>
                  </a:lnTo>
                  <a:lnTo>
                    <a:pt x="87882" y="7602"/>
                  </a:lnTo>
                  <a:lnTo>
                    <a:pt x="95096" y="5067"/>
                  </a:lnTo>
                  <a:lnTo>
                    <a:pt x="102445" y="3377"/>
                  </a:lnTo>
                  <a:lnTo>
                    <a:pt x="109886" y="2250"/>
                  </a:lnTo>
                  <a:lnTo>
                    <a:pt x="117386" y="1499"/>
                  </a:lnTo>
                  <a:lnTo>
                    <a:pt x="124925" y="998"/>
                  </a:lnTo>
                  <a:lnTo>
                    <a:pt x="132492" y="664"/>
                  </a:lnTo>
                  <a:lnTo>
                    <a:pt x="148519" y="293"/>
                  </a:lnTo>
                  <a:lnTo>
                    <a:pt x="224322" y="0"/>
                  </a:lnTo>
                  <a:lnTo>
                    <a:pt x="226697" y="845"/>
                  </a:lnTo>
                  <a:lnTo>
                    <a:pt x="228280" y="2256"/>
                  </a:lnTo>
                  <a:lnTo>
                    <a:pt x="229335" y="4043"/>
                  </a:lnTo>
                  <a:lnTo>
                    <a:pt x="229192" y="6080"/>
                  </a:lnTo>
                  <a:lnTo>
                    <a:pt x="228250" y="8285"/>
                  </a:lnTo>
                  <a:lnTo>
                    <a:pt x="224946" y="12994"/>
                  </a:lnTo>
                  <a:lnTo>
                    <a:pt x="220655" y="17908"/>
                  </a:lnTo>
                  <a:lnTo>
                    <a:pt x="215786" y="21251"/>
                  </a:lnTo>
                  <a:lnTo>
                    <a:pt x="209152" y="25173"/>
                  </a:lnTo>
                  <a:lnTo>
                    <a:pt x="201343" y="29481"/>
                  </a:lnTo>
                  <a:lnTo>
                    <a:pt x="183636" y="38782"/>
                  </a:lnTo>
                  <a:lnTo>
                    <a:pt x="174172" y="43634"/>
                  </a:lnTo>
                  <a:lnTo>
                    <a:pt x="163631" y="49408"/>
                  </a:lnTo>
                  <a:lnTo>
                    <a:pt x="140627" y="62597"/>
                  </a:lnTo>
                  <a:lnTo>
                    <a:pt x="128567" y="68823"/>
                  </a:lnTo>
                  <a:lnTo>
                    <a:pt x="116293" y="74667"/>
                  </a:lnTo>
                  <a:lnTo>
                    <a:pt x="103877" y="80257"/>
                  </a:lnTo>
                  <a:lnTo>
                    <a:pt x="91366" y="86523"/>
                  </a:lnTo>
                  <a:lnTo>
                    <a:pt x="78793" y="93241"/>
                  </a:lnTo>
                  <a:lnTo>
                    <a:pt x="66177" y="100260"/>
                  </a:lnTo>
                  <a:lnTo>
                    <a:pt x="55227" y="107478"/>
                  </a:lnTo>
                  <a:lnTo>
                    <a:pt x="45386" y="114831"/>
                  </a:lnTo>
                  <a:lnTo>
                    <a:pt x="36286" y="122273"/>
                  </a:lnTo>
                  <a:lnTo>
                    <a:pt x="27679" y="128927"/>
                  </a:lnTo>
                  <a:lnTo>
                    <a:pt x="19400" y="135057"/>
                  </a:lnTo>
                  <a:lnTo>
                    <a:pt x="11342" y="140837"/>
                  </a:lnTo>
                  <a:lnTo>
                    <a:pt x="5970" y="146383"/>
                  </a:lnTo>
                  <a:lnTo>
                    <a:pt x="2388" y="151774"/>
                  </a:lnTo>
                  <a:lnTo>
                    <a:pt x="0" y="157061"/>
                  </a:lnTo>
                  <a:lnTo>
                    <a:pt x="102" y="161433"/>
                  </a:lnTo>
                  <a:lnTo>
                    <a:pt x="1863" y="165194"/>
                  </a:lnTo>
                  <a:lnTo>
                    <a:pt x="4730" y="168548"/>
                  </a:lnTo>
                  <a:lnTo>
                    <a:pt x="7488" y="171631"/>
                  </a:lnTo>
                  <a:lnTo>
                    <a:pt x="12811" y="177314"/>
                  </a:lnTo>
                  <a:lnTo>
                    <a:pt x="17956" y="180015"/>
                  </a:lnTo>
                  <a:lnTo>
                    <a:pt x="24773" y="182661"/>
                  </a:lnTo>
                  <a:lnTo>
                    <a:pt x="32703" y="185273"/>
                  </a:lnTo>
                  <a:lnTo>
                    <a:pt x="41377" y="187014"/>
                  </a:lnTo>
                  <a:lnTo>
                    <a:pt x="50546" y="188175"/>
                  </a:lnTo>
                  <a:lnTo>
                    <a:pt x="60046" y="188948"/>
                  </a:lnTo>
                  <a:lnTo>
                    <a:pt x="71460" y="188618"/>
                  </a:lnTo>
                  <a:lnTo>
                    <a:pt x="84148" y="187551"/>
                  </a:lnTo>
                  <a:lnTo>
                    <a:pt x="97687" y="185992"/>
                  </a:lnTo>
                  <a:lnTo>
                    <a:pt x="110946" y="184107"/>
                  </a:lnTo>
                  <a:lnTo>
                    <a:pt x="179463" y="172544"/>
                  </a:lnTo>
                  <a:lnTo>
                    <a:pt x="191711" y="170061"/>
                  </a:lnTo>
                  <a:lnTo>
                    <a:pt x="202416" y="167559"/>
                  </a:lnTo>
                  <a:lnTo>
                    <a:pt x="212093" y="165045"/>
                  </a:lnTo>
                  <a:lnTo>
                    <a:pt x="221084" y="162522"/>
                  </a:lnTo>
                  <a:lnTo>
                    <a:pt x="254306" y="1523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MARTInkAnnotation67"/>
            <p:cNvSpPr/>
            <p:nvPr/>
          </p:nvSpPr>
          <p:spPr>
            <a:xfrm>
              <a:off x="7148160" y="2766600"/>
              <a:ext cx="235440" cy="27396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235666" h="274138">
                  <a:moveTo>
                    <a:pt x="38061" y="0"/>
                  </a:moveTo>
                  <a:lnTo>
                    <a:pt x="38061" y="18133"/>
                  </a:lnTo>
                  <a:lnTo>
                    <a:pt x="40320" y="25275"/>
                  </a:lnTo>
                  <a:lnTo>
                    <a:pt x="42106" y="29550"/>
                  </a:lnTo>
                  <a:lnTo>
                    <a:pt x="43298" y="34093"/>
                  </a:lnTo>
                  <a:lnTo>
                    <a:pt x="44092" y="38815"/>
                  </a:lnTo>
                  <a:lnTo>
                    <a:pt x="44622" y="43657"/>
                  </a:lnTo>
                  <a:lnTo>
                    <a:pt x="44975" y="48578"/>
                  </a:lnTo>
                  <a:lnTo>
                    <a:pt x="45211" y="53552"/>
                  </a:lnTo>
                  <a:lnTo>
                    <a:pt x="45367" y="58561"/>
                  </a:lnTo>
                  <a:lnTo>
                    <a:pt x="44626" y="62748"/>
                  </a:lnTo>
                  <a:lnTo>
                    <a:pt x="41543" y="69657"/>
                  </a:lnTo>
                  <a:lnTo>
                    <a:pt x="39535" y="74378"/>
                  </a:lnTo>
                  <a:lnTo>
                    <a:pt x="37351" y="80065"/>
                  </a:lnTo>
                  <a:lnTo>
                    <a:pt x="35047" y="86397"/>
                  </a:lnTo>
                  <a:lnTo>
                    <a:pt x="32665" y="92311"/>
                  </a:lnTo>
                  <a:lnTo>
                    <a:pt x="30230" y="97948"/>
                  </a:lnTo>
                  <a:lnTo>
                    <a:pt x="25268" y="108725"/>
                  </a:lnTo>
                  <a:lnTo>
                    <a:pt x="20239" y="119160"/>
                  </a:lnTo>
                  <a:lnTo>
                    <a:pt x="15182" y="127185"/>
                  </a:lnTo>
                  <a:lnTo>
                    <a:pt x="10113" y="133573"/>
                  </a:lnTo>
                  <a:lnTo>
                    <a:pt x="5037" y="139235"/>
                  </a:lnTo>
                  <a:lnTo>
                    <a:pt x="3345" y="141930"/>
                  </a:lnTo>
                  <a:lnTo>
                    <a:pt x="630" y="150081"/>
                  </a:lnTo>
                  <a:lnTo>
                    <a:pt x="0" y="152264"/>
                  </a:lnTo>
                  <a:lnTo>
                    <a:pt x="6899" y="145443"/>
                  </a:lnTo>
                  <a:lnTo>
                    <a:pt x="43313" y="109048"/>
                  </a:lnTo>
                  <a:lnTo>
                    <a:pt x="50029" y="104025"/>
                  </a:lnTo>
                  <a:lnTo>
                    <a:pt x="57892" y="98984"/>
                  </a:lnTo>
                  <a:lnTo>
                    <a:pt x="66522" y="93929"/>
                  </a:lnTo>
                  <a:lnTo>
                    <a:pt x="80626" y="86055"/>
                  </a:lnTo>
                  <a:lnTo>
                    <a:pt x="86758" y="82770"/>
                  </a:lnTo>
                  <a:lnTo>
                    <a:pt x="93385" y="79734"/>
                  </a:lnTo>
                  <a:lnTo>
                    <a:pt x="100344" y="76862"/>
                  </a:lnTo>
                  <a:lnTo>
                    <a:pt x="107523" y="74102"/>
                  </a:lnTo>
                  <a:lnTo>
                    <a:pt x="114003" y="72261"/>
                  </a:lnTo>
                  <a:lnTo>
                    <a:pt x="120016" y="71034"/>
                  </a:lnTo>
                  <a:lnTo>
                    <a:pt x="125718" y="70216"/>
                  </a:lnTo>
                  <a:lnTo>
                    <a:pt x="132058" y="70517"/>
                  </a:lnTo>
                  <a:lnTo>
                    <a:pt x="138826" y="71565"/>
                  </a:lnTo>
                  <a:lnTo>
                    <a:pt x="145878" y="73110"/>
                  </a:lnTo>
                  <a:lnTo>
                    <a:pt x="153119" y="75833"/>
                  </a:lnTo>
                  <a:lnTo>
                    <a:pt x="160486" y="79342"/>
                  </a:lnTo>
                  <a:lnTo>
                    <a:pt x="167938" y="83375"/>
                  </a:lnTo>
                  <a:lnTo>
                    <a:pt x="174599" y="87757"/>
                  </a:lnTo>
                  <a:lnTo>
                    <a:pt x="180733" y="92371"/>
                  </a:lnTo>
                  <a:lnTo>
                    <a:pt x="186515" y="97141"/>
                  </a:lnTo>
                  <a:lnTo>
                    <a:pt x="192910" y="102014"/>
                  </a:lnTo>
                  <a:lnTo>
                    <a:pt x="206789" y="111944"/>
                  </a:lnTo>
                  <a:lnTo>
                    <a:pt x="212354" y="116963"/>
                  </a:lnTo>
                  <a:lnTo>
                    <a:pt x="216910" y="122002"/>
                  </a:lnTo>
                  <a:lnTo>
                    <a:pt x="220793" y="127054"/>
                  </a:lnTo>
                  <a:lnTo>
                    <a:pt x="224229" y="132963"/>
                  </a:lnTo>
                  <a:lnTo>
                    <a:pt x="227367" y="139442"/>
                  </a:lnTo>
                  <a:lnTo>
                    <a:pt x="230304" y="146302"/>
                  </a:lnTo>
                  <a:lnTo>
                    <a:pt x="232263" y="153414"/>
                  </a:lnTo>
                  <a:lnTo>
                    <a:pt x="233569" y="160696"/>
                  </a:lnTo>
                  <a:lnTo>
                    <a:pt x="234440" y="168091"/>
                  </a:lnTo>
                  <a:lnTo>
                    <a:pt x="235020" y="175561"/>
                  </a:lnTo>
                  <a:lnTo>
                    <a:pt x="235407" y="183080"/>
                  </a:lnTo>
                  <a:lnTo>
                    <a:pt x="235665" y="190633"/>
                  </a:lnTo>
                  <a:lnTo>
                    <a:pt x="234991" y="198209"/>
                  </a:lnTo>
                  <a:lnTo>
                    <a:pt x="233694" y="205799"/>
                  </a:lnTo>
                  <a:lnTo>
                    <a:pt x="231983" y="213399"/>
                  </a:lnTo>
                  <a:lnTo>
                    <a:pt x="229996" y="221006"/>
                  </a:lnTo>
                  <a:lnTo>
                    <a:pt x="227824" y="228618"/>
                  </a:lnTo>
                  <a:lnTo>
                    <a:pt x="225530" y="236232"/>
                  </a:lnTo>
                  <a:lnTo>
                    <a:pt x="221461" y="243001"/>
                  </a:lnTo>
                  <a:lnTo>
                    <a:pt x="216207" y="249208"/>
                  </a:lnTo>
                  <a:lnTo>
                    <a:pt x="197616" y="267290"/>
                  </a:lnTo>
                  <a:lnTo>
                    <a:pt x="193538" y="269633"/>
                  </a:lnTo>
                  <a:lnTo>
                    <a:pt x="189125" y="271196"/>
                  </a:lnTo>
                  <a:lnTo>
                    <a:pt x="184491" y="272237"/>
                  </a:lnTo>
                  <a:lnTo>
                    <a:pt x="178861" y="272931"/>
                  </a:lnTo>
                  <a:lnTo>
                    <a:pt x="172568" y="273394"/>
                  </a:lnTo>
                  <a:lnTo>
                    <a:pt x="160495" y="273909"/>
                  </a:lnTo>
                  <a:lnTo>
                    <a:pt x="152308" y="274137"/>
                  </a:lnTo>
                  <a:lnTo>
                    <a:pt x="148939" y="273352"/>
                  </a:lnTo>
                  <a:lnTo>
                    <a:pt x="142938" y="270221"/>
                  </a:lnTo>
                  <a:lnTo>
                    <a:pt x="137449" y="266007"/>
                  </a:lnTo>
                  <a:lnTo>
                    <a:pt x="129501" y="2590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MARTInkAnnotation68"/>
            <p:cNvSpPr/>
            <p:nvPr/>
          </p:nvSpPr>
          <p:spPr>
            <a:xfrm>
              <a:off x="7247160" y="2759040"/>
              <a:ext cx="274320" cy="3024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74321" h="30380">
                  <a:moveTo>
                    <a:pt x="0" y="30379"/>
                  </a:moveTo>
                  <a:lnTo>
                    <a:pt x="0" y="23073"/>
                  </a:lnTo>
                  <a:lnTo>
                    <a:pt x="4045" y="22852"/>
                  </a:lnTo>
                  <a:lnTo>
                    <a:pt x="7777" y="21974"/>
                  </a:lnTo>
                  <a:lnTo>
                    <a:pt x="12804" y="20542"/>
                  </a:lnTo>
                  <a:lnTo>
                    <a:pt x="18696" y="18741"/>
                  </a:lnTo>
                  <a:lnTo>
                    <a:pt x="24317" y="17541"/>
                  </a:lnTo>
                  <a:lnTo>
                    <a:pt x="29758" y="16740"/>
                  </a:lnTo>
                  <a:lnTo>
                    <a:pt x="35079" y="16206"/>
                  </a:lnTo>
                  <a:lnTo>
                    <a:pt x="41165" y="15851"/>
                  </a:lnTo>
                  <a:lnTo>
                    <a:pt x="54703" y="15455"/>
                  </a:lnTo>
                  <a:lnTo>
                    <a:pt x="62714" y="14503"/>
                  </a:lnTo>
                  <a:lnTo>
                    <a:pt x="71443" y="13022"/>
                  </a:lnTo>
                  <a:lnTo>
                    <a:pt x="80648" y="11187"/>
                  </a:lnTo>
                  <a:lnTo>
                    <a:pt x="89325" y="9964"/>
                  </a:lnTo>
                  <a:lnTo>
                    <a:pt x="97650" y="9150"/>
                  </a:lnTo>
                  <a:lnTo>
                    <a:pt x="105740" y="8606"/>
                  </a:lnTo>
                  <a:lnTo>
                    <a:pt x="114521" y="7397"/>
                  </a:lnTo>
                  <a:lnTo>
                    <a:pt x="123760" y="5745"/>
                  </a:lnTo>
                  <a:lnTo>
                    <a:pt x="133306" y="3796"/>
                  </a:lnTo>
                  <a:lnTo>
                    <a:pt x="143905" y="2497"/>
                  </a:lnTo>
                  <a:lnTo>
                    <a:pt x="155202" y="1631"/>
                  </a:lnTo>
                  <a:lnTo>
                    <a:pt x="166969" y="1053"/>
                  </a:lnTo>
                  <a:lnTo>
                    <a:pt x="189073" y="412"/>
                  </a:lnTo>
                  <a:lnTo>
                    <a:pt x="234903" y="0"/>
                  </a:lnTo>
                  <a:lnTo>
                    <a:pt x="244656" y="813"/>
                  </a:lnTo>
                  <a:lnTo>
                    <a:pt x="252849" y="2202"/>
                  </a:lnTo>
                  <a:lnTo>
                    <a:pt x="274320" y="75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152280" y="3733920"/>
            <a:ext cx="8839440" cy="2288520"/>
          </a:xfrm>
          <a:prstGeom prst="rect">
            <a:avLst/>
          </a:prstGeom>
          <a:noFill/>
          <a:ln w="381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ver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perty of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+ (-a) = 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Ex 7) 5 + (-5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vers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Property of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 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2"/>
              <p:cNvSpPr txBox="1"/>
              <p:nvPr/>
            </p:nvSpPr>
            <p:spPr>
              <a:xfrm>
                <a:off x="1143000" y="4888080"/>
                <a:ext cx="156204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3"/>
              <p:cNvSpPr txBox="1"/>
              <p:nvPr/>
            </p:nvSpPr>
            <p:spPr>
              <a:xfrm>
                <a:off x="5943600" y="4935600"/>
                <a:ext cx="149868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Text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d9d9d9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Properties Summary: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 are number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152280" y="8380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 +(-5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0 + (-3000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TextBox 6" descr=""/>
          <p:cNvPicPr/>
          <p:nvPr/>
        </p:nvPicPr>
        <p:blipFill>
          <a:blip r:embed="rId1"/>
          <a:stretch/>
        </p:blipFill>
        <p:spPr>
          <a:xfrm>
            <a:off x="5029200" y="841320"/>
            <a:ext cx="2133720" cy="153684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12"/>
          <p:cNvGrpSpPr/>
          <p:nvPr/>
        </p:nvGrpSpPr>
        <p:grpSpPr>
          <a:xfrm>
            <a:off x="1936800" y="944640"/>
            <a:ext cx="4684680" cy="1218960"/>
            <a:chOff x="1936800" y="944640"/>
            <a:chExt cx="4684680" cy="1218960"/>
          </a:xfrm>
        </p:grpSpPr>
        <p:sp>
          <p:nvSpPr>
            <p:cNvPr id="169" name="SMARTInkAnnotation48"/>
            <p:cNvSpPr/>
            <p:nvPr/>
          </p:nvSpPr>
          <p:spPr>
            <a:xfrm>
              <a:off x="1936800" y="967320"/>
              <a:ext cx="298440" cy="27864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298659" h="278878">
                  <a:moveTo>
                    <a:pt x="52058" y="7527"/>
                  </a:moveTo>
                  <a:lnTo>
                    <a:pt x="44531" y="0"/>
                  </a:lnTo>
                  <a:lnTo>
                    <a:pt x="40420" y="3980"/>
                  </a:lnTo>
                  <a:lnTo>
                    <a:pt x="39220" y="6856"/>
                  </a:lnTo>
                  <a:lnTo>
                    <a:pt x="37885" y="14566"/>
                  </a:lnTo>
                  <a:lnTo>
                    <a:pt x="36683" y="18993"/>
                  </a:lnTo>
                  <a:lnTo>
                    <a:pt x="35035" y="23638"/>
                  </a:lnTo>
                  <a:lnTo>
                    <a:pt x="33089" y="28428"/>
                  </a:lnTo>
                  <a:lnTo>
                    <a:pt x="30945" y="34161"/>
                  </a:lnTo>
                  <a:lnTo>
                    <a:pt x="26306" y="47304"/>
                  </a:lnTo>
                  <a:lnTo>
                    <a:pt x="23037" y="55212"/>
                  </a:lnTo>
                  <a:lnTo>
                    <a:pt x="19164" y="63870"/>
                  </a:lnTo>
                  <a:lnTo>
                    <a:pt x="14888" y="73029"/>
                  </a:lnTo>
                  <a:lnTo>
                    <a:pt x="12038" y="83369"/>
                  </a:lnTo>
                  <a:lnTo>
                    <a:pt x="10138" y="94495"/>
                  </a:lnTo>
                  <a:lnTo>
                    <a:pt x="8871" y="106146"/>
                  </a:lnTo>
                  <a:lnTo>
                    <a:pt x="7180" y="118146"/>
                  </a:lnTo>
                  <a:lnTo>
                    <a:pt x="3044" y="142769"/>
                  </a:lnTo>
                  <a:lnTo>
                    <a:pt x="1602" y="154415"/>
                  </a:lnTo>
                  <a:lnTo>
                    <a:pt x="640" y="165566"/>
                  </a:lnTo>
                  <a:lnTo>
                    <a:pt x="0" y="176386"/>
                  </a:lnTo>
                  <a:lnTo>
                    <a:pt x="419" y="186987"/>
                  </a:lnTo>
                  <a:lnTo>
                    <a:pt x="1545" y="197440"/>
                  </a:lnTo>
                  <a:lnTo>
                    <a:pt x="3143" y="207796"/>
                  </a:lnTo>
                  <a:lnTo>
                    <a:pt x="5901" y="217240"/>
                  </a:lnTo>
                  <a:lnTo>
                    <a:pt x="9434" y="226075"/>
                  </a:lnTo>
                  <a:lnTo>
                    <a:pt x="13482" y="234506"/>
                  </a:lnTo>
                  <a:lnTo>
                    <a:pt x="18721" y="241820"/>
                  </a:lnTo>
                  <a:lnTo>
                    <a:pt x="24753" y="248389"/>
                  </a:lnTo>
                  <a:lnTo>
                    <a:pt x="31315" y="254462"/>
                  </a:lnTo>
                  <a:lnTo>
                    <a:pt x="39076" y="260203"/>
                  </a:lnTo>
                  <a:lnTo>
                    <a:pt x="47636" y="265725"/>
                  </a:lnTo>
                  <a:lnTo>
                    <a:pt x="56730" y="271099"/>
                  </a:lnTo>
                  <a:lnTo>
                    <a:pt x="66180" y="274682"/>
                  </a:lnTo>
                  <a:lnTo>
                    <a:pt x="75866" y="277070"/>
                  </a:lnTo>
                  <a:lnTo>
                    <a:pt x="85710" y="278662"/>
                  </a:lnTo>
                  <a:lnTo>
                    <a:pt x="96506" y="278877"/>
                  </a:lnTo>
                  <a:lnTo>
                    <a:pt x="107936" y="278174"/>
                  </a:lnTo>
                  <a:lnTo>
                    <a:pt x="119790" y="276858"/>
                  </a:lnTo>
                  <a:lnTo>
                    <a:pt x="131080" y="275135"/>
                  </a:lnTo>
                  <a:lnTo>
                    <a:pt x="141992" y="273139"/>
                  </a:lnTo>
                  <a:lnTo>
                    <a:pt x="152654" y="270962"/>
                  </a:lnTo>
                  <a:lnTo>
                    <a:pt x="163996" y="266970"/>
                  </a:lnTo>
                  <a:lnTo>
                    <a:pt x="175789" y="261769"/>
                  </a:lnTo>
                  <a:lnTo>
                    <a:pt x="187886" y="255762"/>
                  </a:lnTo>
                  <a:lnTo>
                    <a:pt x="199337" y="249217"/>
                  </a:lnTo>
                  <a:lnTo>
                    <a:pt x="210357" y="242314"/>
                  </a:lnTo>
                  <a:lnTo>
                    <a:pt x="221091" y="235171"/>
                  </a:lnTo>
                  <a:lnTo>
                    <a:pt x="230787" y="226177"/>
                  </a:lnTo>
                  <a:lnTo>
                    <a:pt x="239790" y="215947"/>
                  </a:lnTo>
                  <a:lnTo>
                    <a:pt x="272491" y="173156"/>
                  </a:lnTo>
                  <a:lnTo>
                    <a:pt x="278600" y="161973"/>
                  </a:lnTo>
                  <a:lnTo>
                    <a:pt x="283520" y="150285"/>
                  </a:lnTo>
                  <a:lnTo>
                    <a:pt x="287646" y="138259"/>
                  </a:lnTo>
                  <a:lnTo>
                    <a:pt x="291243" y="126855"/>
                  </a:lnTo>
                  <a:lnTo>
                    <a:pt x="297498" y="105153"/>
                  </a:lnTo>
                  <a:lnTo>
                    <a:pt x="298658" y="95471"/>
                  </a:lnTo>
                  <a:lnTo>
                    <a:pt x="298585" y="86476"/>
                  </a:lnTo>
                  <a:lnTo>
                    <a:pt x="297689" y="77940"/>
                  </a:lnTo>
                  <a:lnTo>
                    <a:pt x="296245" y="69709"/>
                  </a:lnTo>
                  <a:lnTo>
                    <a:pt x="294437" y="61682"/>
                  </a:lnTo>
                  <a:lnTo>
                    <a:pt x="292384" y="53790"/>
                  </a:lnTo>
                  <a:lnTo>
                    <a:pt x="288475" y="46836"/>
                  </a:lnTo>
                  <a:lnTo>
                    <a:pt x="283329" y="40506"/>
                  </a:lnTo>
                  <a:lnTo>
                    <a:pt x="277359" y="34593"/>
                  </a:lnTo>
                  <a:lnTo>
                    <a:pt x="270839" y="28958"/>
                  </a:lnTo>
                  <a:lnTo>
                    <a:pt x="263952" y="23508"/>
                  </a:lnTo>
                  <a:lnTo>
                    <a:pt x="256821" y="18181"/>
                  </a:lnTo>
                  <a:lnTo>
                    <a:pt x="247833" y="13783"/>
                  </a:lnTo>
                  <a:lnTo>
                    <a:pt x="237608" y="10004"/>
                  </a:lnTo>
                  <a:lnTo>
                    <a:pt x="226558" y="6639"/>
                  </a:lnTo>
                  <a:lnTo>
                    <a:pt x="214958" y="4395"/>
                  </a:lnTo>
                  <a:lnTo>
                    <a:pt x="202992" y="2899"/>
                  </a:lnTo>
                  <a:lnTo>
                    <a:pt x="190780" y="1902"/>
                  </a:lnTo>
                  <a:lnTo>
                    <a:pt x="178406" y="2083"/>
                  </a:lnTo>
                  <a:lnTo>
                    <a:pt x="165924" y="3051"/>
                  </a:lnTo>
                  <a:lnTo>
                    <a:pt x="153368" y="4543"/>
                  </a:lnTo>
                  <a:lnTo>
                    <a:pt x="141612" y="6385"/>
                  </a:lnTo>
                  <a:lnTo>
                    <a:pt x="130387" y="8459"/>
                  </a:lnTo>
                  <a:lnTo>
                    <a:pt x="119518" y="10688"/>
                  </a:lnTo>
                  <a:lnTo>
                    <a:pt x="110578" y="13021"/>
                  </a:lnTo>
                  <a:lnTo>
                    <a:pt x="102925" y="15423"/>
                  </a:lnTo>
                  <a:lnTo>
                    <a:pt x="82538" y="2276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SMARTInkAnnotation49"/>
            <p:cNvSpPr/>
            <p:nvPr/>
          </p:nvSpPr>
          <p:spPr>
            <a:xfrm>
              <a:off x="2568240" y="1688400"/>
              <a:ext cx="303120" cy="3564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03271" h="356551">
                  <a:moveTo>
                    <a:pt x="83336" y="48757"/>
                  </a:moveTo>
                  <a:lnTo>
                    <a:pt x="79291" y="48757"/>
                  </a:lnTo>
                  <a:lnTo>
                    <a:pt x="77253" y="50451"/>
                  </a:lnTo>
                  <a:lnTo>
                    <a:pt x="70339" y="60924"/>
                  </a:lnTo>
                  <a:lnTo>
                    <a:pt x="65424" y="69969"/>
                  </a:lnTo>
                  <a:lnTo>
                    <a:pt x="62081" y="75598"/>
                  </a:lnTo>
                  <a:lnTo>
                    <a:pt x="53852" y="88627"/>
                  </a:lnTo>
                  <a:lnTo>
                    <a:pt x="39699" y="110241"/>
                  </a:lnTo>
                  <a:lnTo>
                    <a:pt x="34771" y="118533"/>
                  </a:lnTo>
                  <a:lnTo>
                    <a:pt x="29793" y="127448"/>
                  </a:lnTo>
                  <a:lnTo>
                    <a:pt x="24781" y="136778"/>
                  </a:lnTo>
                  <a:lnTo>
                    <a:pt x="20592" y="146384"/>
                  </a:lnTo>
                  <a:lnTo>
                    <a:pt x="16954" y="156175"/>
                  </a:lnTo>
                  <a:lnTo>
                    <a:pt x="13681" y="166089"/>
                  </a:lnTo>
                  <a:lnTo>
                    <a:pt x="10653" y="176932"/>
                  </a:lnTo>
                  <a:lnTo>
                    <a:pt x="7787" y="188393"/>
                  </a:lnTo>
                  <a:lnTo>
                    <a:pt x="5030" y="200268"/>
                  </a:lnTo>
                  <a:lnTo>
                    <a:pt x="3192" y="211571"/>
                  </a:lnTo>
                  <a:lnTo>
                    <a:pt x="1967" y="222493"/>
                  </a:lnTo>
                  <a:lnTo>
                    <a:pt x="1150" y="233161"/>
                  </a:lnTo>
                  <a:lnTo>
                    <a:pt x="605" y="243660"/>
                  </a:lnTo>
                  <a:lnTo>
                    <a:pt x="0" y="264356"/>
                  </a:lnTo>
                  <a:lnTo>
                    <a:pt x="1532" y="273770"/>
                  </a:lnTo>
                  <a:lnTo>
                    <a:pt x="4247" y="282586"/>
                  </a:lnTo>
                  <a:lnTo>
                    <a:pt x="7750" y="291003"/>
                  </a:lnTo>
                  <a:lnTo>
                    <a:pt x="11779" y="299154"/>
                  </a:lnTo>
                  <a:lnTo>
                    <a:pt x="16158" y="307128"/>
                  </a:lnTo>
                  <a:lnTo>
                    <a:pt x="20770" y="314985"/>
                  </a:lnTo>
                  <a:lnTo>
                    <a:pt x="26386" y="321916"/>
                  </a:lnTo>
                  <a:lnTo>
                    <a:pt x="32669" y="328229"/>
                  </a:lnTo>
                  <a:lnTo>
                    <a:pt x="39398" y="334132"/>
                  </a:lnTo>
                  <a:lnTo>
                    <a:pt x="46424" y="338914"/>
                  </a:lnTo>
                  <a:lnTo>
                    <a:pt x="53648" y="342948"/>
                  </a:lnTo>
                  <a:lnTo>
                    <a:pt x="61004" y="346484"/>
                  </a:lnTo>
                  <a:lnTo>
                    <a:pt x="69295" y="349689"/>
                  </a:lnTo>
                  <a:lnTo>
                    <a:pt x="78209" y="352671"/>
                  </a:lnTo>
                  <a:lnTo>
                    <a:pt x="87538" y="355507"/>
                  </a:lnTo>
                  <a:lnTo>
                    <a:pt x="97144" y="356550"/>
                  </a:lnTo>
                  <a:lnTo>
                    <a:pt x="106934" y="356399"/>
                  </a:lnTo>
                  <a:lnTo>
                    <a:pt x="116848" y="355452"/>
                  </a:lnTo>
                  <a:lnTo>
                    <a:pt x="126844" y="353127"/>
                  </a:lnTo>
                  <a:lnTo>
                    <a:pt x="136895" y="349884"/>
                  </a:lnTo>
                  <a:lnTo>
                    <a:pt x="181405" y="332511"/>
                  </a:lnTo>
                  <a:lnTo>
                    <a:pt x="193589" y="325980"/>
                  </a:lnTo>
                  <a:lnTo>
                    <a:pt x="205944" y="318239"/>
                  </a:lnTo>
                  <a:lnTo>
                    <a:pt x="218415" y="309692"/>
                  </a:lnTo>
                  <a:lnTo>
                    <a:pt x="229268" y="300607"/>
                  </a:lnTo>
                  <a:lnTo>
                    <a:pt x="239045" y="291164"/>
                  </a:lnTo>
                  <a:lnTo>
                    <a:pt x="248102" y="281481"/>
                  </a:lnTo>
                  <a:lnTo>
                    <a:pt x="256680" y="271640"/>
                  </a:lnTo>
                  <a:lnTo>
                    <a:pt x="264939" y="261692"/>
                  </a:lnTo>
                  <a:lnTo>
                    <a:pt x="272985" y="251674"/>
                  </a:lnTo>
                  <a:lnTo>
                    <a:pt x="280042" y="240762"/>
                  </a:lnTo>
                  <a:lnTo>
                    <a:pt x="286440" y="229253"/>
                  </a:lnTo>
                  <a:lnTo>
                    <a:pt x="292398" y="217348"/>
                  </a:lnTo>
                  <a:lnTo>
                    <a:pt x="296371" y="206024"/>
                  </a:lnTo>
                  <a:lnTo>
                    <a:pt x="299019" y="195089"/>
                  </a:lnTo>
                  <a:lnTo>
                    <a:pt x="300785" y="184412"/>
                  </a:lnTo>
                  <a:lnTo>
                    <a:pt x="301962" y="173907"/>
                  </a:lnTo>
                  <a:lnTo>
                    <a:pt x="302747" y="163517"/>
                  </a:lnTo>
                  <a:lnTo>
                    <a:pt x="303270" y="153204"/>
                  </a:lnTo>
                  <a:lnTo>
                    <a:pt x="302772" y="142941"/>
                  </a:lnTo>
                  <a:lnTo>
                    <a:pt x="301594" y="132713"/>
                  </a:lnTo>
                  <a:lnTo>
                    <a:pt x="299961" y="122508"/>
                  </a:lnTo>
                  <a:lnTo>
                    <a:pt x="296333" y="112318"/>
                  </a:lnTo>
                  <a:lnTo>
                    <a:pt x="291374" y="102138"/>
                  </a:lnTo>
                  <a:lnTo>
                    <a:pt x="285528" y="91964"/>
                  </a:lnTo>
                  <a:lnTo>
                    <a:pt x="274517" y="71629"/>
                  </a:lnTo>
                  <a:lnTo>
                    <a:pt x="269210" y="61465"/>
                  </a:lnTo>
                  <a:lnTo>
                    <a:pt x="262285" y="52996"/>
                  </a:lnTo>
                  <a:lnTo>
                    <a:pt x="254282" y="45656"/>
                  </a:lnTo>
                  <a:lnTo>
                    <a:pt x="245560" y="39070"/>
                  </a:lnTo>
                  <a:lnTo>
                    <a:pt x="229096" y="27236"/>
                  </a:lnTo>
                  <a:lnTo>
                    <a:pt x="221149" y="21710"/>
                  </a:lnTo>
                  <a:lnTo>
                    <a:pt x="213311" y="17179"/>
                  </a:lnTo>
                  <a:lnTo>
                    <a:pt x="205546" y="13312"/>
                  </a:lnTo>
                  <a:lnTo>
                    <a:pt x="197829" y="9887"/>
                  </a:lnTo>
                  <a:lnTo>
                    <a:pt x="190145" y="6757"/>
                  </a:lnTo>
                  <a:lnTo>
                    <a:pt x="182482" y="3824"/>
                  </a:lnTo>
                  <a:lnTo>
                    <a:pt x="174834" y="1021"/>
                  </a:lnTo>
                  <a:lnTo>
                    <a:pt x="167194" y="0"/>
                  </a:lnTo>
                  <a:lnTo>
                    <a:pt x="159562" y="166"/>
                  </a:lnTo>
                  <a:lnTo>
                    <a:pt x="151933" y="1123"/>
                  </a:lnTo>
                  <a:lnTo>
                    <a:pt x="145154" y="2608"/>
                  </a:lnTo>
                  <a:lnTo>
                    <a:pt x="138942" y="4444"/>
                  </a:lnTo>
                  <a:lnTo>
                    <a:pt x="121436" y="1065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MARTInkAnnotation50"/>
            <p:cNvSpPr/>
            <p:nvPr/>
          </p:nvSpPr>
          <p:spPr>
            <a:xfrm>
              <a:off x="6309360" y="944640"/>
              <a:ext cx="30240" cy="2512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30481" h="251461">
                  <a:moveTo>
                    <a:pt x="30480" y="0"/>
                  </a:moveTo>
                  <a:lnTo>
                    <a:pt x="30480" y="58561"/>
                  </a:lnTo>
                  <a:lnTo>
                    <a:pt x="29633" y="64441"/>
                  </a:lnTo>
                  <a:lnTo>
                    <a:pt x="28222" y="70901"/>
                  </a:lnTo>
                  <a:lnTo>
                    <a:pt x="26435" y="77747"/>
                  </a:lnTo>
                  <a:lnTo>
                    <a:pt x="25243" y="84005"/>
                  </a:lnTo>
                  <a:lnTo>
                    <a:pt x="24448" y="89870"/>
                  </a:lnTo>
                  <a:lnTo>
                    <a:pt x="23919" y="95473"/>
                  </a:lnTo>
                  <a:lnTo>
                    <a:pt x="23566" y="101749"/>
                  </a:lnTo>
                  <a:lnTo>
                    <a:pt x="23173" y="115495"/>
                  </a:lnTo>
                  <a:lnTo>
                    <a:pt x="22953" y="133469"/>
                  </a:lnTo>
                  <a:lnTo>
                    <a:pt x="22076" y="139779"/>
                  </a:lnTo>
                  <a:lnTo>
                    <a:pt x="20643" y="146526"/>
                  </a:lnTo>
                  <a:lnTo>
                    <a:pt x="18842" y="153564"/>
                  </a:lnTo>
                  <a:lnTo>
                    <a:pt x="17641" y="160796"/>
                  </a:lnTo>
                  <a:lnTo>
                    <a:pt x="16841" y="168157"/>
                  </a:lnTo>
                  <a:lnTo>
                    <a:pt x="16307" y="175605"/>
                  </a:lnTo>
                  <a:lnTo>
                    <a:pt x="15105" y="182263"/>
                  </a:lnTo>
                  <a:lnTo>
                    <a:pt x="13456" y="188396"/>
                  </a:lnTo>
                  <a:lnTo>
                    <a:pt x="4728" y="214450"/>
                  </a:lnTo>
                  <a:lnTo>
                    <a:pt x="3152" y="220860"/>
                  </a:lnTo>
                  <a:lnTo>
                    <a:pt x="2101" y="226827"/>
                  </a:lnTo>
                  <a:lnTo>
                    <a:pt x="1401" y="232498"/>
                  </a:lnTo>
                  <a:lnTo>
                    <a:pt x="934" y="237125"/>
                  </a:lnTo>
                  <a:lnTo>
                    <a:pt x="623" y="241057"/>
                  </a:lnTo>
                  <a:lnTo>
                    <a:pt x="0" y="2514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MARTInkAnnotation51"/>
            <p:cNvSpPr/>
            <p:nvPr/>
          </p:nvSpPr>
          <p:spPr>
            <a:xfrm>
              <a:off x="6080760" y="1988640"/>
              <a:ext cx="243720" cy="1512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43841" h="15213">
                  <a:moveTo>
                    <a:pt x="0" y="7592"/>
                  </a:moveTo>
                  <a:lnTo>
                    <a:pt x="10606" y="7592"/>
                  </a:lnTo>
                  <a:lnTo>
                    <a:pt x="12997" y="6745"/>
                  </a:lnTo>
                  <a:lnTo>
                    <a:pt x="15439" y="5334"/>
                  </a:lnTo>
                  <a:lnTo>
                    <a:pt x="17912" y="3547"/>
                  </a:lnTo>
                  <a:lnTo>
                    <a:pt x="22102" y="2355"/>
                  </a:lnTo>
                  <a:lnTo>
                    <a:pt x="27434" y="1561"/>
                  </a:lnTo>
                  <a:lnTo>
                    <a:pt x="33529" y="1031"/>
                  </a:lnTo>
                  <a:lnTo>
                    <a:pt x="40133" y="678"/>
                  </a:lnTo>
                  <a:lnTo>
                    <a:pt x="54244" y="286"/>
                  </a:lnTo>
                  <a:lnTo>
                    <a:pt x="109745" y="0"/>
                  </a:lnTo>
                  <a:lnTo>
                    <a:pt x="119730" y="837"/>
                  </a:lnTo>
                  <a:lnTo>
                    <a:pt x="129773" y="2242"/>
                  </a:lnTo>
                  <a:lnTo>
                    <a:pt x="139856" y="4026"/>
                  </a:lnTo>
                  <a:lnTo>
                    <a:pt x="149964" y="5214"/>
                  </a:lnTo>
                  <a:lnTo>
                    <a:pt x="160089" y="6007"/>
                  </a:lnTo>
                  <a:lnTo>
                    <a:pt x="170227" y="6535"/>
                  </a:lnTo>
                  <a:lnTo>
                    <a:pt x="180371" y="7734"/>
                  </a:lnTo>
                  <a:lnTo>
                    <a:pt x="190520" y="9380"/>
                  </a:lnTo>
                  <a:lnTo>
                    <a:pt x="200674" y="11324"/>
                  </a:lnTo>
                  <a:lnTo>
                    <a:pt x="209982" y="12620"/>
                  </a:lnTo>
                  <a:lnTo>
                    <a:pt x="218729" y="13484"/>
                  </a:lnTo>
                  <a:lnTo>
                    <a:pt x="243840" y="152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SMARTInkAnnotation52"/>
            <p:cNvSpPr/>
            <p:nvPr/>
          </p:nvSpPr>
          <p:spPr>
            <a:xfrm>
              <a:off x="6157080" y="2072520"/>
              <a:ext cx="190440" cy="22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90501" h="22825">
                  <a:moveTo>
                    <a:pt x="0" y="22824"/>
                  </a:moveTo>
                  <a:lnTo>
                    <a:pt x="14651" y="22824"/>
                  </a:lnTo>
                  <a:lnTo>
                    <a:pt x="19080" y="21978"/>
                  </a:lnTo>
                  <a:lnTo>
                    <a:pt x="23727" y="20566"/>
                  </a:lnTo>
                  <a:lnTo>
                    <a:pt x="28519" y="18779"/>
                  </a:lnTo>
                  <a:lnTo>
                    <a:pt x="33405" y="17587"/>
                  </a:lnTo>
                  <a:lnTo>
                    <a:pt x="38357" y="16793"/>
                  </a:lnTo>
                  <a:lnTo>
                    <a:pt x="43351" y="16263"/>
                  </a:lnTo>
                  <a:lnTo>
                    <a:pt x="48374" y="15064"/>
                  </a:lnTo>
                  <a:lnTo>
                    <a:pt x="53416" y="13417"/>
                  </a:lnTo>
                  <a:lnTo>
                    <a:pt x="58471" y="11473"/>
                  </a:lnTo>
                  <a:lnTo>
                    <a:pt x="70860" y="7055"/>
                  </a:lnTo>
                  <a:lnTo>
                    <a:pt x="77720" y="4691"/>
                  </a:lnTo>
                  <a:lnTo>
                    <a:pt x="84833" y="3116"/>
                  </a:lnTo>
                  <a:lnTo>
                    <a:pt x="92115" y="2065"/>
                  </a:lnTo>
                  <a:lnTo>
                    <a:pt x="99510" y="1365"/>
                  </a:lnTo>
                  <a:lnTo>
                    <a:pt x="106134" y="898"/>
                  </a:lnTo>
                  <a:lnTo>
                    <a:pt x="112241" y="587"/>
                  </a:lnTo>
                  <a:lnTo>
                    <a:pt x="118008" y="379"/>
                  </a:lnTo>
                  <a:lnTo>
                    <a:pt x="138258" y="87"/>
                  </a:lnTo>
                  <a:lnTo>
                    <a:pt x="156300" y="0"/>
                  </a:lnTo>
                  <a:lnTo>
                    <a:pt x="161773" y="835"/>
                  </a:lnTo>
                  <a:lnTo>
                    <a:pt x="167116" y="2238"/>
                  </a:lnTo>
                  <a:lnTo>
                    <a:pt x="172370" y="4020"/>
                  </a:lnTo>
                  <a:lnTo>
                    <a:pt x="176720" y="5208"/>
                  </a:lnTo>
                  <a:lnTo>
                    <a:pt x="180467" y="6000"/>
                  </a:lnTo>
                  <a:lnTo>
                    <a:pt x="190500" y="75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SMARTInkAnnotation53"/>
            <p:cNvSpPr/>
            <p:nvPr/>
          </p:nvSpPr>
          <p:spPr>
            <a:xfrm>
              <a:off x="6591600" y="1797840"/>
              <a:ext cx="29880" cy="365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30167" h="365761">
                  <a:moveTo>
                    <a:pt x="22860" y="0"/>
                  </a:moveTo>
                  <a:lnTo>
                    <a:pt x="22860" y="4045"/>
                  </a:lnTo>
                  <a:lnTo>
                    <a:pt x="23706" y="6084"/>
                  </a:lnTo>
                  <a:lnTo>
                    <a:pt x="25119" y="8289"/>
                  </a:lnTo>
                  <a:lnTo>
                    <a:pt x="26905" y="10606"/>
                  </a:lnTo>
                  <a:lnTo>
                    <a:pt x="28097" y="13844"/>
                  </a:lnTo>
                  <a:lnTo>
                    <a:pt x="28892" y="17696"/>
                  </a:lnTo>
                  <a:lnTo>
                    <a:pt x="29774" y="26492"/>
                  </a:lnTo>
                  <a:lnTo>
                    <a:pt x="30166" y="36045"/>
                  </a:lnTo>
                  <a:lnTo>
                    <a:pt x="29425" y="42657"/>
                  </a:lnTo>
                  <a:lnTo>
                    <a:pt x="28083" y="50451"/>
                  </a:lnTo>
                  <a:lnTo>
                    <a:pt x="26342" y="59034"/>
                  </a:lnTo>
                  <a:lnTo>
                    <a:pt x="24335" y="67296"/>
                  </a:lnTo>
                  <a:lnTo>
                    <a:pt x="22150" y="75344"/>
                  </a:lnTo>
                  <a:lnTo>
                    <a:pt x="19847" y="83249"/>
                  </a:lnTo>
                  <a:lnTo>
                    <a:pt x="18311" y="91906"/>
                  </a:lnTo>
                  <a:lnTo>
                    <a:pt x="17287" y="101064"/>
                  </a:lnTo>
                  <a:lnTo>
                    <a:pt x="16605" y="110556"/>
                  </a:lnTo>
                  <a:lnTo>
                    <a:pt x="15304" y="120271"/>
                  </a:lnTo>
                  <a:lnTo>
                    <a:pt x="13589" y="130134"/>
                  </a:lnTo>
                  <a:lnTo>
                    <a:pt x="4754" y="174343"/>
                  </a:lnTo>
                  <a:lnTo>
                    <a:pt x="3170" y="186502"/>
                  </a:lnTo>
                  <a:lnTo>
                    <a:pt x="2112" y="198841"/>
                  </a:lnTo>
                  <a:lnTo>
                    <a:pt x="1408" y="211301"/>
                  </a:lnTo>
                  <a:lnTo>
                    <a:pt x="626" y="236434"/>
                  </a:lnTo>
                  <a:lnTo>
                    <a:pt x="55" y="310181"/>
                  </a:lnTo>
                  <a:lnTo>
                    <a:pt x="0" y="3657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d9d9d9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Properties Summary: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 are number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160200" y="4572000"/>
            <a:ext cx="8839440" cy="1922760"/>
          </a:xfrm>
          <a:prstGeom prst="rect">
            <a:avLst/>
          </a:prstGeom>
          <a:noFill/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ymmetri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= b, then b = 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Ex 9) 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= 6, so 6 = 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tributiv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Proper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 10) 5(x + 4) = 5x +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1143000" y="5715000"/>
                <a:ext cx="2489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3"/>
              <p:cNvSpPr txBox="1"/>
              <p:nvPr/>
            </p:nvSpPr>
            <p:spPr>
              <a:xfrm>
                <a:off x="1295280" y="6103800"/>
                <a:ext cx="2476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a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c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TextBox 5"/>
          <p:cNvSpPr/>
          <p:nvPr/>
        </p:nvSpPr>
        <p:spPr>
          <a:xfrm>
            <a:off x="533520" y="19810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X 5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= 5 X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TextBox 6" descr=""/>
          <p:cNvPicPr/>
          <p:nvPr/>
        </p:nvPicPr>
        <p:blipFill>
          <a:blip r:embed="rId1"/>
          <a:stretch/>
        </p:blipFill>
        <p:spPr>
          <a:xfrm>
            <a:off x="4127400" y="1994040"/>
            <a:ext cx="3211560" cy="119988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11"/>
          <p:cNvGrpSpPr/>
          <p:nvPr/>
        </p:nvGrpSpPr>
        <p:grpSpPr>
          <a:xfrm>
            <a:off x="457200" y="1700280"/>
            <a:ext cx="1401840" cy="738000"/>
            <a:chOff x="457200" y="1700280"/>
            <a:chExt cx="1401840" cy="738000"/>
          </a:xfrm>
        </p:grpSpPr>
        <p:sp>
          <p:nvSpPr>
            <p:cNvPr id="182" name="SMARTInkAnnotation42"/>
            <p:cNvSpPr/>
            <p:nvPr/>
          </p:nvSpPr>
          <p:spPr>
            <a:xfrm>
              <a:off x="1317960" y="2027160"/>
              <a:ext cx="91080" cy="41112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91334" h="411481">
                  <a:moveTo>
                    <a:pt x="0" y="0"/>
                  </a:moveTo>
                  <a:lnTo>
                    <a:pt x="6561" y="0"/>
                  </a:lnTo>
                  <a:lnTo>
                    <a:pt x="9407" y="2258"/>
                  </a:lnTo>
                  <a:lnTo>
                    <a:pt x="11352" y="4045"/>
                  </a:lnTo>
                  <a:lnTo>
                    <a:pt x="15769" y="8289"/>
                  </a:lnTo>
                  <a:lnTo>
                    <a:pt x="33051" y="25439"/>
                  </a:lnTo>
                  <a:lnTo>
                    <a:pt x="36427" y="29659"/>
                  </a:lnTo>
                  <a:lnTo>
                    <a:pt x="40371" y="35013"/>
                  </a:lnTo>
                  <a:lnTo>
                    <a:pt x="44694" y="41122"/>
                  </a:lnTo>
                  <a:lnTo>
                    <a:pt x="48423" y="46888"/>
                  </a:lnTo>
                  <a:lnTo>
                    <a:pt x="51755" y="52425"/>
                  </a:lnTo>
                  <a:lnTo>
                    <a:pt x="54823" y="57810"/>
                  </a:lnTo>
                  <a:lnTo>
                    <a:pt x="62748" y="72825"/>
                  </a:lnTo>
                  <a:lnTo>
                    <a:pt x="67232" y="81570"/>
                  </a:lnTo>
                  <a:lnTo>
                    <a:pt x="71068" y="90787"/>
                  </a:lnTo>
                  <a:lnTo>
                    <a:pt x="74472" y="100318"/>
                  </a:lnTo>
                  <a:lnTo>
                    <a:pt x="77588" y="110058"/>
                  </a:lnTo>
                  <a:lnTo>
                    <a:pt x="79665" y="119092"/>
                  </a:lnTo>
                  <a:lnTo>
                    <a:pt x="81050" y="127655"/>
                  </a:lnTo>
                  <a:lnTo>
                    <a:pt x="81974" y="135903"/>
                  </a:lnTo>
                  <a:lnTo>
                    <a:pt x="83436" y="144789"/>
                  </a:lnTo>
                  <a:lnTo>
                    <a:pt x="85257" y="154099"/>
                  </a:lnTo>
                  <a:lnTo>
                    <a:pt x="87318" y="163693"/>
                  </a:lnTo>
                  <a:lnTo>
                    <a:pt x="88692" y="173475"/>
                  </a:lnTo>
                  <a:lnTo>
                    <a:pt x="89608" y="183383"/>
                  </a:lnTo>
                  <a:lnTo>
                    <a:pt x="90219" y="193376"/>
                  </a:lnTo>
                  <a:lnTo>
                    <a:pt x="90897" y="213510"/>
                  </a:lnTo>
                  <a:lnTo>
                    <a:pt x="91333" y="254029"/>
                  </a:lnTo>
                  <a:lnTo>
                    <a:pt x="90522" y="264180"/>
                  </a:lnTo>
                  <a:lnTo>
                    <a:pt x="89135" y="274333"/>
                  </a:lnTo>
                  <a:lnTo>
                    <a:pt x="87363" y="284489"/>
                  </a:lnTo>
                  <a:lnTo>
                    <a:pt x="85335" y="293799"/>
                  </a:lnTo>
                  <a:lnTo>
                    <a:pt x="83137" y="302546"/>
                  </a:lnTo>
                  <a:lnTo>
                    <a:pt x="80824" y="310918"/>
                  </a:lnTo>
                  <a:lnTo>
                    <a:pt x="77590" y="319038"/>
                  </a:lnTo>
                  <a:lnTo>
                    <a:pt x="73740" y="326992"/>
                  </a:lnTo>
                  <a:lnTo>
                    <a:pt x="69480" y="334835"/>
                  </a:lnTo>
                  <a:lnTo>
                    <a:pt x="65793" y="342603"/>
                  </a:lnTo>
                  <a:lnTo>
                    <a:pt x="62489" y="350322"/>
                  </a:lnTo>
                  <a:lnTo>
                    <a:pt x="59439" y="358008"/>
                  </a:lnTo>
                  <a:lnTo>
                    <a:pt x="55713" y="364825"/>
                  </a:lnTo>
                  <a:lnTo>
                    <a:pt x="51535" y="371064"/>
                  </a:lnTo>
                  <a:lnTo>
                    <a:pt x="47057" y="376916"/>
                  </a:lnTo>
                  <a:lnTo>
                    <a:pt x="42378" y="382511"/>
                  </a:lnTo>
                  <a:lnTo>
                    <a:pt x="37565" y="387934"/>
                  </a:lnTo>
                  <a:lnTo>
                    <a:pt x="28549" y="397629"/>
                  </a:lnTo>
                  <a:lnTo>
                    <a:pt x="15240" y="411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MARTInkAnnotation43"/>
            <p:cNvSpPr/>
            <p:nvPr/>
          </p:nvSpPr>
          <p:spPr>
            <a:xfrm>
              <a:off x="457200" y="2057760"/>
              <a:ext cx="197640" cy="3348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197771" h="335281">
                  <a:moveTo>
                    <a:pt x="22510" y="0"/>
                  </a:moveTo>
                  <a:lnTo>
                    <a:pt x="22510" y="8090"/>
                  </a:lnTo>
                  <a:lnTo>
                    <a:pt x="20253" y="16578"/>
                  </a:lnTo>
                  <a:lnTo>
                    <a:pt x="16427" y="25148"/>
                  </a:lnTo>
                  <a:lnTo>
                    <a:pt x="11904" y="31779"/>
                  </a:lnTo>
                  <a:lnTo>
                    <a:pt x="9330" y="42064"/>
                  </a:lnTo>
                  <a:lnTo>
                    <a:pt x="8643" y="48363"/>
                  </a:lnTo>
                  <a:lnTo>
                    <a:pt x="7339" y="55102"/>
                  </a:lnTo>
                  <a:lnTo>
                    <a:pt x="5623" y="62135"/>
                  </a:lnTo>
                  <a:lnTo>
                    <a:pt x="3632" y="69363"/>
                  </a:lnTo>
                  <a:lnTo>
                    <a:pt x="2305" y="77569"/>
                  </a:lnTo>
                  <a:lnTo>
                    <a:pt x="1420" y="86426"/>
                  </a:lnTo>
                  <a:lnTo>
                    <a:pt x="830" y="95717"/>
                  </a:lnTo>
                  <a:lnTo>
                    <a:pt x="437" y="105298"/>
                  </a:lnTo>
                  <a:lnTo>
                    <a:pt x="0" y="124975"/>
                  </a:lnTo>
                  <a:lnTo>
                    <a:pt x="730" y="134963"/>
                  </a:lnTo>
                  <a:lnTo>
                    <a:pt x="2063" y="145009"/>
                  </a:lnTo>
                  <a:lnTo>
                    <a:pt x="3799" y="155093"/>
                  </a:lnTo>
                  <a:lnTo>
                    <a:pt x="5803" y="165202"/>
                  </a:lnTo>
                  <a:lnTo>
                    <a:pt x="10287" y="185465"/>
                  </a:lnTo>
                  <a:lnTo>
                    <a:pt x="13515" y="194764"/>
                  </a:lnTo>
                  <a:lnTo>
                    <a:pt x="17360" y="203503"/>
                  </a:lnTo>
                  <a:lnTo>
                    <a:pt x="35698" y="239823"/>
                  </a:lnTo>
                  <a:lnTo>
                    <a:pt x="41462" y="247935"/>
                  </a:lnTo>
                  <a:lnTo>
                    <a:pt x="47845" y="255037"/>
                  </a:lnTo>
                  <a:lnTo>
                    <a:pt x="61710" y="268290"/>
                  </a:lnTo>
                  <a:lnTo>
                    <a:pt x="76339" y="282647"/>
                  </a:lnTo>
                  <a:lnTo>
                    <a:pt x="84643" y="289185"/>
                  </a:lnTo>
                  <a:lnTo>
                    <a:pt x="93565" y="295236"/>
                  </a:lnTo>
                  <a:lnTo>
                    <a:pt x="102900" y="300964"/>
                  </a:lnTo>
                  <a:lnTo>
                    <a:pt x="113357" y="306476"/>
                  </a:lnTo>
                  <a:lnTo>
                    <a:pt x="124561" y="311844"/>
                  </a:lnTo>
                  <a:lnTo>
                    <a:pt x="136264" y="317116"/>
                  </a:lnTo>
                  <a:lnTo>
                    <a:pt x="145760" y="320631"/>
                  </a:lnTo>
                  <a:lnTo>
                    <a:pt x="153783" y="322974"/>
                  </a:lnTo>
                  <a:lnTo>
                    <a:pt x="160825" y="324536"/>
                  </a:lnTo>
                  <a:lnTo>
                    <a:pt x="168060" y="326424"/>
                  </a:lnTo>
                  <a:lnTo>
                    <a:pt x="175424" y="328529"/>
                  </a:lnTo>
                  <a:lnTo>
                    <a:pt x="197770" y="3352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MARTInkAnnotation44"/>
            <p:cNvSpPr/>
            <p:nvPr/>
          </p:nvSpPr>
          <p:spPr>
            <a:xfrm>
              <a:off x="990720" y="1700280"/>
              <a:ext cx="868320" cy="365040"/>
            </a:xfrm>
            <a:custGeom>
              <a:avLst/>
              <a:gdLst>
                <a:gd name="textAreaLeft" fmla="*/ 0 w 868320"/>
                <a:gd name="textAreaRight" fmla="*/ 868680 w 8683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868367" h="365405">
                  <a:moveTo>
                    <a:pt x="7306" y="312064"/>
                  </a:moveTo>
                  <a:lnTo>
                    <a:pt x="7306" y="293186"/>
                  </a:lnTo>
                  <a:lnTo>
                    <a:pt x="2069" y="277824"/>
                  </a:lnTo>
                  <a:lnTo>
                    <a:pt x="745" y="268342"/>
                  </a:lnTo>
                  <a:lnTo>
                    <a:pt x="0" y="257529"/>
                  </a:lnTo>
                  <a:lnTo>
                    <a:pt x="2083" y="249444"/>
                  </a:lnTo>
                  <a:lnTo>
                    <a:pt x="4985" y="240206"/>
                  </a:lnTo>
                  <a:lnTo>
                    <a:pt x="6274" y="230456"/>
                  </a:lnTo>
                  <a:lnTo>
                    <a:pt x="7465" y="224639"/>
                  </a:lnTo>
                  <a:lnTo>
                    <a:pt x="9105" y="218221"/>
                  </a:lnTo>
                  <a:lnTo>
                    <a:pt x="11045" y="211402"/>
                  </a:lnTo>
                  <a:lnTo>
                    <a:pt x="14032" y="205163"/>
                  </a:lnTo>
                  <a:lnTo>
                    <a:pt x="17717" y="199310"/>
                  </a:lnTo>
                  <a:lnTo>
                    <a:pt x="25480" y="188291"/>
                  </a:lnTo>
                  <a:lnTo>
                    <a:pt x="35457" y="171721"/>
                  </a:lnTo>
                  <a:lnTo>
                    <a:pt x="44089" y="158249"/>
                  </a:lnTo>
                  <a:lnTo>
                    <a:pt x="48761" y="151948"/>
                  </a:lnTo>
                  <a:lnTo>
                    <a:pt x="53569" y="146053"/>
                  </a:lnTo>
                  <a:lnTo>
                    <a:pt x="58468" y="140430"/>
                  </a:lnTo>
                  <a:lnTo>
                    <a:pt x="64274" y="134142"/>
                  </a:lnTo>
                  <a:lnTo>
                    <a:pt x="77499" y="120381"/>
                  </a:lnTo>
                  <a:lnTo>
                    <a:pt x="84581" y="114002"/>
                  </a:lnTo>
                  <a:lnTo>
                    <a:pt x="91843" y="108056"/>
                  </a:lnTo>
                  <a:lnTo>
                    <a:pt x="106685" y="96934"/>
                  </a:lnTo>
                  <a:lnTo>
                    <a:pt x="121748" y="86346"/>
                  </a:lnTo>
                  <a:lnTo>
                    <a:pt x="139167" y="75996"/>
                  </a:lnTo>
                  <a:lnTo>
                    <a:pt x="157351" y="65752"/>
                  </a:lnTo>
                  <a:lnTo>
                    <a:pt x="173899" y="55554"/>
                  </a:lnTo>
                  <a:lnTo>
                    <a:pt x="191979" y="47635"/>
                  </a:lnTo>
                  <a:lnTo>
                    <a:pt x="211303" y="40447"/>
                  </a:lnTo>
                  <a:lnTo>
                    <a:pt x="231180" y="31608"/>
                  </a:lnTo>
                  <a:lnTo>
                    <a:pt x="251303" y="24293"/>
                  </a:lnTo>
                  <a:lnTo>
                    <a:pt x="271536" y="18219"/>
                  </a:lnTo>
                  <a:lnTo>
                    <a:pt x="291817" y="12698"/>
                  </a:lnTo>
                  <a:lnTo>
                    <a:pt x="314377" y="9679"/>
                  </a:lnTo>
                  <a:lnTo>
                    <a:pt x="337669" y="7491"/>
                  </a:lnTo>
                  <a:lnTo>
                    <a:pt x="359309" y="3696"/>
                  </a:lnTo>
                  <a:lnTo>
                    <a:pt x="380216" y="1445"/>
                  </a:lnTo>
                  <a:lnTo>
                    <a:pt x="401644" y="445"/>
                  </a:lnTo>
                  <a:lnTo>
                    <a:pt x="425278" y="0"/>
                  </a:lnTo>
                  <a:lnTo>
                    <a:pt x="447636" y="2060"/>
                  </a:lnTo>
                  <a:lnTo>
                    <a:pt x="468861" y="5798"/>
                  </a:lnTo>
                  <a:lnTo>
                    <a:pt x="489584" y="10281"/>
                  </a:lnTo>
                  <a:lnTo>
                    <a:pt x="540664" y="22567"/>
                  </a:lnTo>
                  <a:lnTo>
                    <a:pt x="561007" y="28459"/>
                  </a:lnTo>
                  <a:lnTo>
                    <a:pt x="581338" y="36722"/>
                  </a:lnTo>
                  <a:lnTo>
                    <a:pt x="601662" y="46039"/>
                  </a:lnTo>
                  <a:lnTo>
                    <a:pt x="621138" y="55824"/>
                  </a:lnTo>
                  <a:lnTo>
                    <a:pt x="638260" y="65818"/>
                  </a:lnTo>
                  <a:lnTo>
                    <a:pt x="654337" y="75903"/>
                  </a:lnTo>
                  <a:lnTo>
                    <a:pt x="669948" y="86877"/>
                  </a:lnTo>
                  <a:lnTo>
                    <a:pt x="677668" y="93360"/>
                  </a:lnTo>
                  <a:lnTo>
                    <a:pt x="685354" y="100221"/>
                  </a:lnTo>
                  <a:lnTo>
                    <a:pt x="700667" y="114618"/>
                  </a:lnTo>
                  <a:lnTo>
                    <a:pt x="727149" y="140512"/>
                  </a:lnTo>
                  <a:lnTo>
                    <a:pt x="732735" y="146896"/>
                  </a:lnTo>
                  <a:lnTo>
                    <a:pt x="738152" y="153692"/>
                  </a:lnTo>
                  <a:lnTo>
                    <a:pt x="743457" y="160763"/>
                  </a:lnTo>
                  <a:lnTo>
                    <a:pt x="753866" y="175392"/>
                  </a:lnTo>
                  <a:lnTo>
                    <a:pt x="784528" y="220667"/>
                  </a:lnTo>
                  <a:lnTo>
                    <a:pt x="789614" y="228273"/>
                  </a:lnTo>
                  <a:lnTo>
                    <a:pt x="793851" y="235037"/>
                  </a:lnTo>
                  <a:lnTo>
                    <a:pt x="797523" y="241239"/>
                  </a:lnTo>
                  <a:lnTo>
                    <a:pt x="804707" y="252646"/>
                  </a:lnTo>
                  <a:lnTo>
                    <a:pt x="813544" y="263360"/>
                  </a:lnTo>
                  <a:lnTo>
                    <a:pt x="817424" y="269435"/>
                  </a:lnTo>
                  <a:lnTo>
                    <a:pt x="820859" y="276025"/>
                  </a:lnTo>
                  <a:lnTo>
                    <a:pt x="823995" y="282958"/>
                  </a:lnTo>
                  <a:lnTo>
                    <a:pt x="827778" y="289273"/>
                  </a:lnTo>
                  <a:lnTo>
                    <a:pt x="831994" y="295177"/>
                  </a:lnTo>
                  <a:lnTo>
                    <a:pt x="839501" y="305406"/>
                  </a:lnTo>
                  <a:lnTo>
                    <a:pt x="844573" y="316770"/>
                  </a:lnTo>
                  <a:lnTo>
                    <a:pt x="848761" y="325727"/>
                  </a:lnTo>
                  <a:lnTo>
                    <a:pt x="851186" y="333095"/>
                  </a:lnTo>
                  <a:lnTo>
                    <a:pt x="851832" y="336244"/>
                  </a:lnTo>
                  <a:lnTo>
                    <a:pt x="854809" y="342002"/>
                  </a:lnTo>
                  <a:lnTo>
                    <a:pt x="856788" y="344723"/>
                  </a:lnTo>
                  <a:lnTo>
                    <a:pt x="858987" y="350003"/>
                  </a:lnTo>
                  <a:lnTo>
                    <a:pt x="860225" y="357737"/>
                  </a:lnTo>
                  <a:lnTo>
                    <a:pt x="860643" y="363890"/>
                  </a:lnTo>
                  <a:lnTo>
                    <a:pt x="861524" y="364394"/>
                  </a:lnTo>
                  <a:lnTo>
                    <a:pt x="868366" y="3654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MARTInkAnnotation45"/>
            <p:cNvSpPr/>
            <p:nvPr/>
          </p:nvSpPr>
          <p:spPr>
            <a:xfrm>
              <a:off x="617760" y="1814040"/>
              <a:ext cx="151200" cy="1976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151246" h="197968">
                  <a:moveTo>
                    <a:pt x="29325" y="91429"/>
                  </a:moveTo>
                  <a:lnTo>
                    <a:pt x="18719" y="80823"/>
                  </a:lnTo>
                  <a:lnTo>
                    <a:pt x="17174" y="78432"/>
                  </a:lnTo>
                  <a:lnTo>
                    <a:pt x="15458" y="73517"/>
                  </a:lnTo>
                  <a:lnTo>
                    <a:pt x="14695" y="68510"/>
                  </a:lnTo>
                  <a:lnTo>
                    <a:pt x="14492" y="65990"/>
                  </a:lnTo>
                  <a:lnTo>
                    <a:pt x="13509" y="62616"/>
                  </a:lnTo>
                  <a:lnTo>
                    <a:pt x="12008" y="58674"/>
                  </a:lnTo>
                  <a:lnTo>
                    <a:pt x="10160" y="54352"/>
                  </a:lnTo>
                  <a:lnTo>
                    <a:pt x="8928" y="50625"/>
                  </a:lnTo>
                  <a:lnTo>
                    <a:pt x="8107" y="47293"/>
                  </a:lnTo>
                  <a:lnTo>
                    <a:pt x="7560" y="44225"/>
                  </a:lnTo>
                  <a:lnTo>
                    <a:pt x="6348" y="40486"/>
                  </a:lnTo>
                  <a:lnTo>
                    <a:pt x="4694" y="36300"/>
                  </a:lnTo>
                  <a:lnTo>
                    <a:pt x="0" y="25506"/>
                  </a:lnTo>
                  <a:lnTo>
                    <a:pt x="462" y="23774"/>
                  </a:lnTo>
                  <a:lnTo>
                    <a:pt x="3232" y="19591"/>
                  </a:lnTo>
                  <a:lnTo>
                    <a:pt x="5028" y="14910"/>
                  </a:lnTo>
                  <a:lnTo>
                    <a:pt x="5507" y="12476"/>
                  </a:lnTo>
                  <a:lnTo>
                    <a:pt x="8297" y="7515"/>
                  </a:lnTo>
                  <a:lnTo>
                    <a:pt x="10226" y="5006"/>
                  </a:lnTo>
                  <a:lnTo>
                    <a:pt x="12359" y="3334"/>
                  </a:lnTo>
                  <a:lnTo>
                    <a:pt x="14628" y="2219"/>
                  </a:lnTo>
                  <a:lnTo>
                    <a:pt x="16987" y="1476"/>
                  </a:lnTo>
                  <a:lnTo>
                    <a:pt x="20253" y="980"/>
                  </a:lnTo>
                  <a:lnTo>
                    <a:pt x="24124" y="650"/>
                  </a:lnTo>
                  <a:lnTo>
                    <a:pt x="32093" y="283"/>
                  </a:lnTo>
                  <a:lnTo>
                    <a:pt x="38458" y="119"/>
                  </a:lnTo>
                  <a:lnTo>
                    <a:pt x="61195" y="0"/>
                  </a:lnTo>
                  <a:lnTo>
                    <a:pt x="64119" y="843"/>
                  </a:lnTo>
                  <a:lnTo>
                    <a:pt x="66914" y="2252"/>
                  </a:lnTo>
                  <a:lnTo>
                    <a:pt x="69624" y="4038"/>
                  </a:lnTo>
                  <a:lnTo>
                    <a:pt x="72278" y="6921"/>
                  </a:lnTo>
                  <a:lnTo>
                    <a:pt x="74894" y="10537"/>
                  </a:lnTo>
                  <a:lnTo>
                    <a:pt x="77484" y="14641"/>
                  </a:lnTo>
                  <a:lnTo>
                    <a:pt x="80058" y="18224"/>
                  </a:lnTo>
                  <a:lnTo>
                    <a:pt x="82620" y="21459"/>
                  </a:lnTo>
                  <a:lnTo>
                    <a:pt x="85175" y="24462"/>
                  </a:lnTo>
                  <a:lnTo>
                    <a:pt x="86878" y="28158"/>
                  </a:lnTo>
                  <a:lnTo>
                    <a:pt x="88014" y="32315"/>
                  </a:lnTo>
                  <a:lnTo>
                    <a:pt x="88771" y="36780"/>
                  </a:lnTo>
                  <a:lnTo>
                    <a:pt x="89276" y="41449"/>
                  </a:lnTo>
                  <a:lnTo>
                    <a:pt x="89612" y="46256"/>
                  </a:lnTo>
                  <a:lnTo>
                    <a:pt x="89836" y="51154"/>
                  </a:lnTo>
                  <a:lnTo>
                    <a:pt x="88293" y="56112"/>
                  </a:lnTo>
                  <a:lnTo>
                    <a:pt x="85570" y="61111"/>
                  </a:lnTo>
                  <a:lnTo>
                    <a:pt x="82062" y="66137"/>
                  </a:lnTo>
                  <a:lnTo>
                    <a:pt x="78876" y="72028"/>
                  </a:lnTo>
                  <a:lnTo>
                    <a:pt x="75906" y="78495"/>
                  </a:lnTo>
                  <a:lnTo>
                    <a:pt x="73079" y="85346"/>
                  </a:lnTo>
                  <a:lnTo>
                    <a:pt x="69501" y="92454"/>
                  </a:lnTo>
                  <a:lnTo>
                    <a:pt x="65422" y="99732"/>
                  </a:lnTo>
                  <a:lnTo>
                    <a:pt x="61010" y="107125"/>
                  </a:lnTo>
                  <a:lnTo>
                    <a:pt x="56375" y="113746"/>
                  </a:lnTo>
                  <a:lnTo>
                    <a:pt x="51591" y="119854"/>
                  </a:lnTo>
                  <a:lnTo>
                    <a:pt x="46709" y="125619"/>
                  </a:lnTo>
                  <a:lnTo>
                    <a:pt x="42608" y="132002"/>
                  </a:lnTo>
                  <a:lnTo>
                    <a:pt x="39027" y="138798"/>
                  </a:lnTo>
                  <a:lnTo>
                    <a:pt x="35793" y="145869"/>
                  </a:lnTo>
                  <a:lnTo>
                    <a:pt x="32790" y="151429"/>
                  </a:lnTo>
                  <a:lnTo>
                    <a:pt x="29942" y="155982"/>
                  </a:lnTo>
                  <a:lnTo>
                    <a:pt x="27196" y="159864"/>
                  </a:lnTo>
                  <a:lnTo>
                    <a:pt x="24519" y="164146"/>
                  </a:lnTo>
                  <a:lnTo>
                    <a:pt x="21888" y="168694"/>
                  </a:lnTo>
                  <a:lnTo>
                    <a:pt x="19287" y="173419"/>
                  </a:lnTo>
                  <a:lnTo>
                    <a:pt x="17553" y="177415"/>
                  </a:lnTo>
                  <a:lnTo>
                    <a:pt x="16397" y="180927"/>
                  </a:lnTo>
                  <a:lnTo>
                    <a:pt x="15112" y="187086"/>
                  </a:lnTo>
                  <a:lnTo>
                    <a:pt x="14542" y="192645"/>
                  </a:lnTo>
                  <a:lnTo>
                    <a:pt x="16083" y="194467"/>
                  </a:lnTo>
                  <a:lnTo>
                    <a:pt x="18803" y="195681"/>
                  </a:lnTo>
                  <a:lnTo>
                    <a:pt x="22311" y="196490"/>
                  </a:lnTo>
                  <a:lnTo>
                    <a:pt x="26342" y="197030"/>
                  </a:lnTo>
                  <a:lnTo>
                    <a:pt x="30723" y="197390"/>
                  </a:lnTo>
                  <a:lnTo>
                    <a:pt x="35337" y="197629"/>
                  </a:lnTo>
                  <a:lnTo>
                    <a:pt x="47237" y="197896"/>
                  </a:lnTo>
                  <a:lnTo>
                    <a:pt x="53966" y="197967"/>
                  </a:lnTo>
                  <a:lnTo>
                    <a:pt x="60993" y="197168"/>
                  </a:lnTo>
                  <a:lnTo>
                    <a:pt x="68217" y="195788"/>
                  </a:lnTo>
                  <a:lnTo>
                    <a:pt x="75573" y="194022"/>
                  </a:lnTo>
                  <a:lnTo>
                    <a:pt x="83017" y="191151"/>
                  </a:lnTo>
                  <a:lnTo>
                    <a:pt x="90520" y="187544"/>
                  </a:lnTo>
                  <a:lnTo>
                    <a:pt x="98061" y="183446"/>
                  </a:lnTo>
                  <a:lnTo>
                    <a:pt x="105629" y="179020"/>
                  </a:lnTo>
                  <a:lnTo>
                    <a:pt x="127569" y="165548"/>
                  </a:lnTo>
                  <a:lnTo>
                    <a:pt x="133768" y="162008"/>
                  </a:lnTo>
                  <a:lnTo>
                    <a:pt x="151245" y="15238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MARTInkAnnotation46"/>
            <p:cNvSpPr/>
            <p:nvPr/>
          </p:nvSpPr>
          <p:spPr>
            <a:xfrm>
              <a:off x="763200" y="1821600"/>
              <a:ext cx="186120" cy="20556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186243" h="205741">
                  <a:moveTo>
                    <a:pt x="97518" y="0"/>
                  </a:moveTo>
                  <a:lnTo>
                    <a:pt x="93473" y="0"/>
                  </a:lnTo>
                  <a:lnTo>
                    <a:pt x="92281" y="847"/>
                  </a:lnTo>
                  <a:lnTo>
                    <a:pt x="91487" y="2258"/>
                  </a:lnTo>
                  <a:lnTo>
                    <a:pt x="90212" y="6561"/>
                  </a:lnTo>
                  <a:lnTo>
                    <a:pt x="89991" y="11351"/>
                  </a:lnTo>
                  <a:lnTo>
                    <a:pt x="89114" y="12648"/>
                  </a:lnTo>
                  <a:lnTo>
                    <a:pt x="87682" y="13512"/>
                  </a:lnTo>
                  <a:lnTo>
                    <a:pt x="85880" y="14088"/>
                  </a:lnTo>
                  <a:lnTo>
                    <a:pt x="83833" y="16165"/>
                  </a:lnTo>
                  <a:lnTo>
                    <a:pt x="81621" y="19244"/>
                  </a:lnTo>
                  <a:lnTo>
                    <a:pt x="79300" y="22989"/>
                  </a:lnTo>
                  <a:lnTo>
                    <a:pt x="76060" y="26333"/>
                  </a:lnTo>
                  <a:lnTo>
                    <a:pt x="72206" y="29409"/>
                  </a:lnTo>
                  <a:lnTo>
                    <a:pt x="67943" y="32306"/>
                  </a:lnTo>
                  <a:lnTo>
                    <a:pt x="64255" y="35084"/>
                  </a:lnTo>
                  <a:lnTo>
                    <a:pt x="60949" y="37783"/>
                  </a:lnTo>
                  <a:lnTo>
                    <a:pt x="57899" y="40428"/>
                  </a:lnTo>
                  <a:lnTo>
                    <a:pt x="54172" y="43886"/>
                  </a:lnTo>
                  <a:lnTo>
                    <a:pt x="45515" y="52243"/>
                  </a:lnTo>
                  <a:lnTo>
                    <a:pt x="40836" y="55995"/>
                  </a:lnTo>
                  <a:lnTo>
                    <a:pt x="36024" y="59343"/>
                  </a:lnTo>
                  <a:lnTo>
                    <a:pt x="31122" y="62422"/>
                  </a:lnTo>
                  <a:lnTo>
                    <a:pt x="27007" y="65322"/>
                  </a:lnTo>
                  <a:lnTo>
                    <a:pt x="23418" y="68101"/>
                  </a:lnTo>
                  <a:lnTo>
                    <a:pt x="20178" y="70801"/>
                  </a:lnTo>
                  <a:lnTo>
                    <a:pt x="17171" y="73447"/>
                  </a:lnTo>
                  <a:lnTo>
                    <a:pt x="11573" y="78646"/>
                  </a:lnTo>
                  <a:lnTo>
                    <a:pt x="8895" y="80370"/>
                  </a:lnTo>
                  <a:lnTo>
                    <a:pt x="3661" y="82287"/>
                  </a:lnTo>
                  <a:lnTo>
                    <a:pt x="1927" y="83645"/>
                  </a:lnTo>
                  <a:lnTo>
                    <a:pt x="771" y="85396"/>
                  </a:lnTo>
                  <a:lnTo>
                    <a:pt x="0" y="87411"/>
                  </a:lnTo>
                  <a:lnTo>
                    <a:pt x="332" y="89601"/>
                  </a:lnTo>
                  <a:lnTo>
                    <a:pt x="2960" y="94291"/>
                  </a:lnTo>
                  <a:lnTo>
                    <a:pt x="4846" y="95881"/>
                  </a:lnTo>
                  <a:lnTo>
                    <a:pt x="6950" y="96941"/>
                  </a:lnTo>
                  <a:lnTo>
                    <a:pt x="9199" y="97647"/>
                  </a:lnTo>
                  <a:lnTo>
                    <a:pt x="13239" y="98118"/>
                  </a:lnTo>
                  <a:lnTo>
                    <a:pt x="18472" y="98432"/>
                  </a:lnTo>
                  <a:lnTo>
                    <a:pt x="31060" y="98781"/>
                  </a:lnTo>
                  <a:lnTo>
                    <a:pt x="138141" y="99059"/>
                  </a:lnTo>
                  <a:lnTo>
                    <a:pt x="144073" y="99906"/>
                  </a:lnTo>
                  <a:lnTo>
                    <a:pt x="149722" y="101318"/>
                  </a:lnTo>
                  <a:lnTo>
                    <a:pt x="155181" y="103105"/>
                  </a:lnTo>
                  <a:lnTo>
                    <a:pt x="159666" y="105143"/>
                  </a:lnTo>
                  <a:lnTo>
                    <a:pt x="163503" y="107349"/>
                  </a:lnTo>
                  <a:lnTo>
                    <a:pt x="166909" y="109666"/>
                  </a:lnTo>
                  <a:lnTo>
                    <a:pt x="170872" y="112057"/>
                  </a:lnTo>
                  <a:lnTo>
                    <a:pt x="175207" y="114498"/>
                  </a:lnTo>
                  <a:lnTo>
                    <a:pt x="179791" y="116972"/>
                  </a:lnTo>
                  <a:lnTo>
                    <a:pt x="182847" y="119468"/>
                  </a:lnTo>
                  <a:lnTo>
                    <a:pt x="184884" y="121979"/>
                  </a:lnTo>
                  <a:lnTo>
                    <a:pt x="186242" y="124499"/>
                  </a:lnTo>
                  <a:lnTo>
                    <a:pt x="185454" y="127873"/>
                  </a:lnTo>
                  <a:lnTo>
                    <a:pt x="183235" y="131815"/>
                  </a:lnTo>
                  <a:lnTo>
                    <a:pt x="180063" y="136137"/>
                  </a:lnTo>
                  <a:lnTo>
                    <a:pt x="177101" y="140711"/>
                  </a:lnTo>
                  <a:lnTo>
                    <a:pt x="174280" y="145454"/>
                  </a:lnTo>
                  <a:lnTo>
                    <a:pt x="171553" y="150310"/>
                  </a:lnTo>
                  <a:lnTo>
                    <a:pt x="168888" y="154393"/>
                  </a:lnTo>
                  <a:lnTo>
                    <a:pt x="166265" y="157962"/>
                  </a:lnTo>
                  <a:lnTo>
                    <a:pt x="163669" y="161188"/>
                  </a:lnTo>
                  <a:lnTo>
                    <a:pt x="161092" y="165032"/>
                  </a:lnTo>
                  <a:lnTo>
                    <a:pt x="158528" y="169288"/>
                  </a:lnTo>
                  <a:lnTo>
                    <a:pt x="155971" y="173819"/>
                  </a:lnTo>
                  <a:lnTo>
                    <a:pt x="152573" y="177686"/>
                  </a:lnTo>
                  <a:lnTo>
                    <a:pt x="148615" y="181111"/>
                  </a:lnTo>
                  <a:lnTo>
                    <a:pt x="144283" y="184240"/>
                  </a:lnTo>
                  <a:lnTo>
                    <a:pt x="139701" y="187174"/>
                  </a:lnTo>
                  <a:lnTo>
                    <a:pt x="134954" y="189976"/>
                  </a:lnTo>
                  <a:lnTo>
                    <a:pt x="130095" y="192691"/>
                  </a:lnTo>
                  <a:lnTo>
                    <a:pt x="126009" y="195347"/>
                  </a:lnTo>
                  <a:lnTo>
                    <a:pt x="122439" y="197965"/>
                  </a:lnTo>
                  <a:lnTo>
                    <a:pt x="119212" y="200557"/>
                  </a:lnTo>
                  <a:lnTo>
                    <a:pt x="115368" y="202284"/>
                  </a:lnTo>
                  <a:lnTo>
                    <a:pt x="111111" y="203436"/>
                  </a:lnTo>
                  <a:lnTo>
                    <a:pt x="106580" y="204204"/>
                  </a:lnTo>
                  <a:lnTo>
                    <a:pt x="102713" y="204716"/>
                  </a:lnTo>
                  <a:lnTo>
                    <a:pt x="99288" y="205058"/>
                  </a:lnTo>
                  <a:lnTo>
                    <a:pt x="96158" y="205285"/>
                  </a:lnTo>
                  <a:lnTo>
                    <a:pt x="92378" y="205437"/>
                  </a:lnTo>
                  <a:lnTo>
                    <a:pt x="74658" y="2057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SMARTInkAnnotation47"/>
            <p:cNvSpPr/>
            <p:nvPr/>
          </p:nvSpPr>
          <p:spPr>
            <a:xfrm>
              <a:off x="868320" y="1836720"/>
              <a:ext cx="99000" cy="756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9061" h="7621">
                  <a:moveTo>
                    <a:pt x="0" y="7620"/>
                  </a:moveTo>
                  <a:lnTo>
                    <a:pt x="4046" y="7620"/>
                  </a:lnTo>
                  <a:lnTo>
                    <a:pt x="5237" y="6773"/>
                  </a:lnTo>
                  <a:lnTo>
                    <a:pt x="6031" y="5362"/>
                  </a:lnTo>
                  <a:lnTo>
                    <a:pt x="6561" y="3575"/>
                  </a:lnTo>
                  <a:lnTo>
                    <a:pt x="9454" y="2383"/>
                  </a:lnTo>
                  <a:lnTo>
                    <a:pt x="13923" y="1589"/>
                  </a:lnTo>
                  <a:lnTo>
                    <a:pt x="19442" y="1059"/>
                  </a:lnTo>
                  <a:lnTo>
                    <a:pt x="23968" y="706"/>
                  </a:lnTo>
                  <a:lnTo>
                    <a:pt x="27832" y="471"/>
                  </a:lnTo>
                  <a:lnTo>
                    <a:pt x="31255" y="314"/>
                  </a:lnTo>
                  <a:lnTo>
                    <a:pt x="41831" y="140"/>
                  </a:lnTo>
                  <a:lnTo>
                    <a:pt x="990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d9d9d9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Properties Summary: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 are number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"/>
          <p:cNvSpPr/>
          <p:nvPr/>
        </p:nvSpPr>
        <p:spPr>
          <a:xfrm>
            <a:off x="141120" y="4952880"/>
            <a:ext cx="8839440" cy="1557000"/>
          </a:xfrm>
          <a:prstGeom prst="rect">
            <a:avLst/>
          </a:prstGeom>
          <a:noFill/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ultiplicat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perty of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= 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Ex 11) -35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ultiplic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Property of 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 = -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Ex 12) -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= 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609480" y="1219320"/>
            <a:ext cx="1752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X 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X 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X 0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 X 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4419720" y="1239840"/>
            <a:ext cx="1676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(-1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(-1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(-1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8(-1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30"/>
          <p:cNvGrpSpPr/>
          <p:nvPr/>
        </p:nvGrpSpPr>
        <p:grpSpPr>
          <a:xfrm>
            <a:off x="1790640" y="1325520"/>
            <a:ext cx="4983120" cy="3116160"/>
            <a:chOff x="1790640" y="1325520"/>
            <a:chExt cx="4983120" cy="3116160"/>
          </a:xfrm>
        </p:grpSpPr>
        <p:sp>
          <p:nvSpPr>
            <p:cNvPr id="193" name="SMARTInkAnnotation15"/>
            <p:cNvSpPr/>
            <p:nvPr/>
          </p:nvSpPr>
          <p:spPr>
            <a:xfrm>
              <a:off x="2039040" y="1325520"/>
              <a:ext cx="225720" cy="20520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226069" h="205372">
                  <a:moveTo>
                    <a:pt x="193273" y="7527"/>
                  </a:moveTo>
                  <a:lnTo>
                    <a:pt x="193273" y="3482"/>
                  </a:lnTo>
                  <a:lnTo>
                    <a:pt x="192426" y="2290"/>
                  </a:lnTo>
                  <a:lnTo>
                    <a:pt x="191015" y="1496"/>
                  </a:lnTo>
                  <a:lnTo>
                    <a:pt x="186712" y="221"/>
                  </a:lnTo>
                  <a:lnTo>
                    <a:pt x="181608" y="47"/>
                  </a:lnTo>
                  <a:lnTo>
                    <a:pt x="177877" y="0"/>
                  </a:lnTo>
                  <a:lnTo>
                    <a:pt x="173696" y="816"/>
                  </a:lnTo>
                  <a:lnTo>
                    <a:pt x="169214" y="2206"/>
                  </a:lnTo>
                  <a:lnTo>
                    <a:pt x="164534" y="3980"/>
                  </a:lnTo>
                  <a:lnTo>
                    <a:pt x="159721" y="6009"/>
                  </a:lnTo>
                  <a:lnTo>
                    <a:pt x="154818" y="8208"/>
                  </a:lnTo>
                  <a:lnTo>
                    <a:pt x="143162" y="13756"/>
                  </a:lnTo>
                  <a:lnTo>
                    <a:pt x="126693" y="21867"/>
                  </a:lnTo>
                  <a:lnTo>
                    <a:pt x="118406" y="27247"/>
                  </a:lnTo>
                  <a:lnTo>
                    <a:pt x="110342" y="33374"/>
                  </a:lnTo>
                  <a:lnTo>
                    <a:pt x="102425" y="39998"/>
                  </a:lnTo>
                  <a:lnTo>
                    <a:pt x="84599" y="54132"/>
                  </a:lnTo>
                  <a:lnTo>
                    <a:pt x="75103" y="61457"/>
                  </a:lnTo>
                  <a:lnTo>
                    <a:pt x="66233" y="69727"/>
                  </a:lnTo>
                  <a:lnTo>
                    <a:pt x="57780" y="78627"/>
                  </a:lnTo>
                  <a:lnTo>
                    <a:pt x="49604" y="87947"/>
                  </a:lnTo>
                  <a:lnTo>
                    <a:pt x="41614" y="96700"/>
                  </a:lnTo>
                  <a:lnTo>
                    <a:pt x="25963" y="113200"/>
                  </a:lnTo>
                  <a:lnTo>
                    <a:pt x="19926" y="121156"/>
                  </a:lnTo>
                  <a:lnTo>
                    <a:pt x="15055" y="128999"/>
                  </a:lnTo>
                  <a:lnTo>
                    <a:pt x="10961" y="136769"/>
                  </a:lnTo>
                  <a:lnTo>
                    <a:pt x="7385" y="144488"/>
                  </a:lnTo>
                  <a:lnTo>
                    <a:pt x="4155" y="152174"/>
                  </a:lnTo>
                  <a:lnTo>
                    <a:pt x="1154" y="159839"/>
                  </a:lnTo>
                  <a:lnTo>
                    <a:pt x="0" y="166641"/>
                  </a:lnTo>
                  <a:lnTo>
                    <a:pt x="78" y="172870"/>
                  </a:lnTo>
                  <a:lnTo>
                    <a:pt x="976" y="178716"/>
                  </a:lnTo>
                  <a:lnTo>
                    <a:pt x="2422" y="184306"/>
                  </a:lnTo>
                  <a:lnTo>
                    <a:pt x="4232" y="189727"/>
                  </a:lnTo>
                  <a:lnTo>
                    <a:pt x="6286" y="195033"/>
                  </a:lnTo>
                  <a:lnTo>
                    <a:pt x="11042" y="198571"/>
                  </a:lnTo>
                  <a:lnTo>
                    <a:pt x="17599" y="200930"/>
                  </a:lnTo>
                  <a:lnTo>
                    <a:pt x="25357" y="202502"/>
                  </a:lnTo>
                  <a:lnTo>
                    <a:pt x="33069" y="203551"/>
                  </a:lnTo>
                  <a:lnTo>
                    <a:pt x="40750" y="204249"/>
                  </a:lnTo>
                  <a:lnTo>
                    <a:pt x="48411" y="204715"/>
                  </a:lnTo>
                  <a:lnTo>
                    <a:pt x="65955" y="205233"/>
                  </a:lnTo>
                  <a:lnTo>
                    <a:pt x="75374" y="205371"/>
                  </a:lnTo>
                  <a:lnTo>
                    <a:pt x="85887" y="203770"/>
                  </a:lnTo>
                  <a:lnTo>
                    <a:pt x="97129" y="201009"/>
                  </a:lnTo>
                  <a:lnTo>
                    <a:pt x="108857" y="197475"/>
                  </a:lnTo>
                  <a:lnTo>
                    <a:pt x="130919" y="191291"/>
                  </a:lnTo>
                  <a:lnTo>
                    <a:pt x="141544" y="188456"/>
                  </a:lnTo>
                  <a:lnTo>
                    <a:pt x="152014" y="184026"/>
                  </a:lnTo>
                  <a:lnTo>
                    <a:pt x="162380" y="178533"/>
                  </a:lnTo>
                  <a:lnTo>
                    <a:pt x="172678" y="172331"/>
                  </a:lnTo>
                  <a:lnTo>
                    <a:pt x="181236" y="165657"/>
                  </a:lnTo>
                  <a:lnTo>
                    <a:pt x="188635" y="158667"/>
                  </a:lnTo>
                  <a:lnTo>
                    <a:pt x="201372" y="144974"/>
                  </a:lnTo>
                  <a:lnTo>
                    <a:pt x="212677" y="133243"/>
                  </a:lnTo>
                  <a:lnTo>
                    <a:pt x="217216" y="126051"/>
                  </a:lnTo>
                  <a:lnTo>
                    <a:pt x="221088" y="117870"/>
                  </a:lnTo>
                  <a:lnTo>
                    <a:pt x="224517" y="109029"/>
                  </a:lnTo>
                  <a:lnTo>
                    <a:pt x="225955" y="100595"/>
                  </a:lnTo>
                  <a:lnTo>
                    <a:pt x="226068" y="92432"/>
                  </a:lnTo>
                  <a:lnTo>
                    <a:pt x="225296" y="84451"/>
                  </a:lnTo>
                  <a:lnTo>
                    <a:pt x="223089" y="77436"/>
                  </a:lnTo>
                  <a:lnTo>
                    <a:pt x="219924" y="71066"/>
                  </a:lnTo>
                  <a:lnTo>
                    <a:pt x="216120" y="65126"/>
                  </a:lnTo>
                  <a:lnTo>
                    <a:pt x="211891" y="59473"/>
                  </a:lnTo>
                  <a:lnTo>
                    <a:pt x="207379" y="54011"/>
                  </a:lnTo>
                  <a:lnTo>
                    <a:pt x="202677" y="48677"/>
                  </a:lnTo>
                  <a:lnTo>
                    <a:pt x="192937" y="38234"/>
                  </a:lnTo>
                  <a:lnTo>
                    <a:pt x="187969" y="33078"/>
                  </a:lnTo>
                  <a:lnTo>
                    <a:pt x="182117" y="28794"/>
                  </a:lnTo>
                  <a:lnTo>
                    <a:pt x="175676" y="25092"/>
                  </a:lnTo>
                  <a:lnTo>
                    <a:pt x="168842" y="21777"/>
                  </a:lnTo>
                  <a:lnTo>
                    <a:pt x="162592" y="19567"/>
                  </a:lnTo>
                  <a:lnTo>
                    <a:pt x="156732" y="18094"/>
                  </a:lnTo>
                  <a:lnTo>
                    <a:pt x="151133" y="17111"/>
                  </a:lnTo>
                  <a:lnTo>
                    <a:pt x="144013" y="16457"/>
                  </a:lnTo>
                  <a:lnTo>
                    <a:pt x="135880" y="16020"/>
                  </a:lnTo>
                  <a:lnTo>
                    <a:pt x="101833" y="151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SMARTInkAnnotation16"/>
            <p:cNvSpPr/>
            <p:nvPr/>
          </p:nvSpPr>
          <p:spPr>
            <a:xfrm>
              <a:off x="2007000" y="2118240"/>
              <a:ext cx="238320" cy="21636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238566" h="216676">
                  <a:moveTo>
                    <a:pt x="172110" y="22393"/>
                  </a:moveTo>
                  <a:lnTo>
                    <a:pt x="164804" y="22393"/>
                  </a:lnTo>
                  <a:lnTo>
                    <a:pt x="164583" y="18348"/>
                  </a:lnTo>
                  <a:lnTo>
                    <a:pt x="163705" y="18003"/>
                  </a:lnTo>
                  <a:lnTo>
                    <a:pt x="162274" y="18620"/>
                  </a:lnTo>
                  <a:lnTo>
                    <a:pt x="160472" y="19877"/>
                  </a:lnTo>
                  <a:lnTo>
                    <a:pt x="153956" y="21275"/>
                  </a:lnTo>
                  <a:lnTo>
                    <a:pt x="149847" y="21648"/>
                  </a:lnTo>
                  <a:lnTo>
                    <a:pt x="145415" y="23590"/>
                  </a:lnTo>
                  <a:lnTo>
                    <a:pt x="140766" y="26578"/>
                  </a:lnTo>
                  <a:lnTo>
                    <a:pt x="135974" y="30263"/>
                  </a:lnTo>
                  <a:lnTo>
                    <a:pt x="130240" y="34413"/>
                  </a:lnTo>
                  <a:lnTo>
                    <a:pt x="110033" y="48344"/>
                  </a:lnTo>
                  <a:lnTo>
                    <a:pt x="95414" y="58198"/>
                  </a:lnTo>
                  <a:lnTo>
                    <a:pt x="87959" y="64043"/>
                  </a:lnTo>
                  <a:lnTo>
                    <a:pt x="80449" y="70480"/>
                  </a:lnTo>
                  <a:lnTo>
                    <a:pt x="72903" y="77311"/>
                  </a:lnTo>
                  <a:lnTo>
                    <a:pt x="57745" y="91674"/>
                  </a:lnTo>
                  <a:lnTo>
                    <a:pt x="27317" y="121592"/>
                  </a:lnTo>
                  <a:lnTo>
                    <a:pt x="20548" y="130012"/>
                  </a:lnTo>
                  <a:lnTo>
                    <a:pt x="14342" y="139012"/>
                  </a:lnTo>
                  <a:lnTo>
                    <a:pt x="8512" y="148399"/>
                  </a:lnTo>
                  <a:lnTo>
                    <a:pt x="4624" y="156350"/>
                  </a:lnTo>
                  <a:lnTo>
                    <a:pt x="2033" y="163345"/>
                  </a:lnTo>
                  <a:lnTo>
                    <a:pt x="305" y="169701"/>
                  </a:lnTo>
                  <a:lnTo>
                    <a:pt x="0" y="175632"/>
                  </a:lnTo>
                  <a:lnTo>
                    <a:pt x="644" y="181279"/>
                  </a:lnTo>
                  <a:lnTo>
                    <a:pt x="1919" y="186737"/>
                  </a:lnTo>
                  <a:lnTo>
                    <a:pt x="3616" y="192069"/>
                  </a:lnTo>
                  <a:lnTo>
                    <a:pt x="5594" y="197317"/>
                  </a:lnTo>
                  <a:lnTo>
                    <a:pt x="7759" y="202509"/>
                  </a:lnTo>
                  <a:lnTo>
                    <a:pt x="11743" y="205970"/>
                  </a:lnTo>
                  <a:lnTo>
                    <a:pt x="16939" y="208278"/>
                  </a:lnTo>
                  <a:lnTo>
                    <a:pt x="47573" y="216027"/>
                  </a:lnTo>
                  <a:lnTo>
                    <a:pt x="56912" y="216675"/>
                  </a:lnTo>
                  <a:lnTo>
                    <a:pt x="66525" y="216261"/>
                  </a:lnTo>
                  <a:lnTo>
                    <a:pt x="76320" y="215138"/>
                  </a:lnTo>
                  <a:lnTo>
                    <a:pt x="87083" y="213543"/>
                  </a:lnTo>
                  <a:lnTo>
                    <a:pt x="110332" y="209513"/>
                  </a:lnTo>
                  <a:lnTo>
                    <a:pt x="121611" y="207253"/>
                  </a:lnTo>
                  <a:lnTo>
                    <a:pt x="143175" y="202484"/>
                  </a:lnTo>
                  <a:lnTo>
                    <a:pt x="153667" y="198334"/>
                  </a:lnTo>
                  <a:lnTo>
                    <a:pt x="164048" y="193027"/>
                  </a:lnTo>
                  <a:lnTo>
                    <a:pt x="174355" y="186949"/>
                  </a:lnTo>
                  <a:lnTo>
                    <a:pt x="192581" y="175680"/>
                  </a:lnTo>
                  <a:lnTo>
                    <a:pt x="200997" y="170304"/>
                  </a:lnTo>
                  <a:lnTo>
                    <a:pt x="208302" y="164181"/>
                  </a:lnTo>
                  <a:lnTo>
                    <a:pt x="214864" y="157558"/>
                  </a:lnTo>
                  <a:lnTo>
                    <a:pt x="220933" y="150603"/>
                  </a:lnTo>
                  <a:lnTo>
                    <a:pt x="225825" y="143426"/>
                  </a:lnTo>
                  <a:lnTo>
                    <a:pt x="229934" y="136102"/>
                  </a:lnTo>
                  <a:lnTo>
                    <a:pt x="233519" y="128679"/>
                  </a:lnTo>
                  <a:lnTo>
                    <a:pt x="235909" y="120343"/>
                  </a:lnTo>
                  <a:lnTo>
                    <a:pt x="237503" y="111400"/>
                  </a:lnTo>
                  <a:lnTo>
                    <a:pt x="238565" y="102051"/>
                  </a:lnTo>
                  <a:lnTo>
                    <a:pt x="238427" y="93279"/>
                  </a:lnTo>
                  <a:lnTo>
                    <a:pt x="237488" y="84890"/>
                  </a:lnTo>
                  <a:lnTo>
                    <a:pt x="236015" y="76758"/>
                  </a:lnTo>
                  <a:lnTo>
                    <a:pt x="234187" y="69643"/>
                  </a:lnTo>
                  <a:lnTo>
                    <a:pt x="232121" y="63206"/>
                  </a:lnTo>
                  <a:lnTo>
                    <a:pt x="229897" y="57222"/>
                  </a:lnTo>
                  <a:lnTo>
                    <a:pt x="225875" y="50692"/>
                  </a:lnTo>
                  <a:lnTo>
                    <a:pt x="220653" y="43799"/>
                  </a:lnTo>
                  <a:lnTo>
                    <a:pt x="214632" y="36664"/>
                  </a:lnTo>
                  <a:lnTo>
                    <a:pt x="208925" y="31060"/>
                  </a:lnTo>
                  <a:lnTo>
                    <a:pt x="203427" y="26478"/>
                  </a:lnTo>
                  <a:lnTo>
                    <a:pt x="198068" y="22576"/>
                  </a:lnTo>
                  <a:lnTo>
                    <a:pt x="191108" y="19129"/>
                  </a:lnTo>
                  <a:lnTo>
                    <a:pt x="183082" y="15983"/>
                  </a:lnTo>
                  <a:lnTo>
                    <a:pt x="174345" y="13040"/>
                  </a:lnTo>
                  <a:lnTo>
                    <a:pt x="165133" y="10231"/>
                  </a:lnTo>
                  <a:lnTo>
                    <a:pt x="145867" y="4852"/>
                  </a:lnTo>
                  <a:lnTo>
                    <a:pt x="136835" y="3079"/>
                  </a:lnTo>
                  <a:lnTo>
                    <a:pt x="128273" y="1897"/>
                  </a:lnTo>
                  <a:lnTo>
                    <a:pt x="120026" y="1109"/>
                  </a:lnTo>
                  <a:lnTo>
                    <a:pt x="112834" y="584"/>
                  </a:lnTo>
                  <a:lnTo>
                    <a:pt x="106346" y="234"/>
                  </a:lnTo>
                  <a:lnTo>
                    <a:pt x="100327" y="0"/>
                  </a:lnTo>
                  <a:lnTo>
                    <a:pt x="94622" y="691"/>
                  </a:lnTo>
                  <a:lnTo>
                    <a:pt x="89125" y="1999"/>
                  </a:lnTo>
                  <a:lnTo>
                    <a:pt x="73050" y="715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SMARTInkAnnotation17"/>
            <p:cNvSpPr/>
            <p:nvPr/>
          </p:nvSpPr>
          <p:spPr>
            <a:xfrm>
              <a:off x="1883880" y="2742480"/>
              <a:ext cx="224640" cy="28080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24806" h="281020">
                  <a:moveTo>
                    <a:pt x="142792" y="7612"/>
                  </a:moveTo>
                  <a:lnTo>
                    <a:pt x="142792" y="20"/>
                  </a:lnTo>
                  <a:lnTo>
                    <a:pt x="138747" y="0"/>
                  </a:lnTo>
                  <a:lnTo>
                    <a:pt x="136709" y="844"/>
                  </a:lnTo>
                  <a:lnTo>
                    <a:pt x="129795" y="6077"/>
                  </a:lnTo>
                  <a:lnTo>
                    <a:pt x="124880" y="10598"/>
                  </a:lnTo>
                  <a:lnTo>
                    <a:pt x="109263" y="25995"/>
                  </a:lnTo>
                  <a:lnTo>
                    <a:pt x="103506" y="32567"/>
                  </a:lnTo>
                  <a:lnTo>
                    <a:pt x="97975" y="39489"/>
                  </a:lnTo>
                  <a:lnTo>
                    <a:pt x="92594" y="46643"/>
                  </a:lnTo>
                  <a:lnTo>
                    <a:pt x="86467" y="53953"/>
                  </a:lnTo>
                  <a:lnTo>
                    <a:pt x="79842" y="61366"/>
                  </a:lnTo>
                  <a:lnTo>
                    <a:pt x="72885" y="68848"/>
                  </a:lnTo>
                  <a:lnTo>
                    <a:pt x="65707" y="77223"/>
                  </a:lnTo>
                  <a:lnTo>
                    <a:pt x="58382" y="86193"/>
                  </a:lnTo>
                  <a:lnTo>
                    <a:pt x="50959" y="95559"/>
                  </a:lnTo>
                  <a:lnTo>
                    <a:pt x="44317" y="105190"/>
                  </a:lnTo>
                  <a:lnTo>
                    <a:pt x="38195" y="114997"/>
                  </a:lnTo>
                  <a:lnTo>
                    <a:pt x="32421" y="124922"/>
                  </a:lnTo>
                  <a:lnTo>
                    <a:pt x="26878" y="135772"/>
                  </a:lnTo>
                  <a:lnTo>
                    <a:pt x="21489" y="147239"/>
                  </a:lnTo>
                  <a:lnTo>
                    <a:pt x="16203" y="159117"/>
                  </a:lnTo>
                  <a:lnTo>
                    <a:pt x="11833" y="169575"/>
                  </a:lnTo>
                  <a:lnTo>
                    <a:pt x="8073" y="179087"/>
                  </a:lnTo>
                  <a:lnTo>
                    <a:pt x="4719" y="187969"/>
                  </a:lnTo>
                  <a:lnTo>
                    <a:pt x="2483" y="197277"/>
                  </a:lnTo>
                  <a:lnTo>
                    <a:pt x="993" y="206869"/>
                  </a:lnTo>
                  <a:lnTo>
                    <a:pt x="0" y="216650"/>
                  </a:lnTo>
                  <a:lnTo>
                    <a:pt x="184" y="224864"/>
                  </a:lnTo>
                  <a:lnTo>
                    <a:pt x="1153" y="232033"/>
                  </a:lnTo>
                  <a:lnTo>
                    <a:pt x="2646" y="238506"/>
                  </a:lnTo>
                  <a:lnTo>
                    <a:pt x="5335" y="244515"/>
                  </a:lnTo>
                  <a:lnTo>
                    <a:pt x="8821" y="250214"/>
                  </a:lnTo>
                  <a:lnTo>
                    <a:pt x="12838" y="255707"/>
                  </a:lnTo>
                  <a:lnTo>
                    <a:pt x="18056" y="261062"/>
                  </a:lnTo>
                  <a:lnTo>
                    <a:pt x="24075" y="266325"/>
                  </a:lnTo>
                  <a:lnTo>
                    <a:pt x="30627" y="271528"/>
                  </a:lnTo>
                  <a:lnTo>
                    <a:pt x="38382" y="274996"/>
                  </a:lnTo>
                  <a:lnTo>
                    <a:pt x="46939" y="277308"/>
                  </a:lnTo>
                  <a:lnTo>
                    <a:pt x="56030" y="278850"/>
                  </a:lnTo>
                  <a:lnTo>
                    <a:pt x="64631" y="279877"/>
                  </a:lnTo>
                  <a:lnTo>
                    <a:pt x="72905" y="280562"/>
                  </a:lnTo>
                  <a:lnTo>
                    <a:pt x="80960" y="281019"/>
                  </a:lnTo>
                  <a:lnTo>
                    <a:pt x="89718" y="280477"/>
                  </a:lnTo>
                  <a:lnTo>
                    <a:pt x="98943" y="279268"/>
                  </a:lnTo>
                  <a:lnTo>
                    <a:pt x="108479" y="277616"/>
                  </a:lnTo>
                  <a:lnTo>
                    <a:pt x="118224" y="275668"/>
                  </a:lnTo>
                  <a:lnTo>
                    <a:pt x="138082" y="271246"/>
                  </a:lnTo>
                  <a:lnTo>
                    <a:pt x="148118" y="267188"/>
                  </a:lnTo>
                  <a:lnTo>
                    <a:pt x="158197" y="261943"/>
                  </a:lnTo>
                  <a:lnTo>
                    <a:pt x="168302" y="255906"/>
                  </a:lnTo>
                  <a:lnTo>
                    <a:pt x="177579" y="249341"/>
                  </a:lnTo>
                  <a:lnTo>
                    <a:pt x="186303" y="242425"/>
                  </a:lnTo>
                  <a:lnTo>
                    <a:pt x="194659" y="235274"/>
                  </a:lnTo>
                  <a:lnTo>
                    <a:pt x="201077" y="227967"/>
                  </a:lnTo>
                  <a:lnTo>
                    <a:pt x="206202" y="220555"/>
                  </a:lnTo>
                  <a:lnTo>
                    <a:pt x="210465" y="213074"/>
                  </a:lnTo>
                  <a:lnTo>
                    <a:pt x="214154" y="204700"/>
                  </a:lnTo>
                  <a:lnTo>
                    <a:pt x="217460" y="195731"/>
                  </a:lnTo>
                  <a:lnTo>
                    <a:pt x="220511" y="186365"/>
                  </a:lnTo>
                  <a:lnTo>
                    <a:pt x="222545" y="177580"/>
                  </a:lnTo>
                  <a:lnTo>
                    <a:pt x="223900" y="169184"/>
                  </a:lnTo>
                  <a:lnTo>
                    <a:pt x="224805" y="161047"/>
                  </a:lnTo>
                  <a:lnTo>
                    <a:pt x="224560" y="152235"/>
                  </a:lnTo>
                  <a:lnTo>
                    <a:pt x="223551" y="142974"/>
                  </a:lnTo>
                  <a:lnTo>
                    <a:pt x="222031" y="133414"/>
                  </a:lnTo>
                  <a:lnTo>
                    <a:pt x="220172" y="125346"/>
                  </a:lnTo>
                  <a:lnTo>
                    <a:pt x="218085" y="118275"/>
                  </a:lnTo>
                  <a:lnTo>
                    <a:pt x="215848" y="111867"/>
                  </a:lnTo>
                  <a:lnTo>
                    <a:pt x="212662" y="105056"/>
                  </a:lnTo>
                  <a:lnTo>
                    <a:pt x="208846" y="97974"/>
                  </a:lnTo>
                  <a:lnTo>
                    <a:pt x="204608" y="90713"/>
                  </a:lnTo>
                  <a:lnTo>
                    <a:pt x="198396" y="85026"/>
                  </a:lnTo>
                  <a:lnTo>
                    <a:pt x="190868" y="80388"/>
                  </a:lnTo>
                  <a:lnTo>
                    <a:pt x="182463" y="76450"/>
                  </a:lnTo>
                  <a:lnTo>
                    <a:pt x="174320" y="72977"/>
                  </a:lnTo>
                  <a:lnTo>
                    <a:pt x="166350" y="69815"/>
                  </a:lnTo>
                  <a:lnTo>
                    <a:pt x="150723" y="64045"/>
                  </a:lnTo>
                  <a:lnTo>
                    <a:pt x="135310" y="58658"/>
                  </a:lnTo>
                  <a:lnTo>
                    <a:pt x="126798" y="56882"/>
                  </a:lnTo>
                  <a:lnTo>
                    <a:pt x="117736" y="55699"/>
                  </a:lnTo>
                  <a:lnTo>
                    <a:pt x="108308" y="54910"/>
                  </a:lnTo>
                  <a:lnTo>
                    <a:pt x="101176" y="55230"/>
                  </a:lnTo>
                  <a:lnTo>
                    <a:pt x="95575" y="56291"/>
                  </a:lnTo>
                  <a:lnTo>
                    <a:pt x="81832" y="609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SMARTInkAnnotation18"/>
            <p:cNvSpPr/>
            <p:nvPr/>
          </p:nvSpPr>
          <p:spPr>
            <a:xfrm>
              <a:off x="2012040" y="3474000"/>
              <a:ext cx="233640" cy="28008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233892" h="280289">
                  <a:moveTo>
                    <a:pt x="98577" y="30480"/>
                  </a:moveTo>
                  <a:lnTo>
                    <a:pt x="91271" y="30480"/>
                  </a:lnTo>
                  <a:lnTo>
                    <a:pt x="84089" y="36563"/>
                  </a:lnTo>
                  <a:lnTo>
                    <a:pt x="80452" y="38769"/>
                  </a:lnTo>
                  <a:lnTo>
                    <a:pt x="76334" y="41086"/>
                  </a:lnTo>
                  <a:lnTo>
                    <a:pt x="67242" y="45918"/>
                  </a:lnTo>
                  <a:lnTo>
                    <a:pt x="62447" y="48392"/>
                  </a:lnTo>
                  <a:lnTo>
                    <a:pt x="58404" y="51735"/>
                  </a:lnTo>
                  <a:lnTo>
                    <a:pt x="51653" y="59964"/>
                  </a:lnTo>
                  <a:lnTo>
                    <a:pt x="43573" y="71524"/>
                  </a:lnTo>
                  <a:lnTo>
                    <a:pt x="24588" y="99642"/>
                  </a:lnTo>
                  <a:lnTo>
                    <a:pt x="20464" y="107068"/>
                  </a:lnTo>
                  <a:lnTo>
                    <a:pt x="16869" y="114558"/>
                  </a:lnTo>
                  <a:lnTo>
                    <a:pt x="13625" y="122093"/>
                  </a:lnTo>
                  <a:lnTo>
                    <a:pt x="10616" y="129655"/>
                  </a:lnTo>
                  <a:lnTo>
                    <a:pt x="5014" y="144831"/>
                  </a:lnTo>
                  <a:lnTo>
                    <a:pt x="3182" y="152434"/>
                  </a:lnTo>
                  <a:lnTo>
                    <a:pt x="1960" y="160043"/>
                  </a:lnTo>
                  <a:lnTo>
                    <a:pt x="1146" y="167655"/>
                  </a:lnTo>
                  <a:lnTo>
                    <a:pt x="603" y="176117"/>
                  </a:lnTo>
                  <a:lnTo>
                    <a:pt x="241" y="185145"/>
                  </a:lnTo>
                  <a:lnTo>
                    <a:pt x="0" y="194550"/>
                  </a:lnTo>
                  <a:lnTo>
                    <a:pt x="1532" y="203360"/>
                  </a:lnTo>
                  <a:lnTo>
                    <a:pt x="4247" y="211773"/>
                  </a:lnTo>
                  <a:lnTo>
                    <a:pt x="7751" y="219922"/>
                  </a:lnTo>
                  <a:lnTo>
                    <a:pt x="11779" y="227048"/>
                  </a:lnTo>
                  <a:lnTo>
                    <a:pt x="16159" y="233492"/>
                  </a:lnTo>
                  <a:lnTo>
                    <a:pt x="20771" y="239481"/>
                  </a:lnTo>
                  <a:lnTo>
                    <a:pt x="26387" y="245168"/>
                  </a:lnTo>
                  <a:lnTo>
                    <a:pt x="32670" y="250652"/>
                  </a:lnTo>
                  <a:lnTo>
                    <a:pt x="39399" y="256001"/>
                  </a:lnTo>
                  <a:lnTo>
                    <a:pt x="47272" y="260414"/>
                  </a:lnTo>
                  <a:lnTo>
                    <a:pt x="55907" y="264203"/>
                  </a:lnTo>
                  <a:lnTo>
                    <a:pt x="65050" y="267575"/>
                  </a:lnTo>
                  <a:lnTo>
                    <a:pt x="74533" y="270670"/>
                  </a:lnTo>
                  <a:lnTo>
                    <a:pt x="84241" y="273580"/>
                  </a:lnTo>
                  <a:lnTo>
                    <a:pt x="94100" y="276367"/>
                  </a:lnTo>
                  <a:lnTo>
                    <a:pt x="104059" y="278225"/>
                  </a:lnTo>
                  <a:lnTo>
                    <a:pt x="114085" y="279463"/>
                  </a:lnTo>
                  <a:lnTo>
                    <a:pt x="124155" y="280288"/>
                  </a:lnTo>
                  <a:lnTo>
                    <a:pt x="134256" y="279992"/>
                  </a:lnTo>
                  <a:lnTo>
                    <a:pt x="144376" y="278948"/>
                  </a:lnTo>
                  <a:lnTo>
                    <a:pt x="154510" y="277405"/>
                  </a:lnTo>
                  <a:lnTo>
                    <a:pt x="162959" y="274684"/>
                  </a:lnTo>
                  <a:lnTo>
                    <a:pt x="170285" y="271175"/>
                  </a:lnTo>
                  <a:lnTo>
                    <a:pt x="176862" y="267144"/>
                  </a:lnTo>
                  <a:lnTo>
                    <a:pt x="184634" y="262763"/>
                  </a:lnTo>
                  <a:lnTo>
                    <a:pt x="202300" y="253379"/>
                  </a:lnTo>
                  <a:lnTo>
                    <a:pt x="209212" y="246813"/>
                  </a:lnTo>
                  <a:lnTo>
                    <a:pt x="214667" y="239048"/>
                  </a:lnTo>
                  <a:lnTo>
                    <a:pt x="219151" y="230486"/>
                  </a:lnTo>
                  <a:lnTo>
                    <a:pt x="222986" y="221390"/>
                  </a:lnTo>
                  <a:lnTo>
                    <a:pt x="226390" y="211941"/>
                  </a:lnTo>
                  <a:lnTo>
                    <a:pt x="229506" y="202254"/>
                  </a:lnTo>
                  <a:lnTo>
                    <a:pt x="231583" y="192409"/>
                  </a:lnTo>
                  <a:lnTo>
                    <a:pt x="232967" y="182459"/>
                  </a:lnTo>
                  <a:lnTo>
                    <a:pt x="233891" y="172440"/>
                  </a:lnTo>
                  <a:lnTo>
                    <a:pt x="232813" y="162373"/>
                  </a:lnTo>
                  <a:lnTo>
                    <a:pt x="230401" y="152276"/>
                  </a:lnTo>
                  <a:lnTo>
                    <a:pt x="227100" y="142157"/>
                  </a:lnTo>
                  <a:lnTo>
                    <a:pt x="222359" y="132025"/>
                  </a:lnTo>
                  <a:lnTo>
                    <a:pt x="216658" y="121883"/>
                  </a:lnTo>
                  <a:lnTo>
                    <a:pt x="210318" y="111736"/>
                  </a:lnTo>
                  <a:lnTo>
                    <a:pt x="203551" y="101584"/>
                  </a:lnTo>
                  <a:lnTo>
                    <a:pt x="189259" y="81273"/>
                  </a:lnTo>
                  <a:lnTo>
                    <a:pt x="181045" y="71962"/>
                  </a:lnTo>
                  <a:lnTo>
                    <a:pt x="172183" y="63215"/>
                  </a:lnTo>
                  <a:lnTo>
                    <a:pt x="162887" y="54843"/>
                  </a:lnTo>
                  <a:lnTo>
                    <a:pt x="153304" y="47569"/>
                  </a:lnTo>
                  <a:lnTo>
                    <a:pt x="143528" y="41026"/>
                  </a:lnTo>
                  <a:lnTo>
                    <a:pt x="133624" y="34970"/>
                  </a:lnTo>
                  <a:lnTo>
                    <a:pt x="123635" y="29241"/>
                  </a:lnTo>
                  <a:lnTo>
                    <a:pt x="103505" y="18358"/>
                  </a:lnTo>
                  <a:lnTo>
                    <a:pt x="93396" y="14779"/>
                  </a:lnTo>
                  <a:lnTo>
                    <a:pt x="83269" y="12393"/>
                  </a:lnTo>
                  <a:lnTo>
                    <a:pt x="73132" y="10802"/>
                  </a:lnTo>
                  <a:lnTo>
                    <a:pt x="63834" y="8895"/>
                  </a:lnTo>
                  <a:lnTo>
                    <a:pt x="55095" y="6776"/>
                  </a:lnTo>
                  <a:lnTo>
                    <a:pt x="46729" y="4518"/>
                  </a:lnTo>
                  <a:lnTo>
                    <a:pt x="39458" y="3012"/>
                  </a:lnTo>
                  <a:lnTo>
                    <a:pt x="32918" y="2008"/>
                  </a:lnTo>
                  <a:lnTo>
                    <a:pt x="14757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SMARTInkAnnotation19"/>
            <p:cNvSpPr/>
            <p:nvPr/>
          </p:nvSpPr>
          <p:spPr>
            <a:xfrm>
              <a:off x="5790960" y="1416600"/>
              <a:ext cx="136800" cy="75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7133" h="7621">
                  <a:moveTo>
                    <a:pt x="7592" y="7620"/>
                  </a:moveTo>
                  <a:lnTo>
                    <a:pt x="0" y="7620"/>
                  </a:lnTo>
                  <a:lnTo>
                    <a:pt x="40063" y="7620"/>
                  </a:lnTo>
                  <a:lnTo>
                    <a:pt x="47866" y="6773"/>
                  </a:lnTo>
                  <a:lnTo>
                    <a:pt x="56454" y="5362"/>
                  </a:lnTo>
                  <a:lnTo>
                    <a:pt x="65567" y="3575"/>
                  </a:lnTo>
                  <a:lnTo>
                    <a:pt x="75029" y="2383"/>
                  </a:lnTo>
                  <a:lnTo>
                    <a:pt x="84723" y="1589"/>
                  </a:lnTo>
                  <a:lnTo>
                    <a:pt x="102832" y="706"/>
                  </a:lnTo>
                  <a:lnTo>
                    <a:pt x="121701" y="209"/>
                  </a:lnTo>
                  <a:lnTo>
                    <a:pt x="13713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SMARTInkAnnotation20"/>
            <p:cNvSpPr/>
            <p:nvPr/>
          </p:nvSpPr>
          <p:spPr>
            <a:xfrm>
              <a:off x="6103440" y="1325520"/>
              <a:ext cx="237960" cy="2887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238072" h="289074">
                  <a:moveTo>
                    <a:pt x="15241" y="15237"/>
                  </a:moveTo>
                  <a:lnTo>
                    <a:pt x="21801" y="15237"/>
                  </a:lnTo>
                  <a:lnTo>
                    <a:pt x="28734" y="10000"/>
                  </a:lnTo>
                  <a:lnTo>
                    <a:pt x="33373" y="8676"/>
                  </a:lnTo>
                  <a:lnTo>
                    <a:pt x="40515" y="5830"/>
                  </a:lnTo>
                  <a:lnTo>
                    <a:pt x="44790" y="3886"/>
                  </a:lnTo>
                  <a:lnTo>
                    <a:pt x="50180" y="2590"/>
                  </a:lnTo>
                  <a:lnTo>
                    <a:pt x="56314" y="1725"/>
                  </a:lnTo>
                  <a:lnTo>
                    <a:pt x="62943" y="1149"/>
                  </a:lnTo>
                  <a:lnTo>
                    <a:pt x="69055" y="765"/>
                  </a:lnTo>
                  <a:lnTo>
                    <a:pt x="80362" y="339"/>
                  </a:lnTo>
                  <a:lnTo>
                    <a:pt x="120880" y="42"/>
                  </a:lnTo>
                  <a:lnTo>
                    <a:pt x="181761" y="0"/>
                  </a:lnTo>
                  <a:lnTo>
                    <a:pt x="188061" y="846"/>
                  </a:lnTo>
                  <a:lnTo>
                    <a:pt x="193107" y="2256"/>
                  </a:lnTo>
                  <a:lnTo>
                    <a:pt x="197319" y="4043"/>
                  </a:lnTo>
                  <a:lnTo>
                    <a:pt x="206512" y="8286"/>
                  </a:lnTo>
                  <a:lnTo>
                    <a:pt x="211336" y="10603"/>
                  </a:lnTo>
                  <a:lnTo>
                    <a:pt x="214550" y="12995"/>
                  </a:lnTo>
                  <a:lnTo>
                    <a:pt x="216693" y="15436"/>
                  </a:lnTo>
                  <a:lnTo>
                    <a:pt x="218122" y="17909"/>
                  </a:lnTo>
                  <a:lnTo>
                    <a:pt x="219710" y="22916"/>
                  </a:lnTo>
                  <a:lnTo>
                    <a:pt x="220134" y="25437"/>
                  </a:lnTo>
                  <a:lnTo>
                    <a:pt x="219569" y="27963"/>
                  </a:lnTo>
                  <a:lnTo>
                    <a:pt x="216684" y="33029"/>
                  </a:lnTo>
                  <a:lnTo>
                    <a:pt x="213036" y="36412"/>
                  </a:lnTo>
                  <a:lnTo>
                    <a:pt x="208064" y="40360"/>
                  </a:lnTo>
                  <a:lnTo>
                    <a:pt x="202210" y="44686"/>
                  </a:lnTo>
                  <a:lnTo>
                    <a:pt x="188931" y="54008"/>
                  </a:lnTo>
                  <a:lnTo>
                    <a:pt x="181834" y="58864"/>
                  </a:lnTo>
                  <a:lnTo>
                    <a:pt x="173716" y="62948"/>
                  </a:lnTo>
                  <a:lnTo>
                    <a:pt x="164918" y="66518"/>
                  </a:lnTo>
                  <a:lnTo>
                    <a:pt x="155665" y="69745"/>
                  </a:lnTo>
                  <a:lnTo>
                    <a:pt x="146110" y="73589"/>
                  </a:lnTo>
                  <a:lnTo>
                    <a:pt x="136353" y="77845"/>
                  </a:lnTo>
                  <a:lnTo>
                    <a:pt x="126463" y="82376"/>
                  </a:lnTo>
                  <a:lnTo>
                    <a:pt x="118175" y="87089"/>
                  </a:lnTo>
                  <a:lnTo>
                    <a:pt x="110957" y="91925"/>
                  </a:lnTo>
                  <a:lnTo>
                    <a:pt x="104451" y="96843"/>
                  </a:lnTo>
                  <a:lnTo>
                    <a:pt x="90450" y="106822"/>
                  </a:lnTo>
                  <a:lnTo>
                    <a:pt x="83160" y="111854"/>
                  </a:lnTo>
                  <a:lnTo>
                    <a:pt x="77453" y="116055"/>
                  </a:lnTo>
                  <a:lnTo>
                    <a:pt x="72802" y="119702"/>
                  </a:lnTo>
                  <a:lnTo>
                    <a:pt x="68855" y="122980"/>
                  </a:lnTo>
                  <a:lnTo>
                    <a:pt x="66224" y="126013"/>
                  </a:lnTo>
                  <a:lnTo>
                    <a:pt x="64469" y="128881"/>
                  </a:lnTo>
                  <a:lnTo>
                    <a:pt x="63299" y="131640"/>
                  </a:lnTo>
                  <a:lnTo>
                    <a:pt x="63367" y="134325"/>
                  </a:lnTo>
                  <a:lnTo>
                    <a:pt x="64257" y="136963"/>
                  </a:lnTo>
                  <a:lnTo>
                    <a:pt x="65699" y="139568"/>
                  </a:lnTo>
                  <a:lnTo>
                    <a:pt x="69199" y="142151"/>
                  </a:lnTo>
                  <a:lnTo>
                    <a:pt x="74073" y="144720"/>
                  </a:lnTo>
                  <a:lnTo>
                    <a:pt x="79862" y="147279"/>
                  </a:lnTo>
                  <a:lnTo>
                    <a:pt x="90810" y="152380"/>
                  </a:lnTo>
                  <a:lnTo>
                    <a:pt x="96101" y="154926"/>
                  </a:lnTo>
                  <a:lnTo>
                    <a:pt x="103013" y="156623"/>
                  </a:lnTo>
                  <a:lnTo>
                    <a:pt x="111010" y="157754"/>
                  </a:lnTo>
                  <a:lnTo>
                    <a:pt x="119726" y="158509"/>
                  </a:lnTo>
                  <a:lnTo>
                    <a:pt x="128925" y="159011"/>
                  </a:lnTo>
                  <a:lnTo>
                    <a:pt x="148176" y="159570"/>
                  </a:lnTo>
                  <a:lnTo>
                    <a:pt x="158051" y="160566"/>
                  </a:lnTo>
                  <a:lnTo>
                    <a:pt x="168021" y="162076"/>
                  </a:lnTo>
                  <a:lnTo>
                    <a:pt x="178054" y="163930"/>
                  </a:lnTo>
                  <a:lnTo>
                    <a:pt x="186436" y="166012"/>
                  </a:lnTo>
                  <a:lnTo>
                    <a:pt x="193717" y="168247"/>
                  </a:lnTo>
                  <a:lnTo>
                    <a:pt x="214313" y="175438"/>
                  </a:lnTo>
                  <a:lnTo>
                    <a:pt x="221616" y="177918"/>
                  </a:lnTo>
                  <a:lnTo>
                    <a:pt x="227331" y="180417"/>
                  </a:lnTo>
                  <a:lnTo>
                    <a:pt x="231987" y="182931"/>
                  </a:lnTo>
                  <a:lnTo>
                    <a:pt x="235938" y="185453"/>
                  </a:lnTo>
                  <a:lnTo>
                    <a:pt x="237725" y="187981"/>
                  </a:lnTo>
                  <a:lnTo>
                    <a:pt x="238071" y="190513"/>
                  </a:lnTo>
                  <a:lnTo>
                    <a:pt x="237454" y="193048"/>
                  </a:lnTo>
                  <a:lnTo>
                    <a:pt x="234510" y="198122"/>
                  </a:lnTo>
                  <a:lnTo>
                    <a:pt x="232540" y="200660"/>
                  </a:lnTo>
                  <a:lnTo>
                    <a:pt x="228687" y="204046"/>
                  </a:lnTo>
                  <a:lnTo>
                    <a:pt x="223578" y="207996"/>
                  </a:lnTo>
                  <a:lnTo>
                    <a:pt x="217632" y="212323"/>
                  </a:lnTo>
                  <a:lnTo>
                    <a:pt x="211128" y="216054"/>
                  </a:lnTo>
                  <a:lnTo>
                    <a:pt x="204252" y="219389"/>
                  </a:lnTo>
                  <a:lnTo>
                    <a:pt x="197128" y="222458"/>
                  </a:lnTo>
                  <a:lnTo>
                    <a:pt x="180181" y="230384"/>
                  </a:lnTo>
                  <a:lnTo>
                    <a:pt x="111602" y="264262"/>
                  </a:lnTo>
                  <a:lnTo>
                    <a:pt x="102342" y="268460"/>
                  </a:lnTo>
                  <a:lnTo>
                    <a:pt x="93628" y="272106"/>
                  </a:lnTo>
                  <a:lnTo>
                    <a:pt x="85279" y="275383"/>
                  </a:lnTo>
                  <a:lnTo>
                    <a:pt x="76326" y="278414"/>
                  </a:lnTo>
                  <a:lnTo>
                    <a:pt x="66970" y="281282"/>
                  </a:lnTo>
                  <a:lnTo>
                    <a:pt x="57347" y="284040"/>
                  </a:lnTo>
                  <a:lnTo>
                    <a:pt x="49239" y="285879"/>
                  </a:lnTo>
                  <a:lnTo>
                    <a:pt x="42139" y="287105"/>
                  </a:lnTo>
                  <a:lnTo>
                    <a:pt x="35713" y="287922"/>
                  </a:lnTo>
                  <a:lnTo>
                    <a:pt x="29735" y="288467"/>
                  </a:lnTo>
                  <a:lnTo>
                    <a:pt x="24057" y="288831"/>
                  </a:lnTo>
                  <a:lnTo>
                    <a:pt x="18578" y="289073"/>
                  </a:lnTo>
                  <a:lnTo>
                    <a:pt x="14079" y="288387"/>
                  </a:lnTo>
                  <a:lnTo>
                    <a:pt x="6822" y="285368"/>
                  </a:lnTo>
                  <a:lnTo>
                    <a:pt x="2022" y="282954"/>
                  </a:lnTo>
                  <a:lnTo>
                    <a:pt x="1348" y="281768"/>
                  </a:lnTo>
                  <a:lnTo>
                    <a:pt x="0" y="27431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SMARTInkAnnotation21"/>
            <p:cNvSpPr/>
            <p:nvPr/>
          </p:nvSpPr>
          <p:spPr>
            <a:xfrm>
              <a:off x="6423480" y="1378800"/>
              <a:ext cx="235800" cy="22464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235942" h="224978">
                  <a:moveTo>
                    <a:pt x="68447" y="0"/>
                  </a:moveTo>
                  <a:lnTo>
                    <a:pt x="75753" y="0"/>
                  </a:lnTo>
                  <a:lnTo>
                    <a:pt x="76004" y="6084"/>
                  </a:lnTo>
                  <a:lnTo>
                    <a:pt x="76040" y="10606"/>
                  </a:lnTo>
                  <a:lnTo>
                    <a:pt x="75202" y="12997"/>
                  </a:lnTo>
                  <a:lnTo>
                    <a:pt x="72014" y="17912"/>
                  </a:lnTo>
                  <a:lnTo>
                    <a:pt x="69978" y="21255"/>
                  </a:lnTo>
                  <a:lnTo>
                    <a:pt x="67775" y="25177"/>
                  </a:lnTo>
                  <a:lnTo>
                    <a:pt x="63068" y="34050"/>
                  </a:lnTo>
                  <a:lnTo>
                    <a:pt x="50628" y="58556"/>
                  </a:lnTo>
                  <a:lnTo>
                    <a:pt x="47254" y="63590"/>
                  </a:lnTo>
                  <a:lnTo>
                    <a:pt x="43311" y="68640"/>
                  </a:lnTo>
                  <a:lnTo>
                    <a:pt x="38990" y="73700"/>
                  </a:lnTo>
                  <a:lnTo>
                    <a:pt x="35262" y="78767"/>
                  </a:lnTo>
                  <a:lnTo>
                    <a:pt x="31930" y="83838"/>
                  </a:lnTo>
                  <a:lnTo>
                    <a:pt x="28862" y="88912"/>
                  </a:lnTo>
                  <a:lnTo>
                    <a:pt x="25970" y="93988"/>
                  </a:lnTo>
                  <a:lnTo>
                    <a:pt x="20500" y="104144"/>
                  </a:lnTo>
                  <a:lnTo>
                    <a:pt x="17855" y="108376"/>
                  </a:lnTo>
                  <a:lnTo>
                    <a:pt x="12659" y="115336"/>
                  </a:lnTo>
                  <a:lnTo>
                    <a:pt x="10088" y="117531"/>
                  </a:lnTo>
                  <a:lnTo>
                    <a:pt x="7528" y="118994"/>
                  </a:lnTo>
                  <a:lnTo>
                    <a:pt x="4974" y="119969"/>
                  </a:lnTo>
                  <a:lnTo>
                    <a:pt x="3272" y="121466"/>
                  </a:lnTo>
                  <a:lnTo>
                    <a:pt x="2136" y="123311"/>
                  </a:lnTo>
                  <a:lnTo>
                    <a:pt x="315" y="128310"/>
                  </a:lnTo>
                  <a:lnTo>
                    <a:pt x="165" y="127873"/>
                  </a:lnTo>
                  <a:lnTo>
                    <a:pt x="0" y="125130"/>
                  </a:lnTo>
                  <a:lnTo>
                    <a:pt x="802" y="123214"/>
                  </a:lnTo>
                  <a:lnTo>
                    <a:pt x="3951" y="118826"/>
                  </a:lnTo>
                  <a:lnTo>
                    <a:pt x="10431" y="114054"/>
                  </a:lnTo>
                  <a:lnTo>
                    <a:pt x="14530" y="111596"/>
                  </a:lnTo>
                  <a:lnTo>
                    <a:pt x="18956" y="107417"/>
                  </a:lnTo>
                  <a:lnTo>
                    <a:pt x="23599" y="102091"/>
                  </a:lnTo>
                  <a:lnTo>
                    <a:pt x="28388" y="96001"/>
                  </a:lnTo>
                  <a:lnTo>
                    <a:pt x="33275" y="90247"/>
                  </a:lnTo>
                  <a:lnTo>
                    <a:pt x="38225" y="84718"/>
                  </a:lnTo>
                  <a:lnTo>
                    <a:pt x="43220" y="79339"/>
                  </a:lnTo>
                  <a:lnTo>
                    <a:pt x="49089" y="74059"/>
                  </a:lnTo>
                  <a:lnTo>
                    <a:pt x="55541" y="68846"/>
                  </a:lnTo>
                  <a:lnTo>
                    <a:pt x="62384" y="63677"/>
                  </a:lnTo>
                  <a:lnTo>
                    <a:pt x="69485" y="59385"/>
                  </a:lnTo>
                  <a:lnTo>
                    <a:pt x="76758" y="55677"/>
                  </a:lnTo>
                  <a:lnTo>
                    <a:pt x="84149" y="52358"/>
                  </a:lnTo>
                  <a:lnTo>
                    <a:pt x="91614" y="50145"/>
                  </a:lnTo>
                  <a:lnTo>
                    <a:pt x="99132" y="48670"/>
                  </a:lnTo>
                  <a:lnTo>
                    <a:pt x="106684" y="47687"/>
                  </a:lnTo>
                  <a:lnTo>
                    <a:pt x="114258" y="47031"/>
                  </a:lnTo>
                  <a:lnTo>
                    <a:pt x="121848" y="46594"/>
                  </a:lnTo>
                  <a:lnTo>
                    <a:pt x="129448" y="46303"/>
                  </a:lnTo>
                  <a:lnTo>
                    <a:pt x="137054" y="46955"/>
                  </a:lnTo>
                  <a:lnTo>
                    <a:pt x="144666" y="48237"/>
                  </a:lnTo>
                  <a:lnTo>
                    <a:pt x="152279" y="49938"/>
                  </a:lnTo>
                  <a:lnTo>
                    <a:pt x="159049" y="51919"/>
                  </a:lnTo>
                  <a:lnTo>
                    <a:pt x="165255" y="54086"/>
                  </a:lnTo>
                  <a:lnTo>
                    <a:pt x="171086" y="56377"/>
                  </a:lnTo>
                  <a:lnTo>
                    <a:pt x="177513" y="59598"/>
                  </a:lnTo>
                  <a:lnTo>
                    <a:pt x="184338" y="63439"/>
                  </a:lnTo>
                  <a:lnTo>
                    <a:pt x="191428" y="67693"/>
                  </a:lnTo>
                  <a:lnTo>
                    <a:pt x="197848" y="72222"/>
                  </a:lnTo>
                  <a:lnTo>
                    <a:pt x="203820" y="76934"/>
                  </a:lnTo>
                  <a:lnTo>
                    <a:pt x="209496" y="81770"/>
                  </a:lnTo>
                  <a:lnTo>
                    <a:pt x="214127" y="87533"/>
                  </a:lnTo>
                  <a:lnTo>
                    <a:pt x="218061" y="93915"/>
                  </a:lnTo>
                  <a:lnTo>
                    <a:pt x="221529" y="100710"/>
                  </a:lnTo>
                  <a:lnTo>
                    <a:pt x="224689" y="107780"/>
                  </a:lnTo>
                  <a:lnTo>
                    <a:pt x="227641" y="115034"/>
                  </a:lnTo>
                  <a:lnTo>
                    <a:pt x="230457" y="122409"/>
                  </a:lnTo>
                  <a:lnTo>
                    <a:pt x="232334" y="129866"/>
                  </a:lnTo>
                  <a:lnTo>
                    <a:pt x="233585" y="137377"/>
                  </a:lnTo>
                  <a:lnTo>
                    <a:pt x="234418" y="144925"/>
                  </a:lnTo>
                  <a:lnTo>
                    <a:pt x="234975" y="152497"/>
                  </a:lnTo>
                  <a:lnTo>
                    <a:pt x="235345" y="160084"/>
                  </a:lnTo>
                  <a:lnTo>
                    <a:pt x="235758" y="174442"/>
                  </a:lnTo>
                  <a:lnTo>
                    <a:pt x="235941" y="186468"/>
                  </a:lnTo>
                  <a:lnTo>
                    <a:pt x="235143" y="192045"/>
                  </a:lnTo>
                  <a:lnTo>
                    <a:pt x="233765" y="197457"/>
                  </a:lnTo>
                  <a:lnTo>
                    <a:pt x="231999" y="202758"/>
                  </a:lnTo>
                  <a:lnTo>
                    <a:pt x="229975" y="207138"/>
                  </a:lnTo>
                  <a:lnTo>
                    <a:pt x="227779" y="210906"/>
                  </a:lnTo>
                  <a:lnTo>
                    <a:pt x="225469" y="214264"/>
                  </a:lnTo>
                  <a:lnTo>
                    <a:pt x="223082" y="216503"/>
                  </a:lnTo>
                  <a:lnTo>
                    <a:pt x="220643" y="217995"/>
                  </a:lnTo>
                  <a:lnTo>
                    <a:pt x="218171" y="218990"/>
                  </a:lnTo>
                  <a:lnTo>
                    <a:pt x="213167" y="222353"/>
                  </a:lnTo>
                  <a:lnTo>
                    <a:pt x="210647" y="224436"/>
                  </a:lnTo>
                  <a:lnTo>
                    <a:pt x="207274" y="224977"/>
                  </a:lnTo>
                  <a:lnTo>
                    <a:pt x="203332" y="224492"/>
                  </a:lnTo>
                  <a:lnTo>
                    <a:pt x="199011" y="223321"/>
                  </a:lnTo>
                  <a:lnTo>
                    <a:pt x="191950" y="219763"/>
                  </a:lnTo>
                  <a:lnTo>
                    <a:pt x="185991" y="215359"/>
                  </a:lnTo>
                  <a:lnTo>
                    <a:pt x="183216" y="212999"/>
                  </a:lnTo>
                  <a:lnTo>
                    <a:pt x="175127" y="2057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SMARTInkAnnotation22"/>
            <p:cNvSpPr/>
            <p:nvPr/>
          </p:nvSpPr>
          <p:spPr>
            <a:xfrm>
              <a:off x="6491880" y="1340640"/>
              <a:ext cx="281880" cy="2268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81940" h="22766">
                  <a:moveTo>
                    <a:pt x="0" y="22765"/>
                  </a:moveTo>
                  <a:lnTo>
                    <a:pt x="6560" y="16204"/>
                  </a:lnTo>
                  <a:lnTo>
                    <a:pt x="9406" y="15616"/>
                  </a:lnTo>
                  <a:lnTo>
                    <a:pt x="11351" y="15459"/>
                  </a:lnTo>
                  <a:lnTo>
                    <a:pt x="14340" y="14508"/>
                  </a:lnTo>
                  <a:lnTo>
                    <a:pt x="18027" y="13027"/>
                  </a:lnTo>
                  <a:lnTo>
                    <a:pt x="22178" y="11193"/>
                  </a:lnTo>
                  <a:lnTo>
                    <a:pt x="26639" y="9970"/>
                  </a:lnTo>
                  <a:lnTo>
                    <a:pt x="31305" y="9155"/>
                  </a:lnTo>
                  <a:lnTo>
                    <a:pt x="36110" y="8612"/>
                  </a:lnTo>
                  <a:lnTo>
                    <a:pt x="42700" y="8249"/>
                  </a:lnTo>
                  <a:lnTo>
                    <a:pt x="59052" y="7847"/>
                  </a:lnTo>
                  <a:lnTo>
                    <a:pt x="68155" y="6893"/>
                  </a:lnTo>
                  <a:lnTo>
                    <a:pt x="77610" y="5410"/>
                  </a:lnTo>
                  <a:lnTo>
                    <a:pt x="87300" y="3575"/>
                  </a:lnTo>
                  <a:lnTo>
                    <a:pt x="97147" y="2352"/>
                  </a:lnTo>
                  <a:lnTo>
                    <a:pt x="107097" y="1536"/>
                  </a:lnTo>
                  <a:lnTo>
                    <a:pt x="117118" y="992"/>
                  </a:lnTo>
                  <a:lnTo>
                    <a:pt x="139540" y="388"/>
                  </a:lnTo>
                  <a:lnTo>
                    <a:pt x="184385" y="0"/>
                  </a:lnTo>
                  <a:lnTo>
                    <a:pt x="194890" y="815"/>
                  </a:lnTo>
                  <a:lnTo>
                    <a:pt x="205280" y="2205"/>
                  </a:lnTo>
                  <a:lnTo>
                    <a:pt x="215592" y="3978"/>
                  </a:lnTo>
                  <a:lnTo>
                    <a:pt x="225009" y="5160"/>
                  </a:lnTo>
                  <a:lnTo>
                    <a:pt x="233825" y="5949"/>
                  </a:lnTo>
                  <a:lnTo>
                    <a:pt x="242243" y="6474"/>
                  </a:lnTo>
                  <a:lnTo>
                    <a:pt x="256112" y="7058"/>
                  </a:lnTo>
                  <a:lnTo>
                    <a:pt x="281939" y="752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MARTInkAnnotation23"/>
            <p:cNvSpPr/>
            <p:nvPr/>
          </p:nvSpPr>
          <p:spPr>
            <a:xfrm>
              <a:off x="5684400" y="2216880"/>
              <a:ext cx="182880" cy="756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82881" h="7621">
                  <a:moveTo>
                    <a:pt x="0" y="7620"/>
                  </a:moveTo>
                  <a:lnTo>
                    <a:pt x="21958" y="7620"/>
                  </a:lnTo>
                  <a:lnTo>
                    <a:pt x="27339" y="6773"/>
                  </a:lnTo>
                  <a:lnTo>
                    <a:pt x="33466" y="5362"/>
                  </a:lnTo>
                  <a:lnTo>
                    <a:pt x="40091" y="3575"/>
                  </a:lnTo>
                  <a:lnTo>
                    <a:pt x="47047" y="2383"/>
                  </a:lnTo>
                  <a:lnTo>
                    <a:pt x="54225" y="1589"/>
                  </a:lnTo>
                  <a:lnTo>
                    <a:pt x="61550" y="1059"/>
                  </a:lnTo>
                  <a:lnTo>
                    <a:pt x="68973" y="706"/>
                  </a:lnTo>
                  <a:lnTo>
                    <a:pt x="83995" y="314"/>
                  </a:lnTo>
                  <a:lnTo>
                    <a:pt x="1828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SMARTInkAnnotation24"/>
            <p:cNvSpPr/>
            <p:nvPr/>
          </p:nvSpPr>
          <p:spPr>
            <a:xfrm>
              <a:off x="5951520" y="2079720"/>
              <a:ext cx="174600" cy="13644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74656" h="136684">
                  <a:moveTo>
                    <a:pt x="83216" y="7592"/>
                  </a:moveTo>
                  <a:lnTo>
                    <a:pt x="89776" y="1031"/>
                  </a:lnTo>
                  <a:lnTo>
                    <a:pt x="92622" y="443"/>
                  </a:lnTo>
                  <a:lnTo>
                    <a:pt x="98113" y="0"/>
                  </a:lnTo>
                  <a:lnTo>
                    <a:pt x="98354" y="4025"/>
                  </a:lnTo>
                  <a:lnTo>
                    <a:pt x="97541" y="6061"/>
                  </a:lnTo>
                  <a:lnTo>
                    <a:pt x="96152" y="8265"/>
                  </a:lnTo>
                  <a:lnTo>
                    <a:pt x="94380" y="10580"/>
                  </a:lnTo>
                  <a:lnTo>
                    <a:pt x="92352" y="12971"/>
                  </a:lnTo>
                  <a:lnTo>
                    <a:pt x="90153" y="15411"/>
                  </a:lnTo>
                  <a:lnTo>
                    <a:pt x="85452" y="20380"/>
                  </a:lnTo>
                  <a:lnTo>
                    <a:pt x="80541" y="25411"/>
                  </a:lnTo>
                  <a:lnTo>
                    <a:pt x="77198" y="27938"/>
                  </a:lnTo>
                  <a:lnTo>
                    <a:pt x="73278" y="30470"/>
                  </a:lnTo>
                  <a:lnTo>
                    <a:pt x="68970" y="33004"/>
                  </a:lnTo>
                  <a:lnTo>
                    <a:pt x="64405" y="36386"/>
                  </a:lnTo>
                  <a:lnTo>
                    <a:pt x="59669" y="40335"/>
                  </a:lnTo>
                  <a:lnTo>
                    <a:pt x="54817" y="44661"/>
                  </a:lnTo>
                  <a:lnTo>
                    <a:pt x="49044" y="49238"/>
                  </a:lnTo>
                  <a:lnTo>
                    <a:pt x="42654" y="53983"/>
                  </a:lnTo>
                  <a:lnTo>
                    <a:pt x="35854" y="58839"/>
                  </a:lnTo>
                  <a:lnTo>
                    <a:pt x="29628" y="63770"/>
                  </a:lnTo>
                  <a:lnTo>
                    <a:pt x="23784" y="68751"/>
                  </a:lnTo>
                  <a:lnTo>
                    <a:pt x="13622" y="77954"/>
                  </a:lnTo>
                  <a:lnTo>
                    <a:pt x="6283" y="84866"/>
                  </a:lnTo>
                  <a:lnTo>
                    <a:pt x="3986" y="88741"/>
                  </a:lnTo>
                  <a:lnTo>
                    <a:pt x="2456" y="93018"/>
                  </a:lnTo>
                  <a:lnTo>
                    <a:pt x="1436" y="97563"/>
                  </a:lnTo>
                  <a:lnTo>
                    <a:pt x="755" y="101439"/>
                  </a:lnTo>
                  <a:lnTo>
                    <a:pt x="302" y="104870"/>
                  </a:lnTo>
                  <a:lnTo>
                    <a:pt x="0" y="108004"/>
                  </a:lnTo>
                  <a:lnTo>
                    <a:pt x="1492" y="110940"/>
                  </a:lnTo>
                  <a:lnTo>
                    <a:pt x="4180" y="113744"/>
                  </a:lnTo>
                  <a:lnTo>
                    <a:pt x="7665" y="116460"/>
                  </a:lnTo>
                  <a:lnTo>
                    <a:pt x="11682" y="119117"/>
                  </a:lnTo>
                  <a:lnTo>
                    <a:pt x="16053" y="121736"/>
                  </a:lnTo>
                  <a:lnTo>
                    <a:pt x="20660" y="124328"/>
                  </a:lnTo>
                  <a:lnTo>
                    <a:pt x="27119" y="126902"/>
                  </a:lnTo>
                  <a:lnTo>
                    <a:pt x="34811" y="129466"/>
                  </a:lnTo>
                  <a:lnTo>
                    <a:pt x="43326" y="132021"/>
                  </a:lnTo>
                  <a:lnTo>
                    <a:pt x="52389" y="133725"/>
                  </a:lnTo>
                  <a:lnTo>
                    <a:pt x="61818" y="134861"/>
                  </a:lnTo>
                  <a:lnTo>
                    <a:pt x="71490" y="135618"/>
                  </a:lnTo>
                  <a:lnTo>
                    <a:pt x="81325" y="136122"/>
                  </a:lnTo>
                  <a:lnTo>
                    <a:pt x="101284" y="136683"/>
                  </a:lnTo>
                  <a:lnTo>
                    <a:pt x="112194" y="135986"/>
                  </a:lnTo>
                  <a:lnTo>
                    <a:pt x="123701" y="134675"/>
                  </a:lnTo>
                  <a:lnTo>
                    <a:pt x="135606" y="132954"/>
                  </a:lnTo>
                  <a:lnTo>
                    <a:pt x="145236" y="131806"/>
                  </a:lnTo>
                  <a:lnTo>
                    <a:pt x="153349" y="131042"/>
                  </a:lnTo>
                  <a:lnTo>
                    <a:pt x="174655" y="1295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SMARTInkAnnotation25"/>
            <p:cNvSpPr/>
            <p:nvPr/>
          </p:nvSpPr>
          <p:spPr>
            <a:xfrm>
              <a:off x="6135120" y="2117880"/>
              <a:ext cx="59760" cy="24372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59768" h="243841">
                  <a:moveTo>
                    <a:pt x="59767" y="0"/>
                  </a:moveTo>
                  <a:lnTo>
                    <a:pt x="59767" y="8090"/>
                  </a:lnTo>
                  <a:lnTo>
                    <a:pt x="58920" y="11320"/>
                  </a:lnTo>
                  <a:lnTo>
                    <a:pt x="57509" y="14320"/>
                  </a:lnTo>
                  <a:lnTo>
                    <a:pt x="55722" y="17167"/>
                  </a:lnTo>
                  <a:lnTo>
                    <a:pt x="53683" y="20758"/>
                  </a:lnTo>
                  <a:lnTo>
                    <a:pt x="49162" y="29264"/>
                  </a:lnTo>
                  <a:lnTo>
                    <a:pt x="47617" y="34749"/>
                  </a:lnTo>
                  <a:lnTo>
                    <a:pt x="46586" y="40946"/>
                  </a:lnTo>
                  <a:lnTo>
                    <a:pt x="45900" y="47617"/>
                  </a:lnTo>
                  <a:lnTo>
                    <a:pt x="43749" y="53758"/>
                  </a:lnTo>
                  <a:lnTo>
                    <a:pt x="40623" y="59545"/>
                  </a:lnTo>
                  <a:lnTo>
                    <a:pt x="36844" y="65097"/>
                  </a:lnTo>
                  <a:lnTo>
                    <a:pt x="33478" y="72185"/>
                  </a:lnTo>
                  <a:lnTo>
                    <a:pt x="30388" y="80296"/>
                  </a:lnTo>
                  <a:lnTo>
                    <a:pt x="11572" y="136954"/>
                  </a:lnTo>
                  <a:lnTo>
                    <a:pt x="9857" y="144643"/>
                  </a:lnTo>
                  <a:lnTo>
                    <a:pt x="8714" y="152308"/>
                  </a:lnTo>
                  <a:lnTo>
                    <a:pt x="7951" y="159959"/>
                  </a:lnTo>
                  <a:lnTo>
                    <a:pt x="6597" y="167599"/>
                  </a:lnTo>
                  <a:lnTo>
                    <a:pt x="4847" y="175233"/>
                  </a:lnTo>
                  <a:lnTo>
                    <a:pt x="2834" y="182862"/>
                  </a:lnTo>
                  <a:lnTo>
                    <a:pt x="1492" y="189641"/>
                  </a:lnTo>
                  <a:lnTo>
                    <a:pt x="596" y="195854"/>
                  </a:lnTo>
                  <a:lnTo>
                    <a:pt x="0" y="201689"/>
                  </a:lnTo>
                  <a:lnTo>
                    <a:pt x="449" y="207273"/>
                  </a:lnTo>
                  <a:lnTo>
                    <a:pt x="1596" y="212689"/>
                  </a:lnTo>
                  <a:lnTo>
                    <a:pt x="3206" y="217993"/>
                  </a:lnTo>
                  <a:lnTo>
                    <a:pt x="4280" y="222375"/>
                  </a:lnTo>
                  <a:lnTo>
                    <a:pt x="5472" y="229503"/>
                  </a:lnTo>
                  <a:lnTo>
                    <a:pt x="7484" y="232588"/>
                  </a:lnTo>
                  <a:lnTo>
                    <a:pt x="10518" y="235492"/>
                  </a:lnTo>
                  <a:lnTo>
                    <a:pt x="19465" y="242191"/>
                  </a:lnTo>
                  <a:lnTo>
                    <a:pt x="21046" y="242741"/>
                  </a:lnTo>
                  <a:lnTo>
                    <a:pt x="22947" y="243107"/>
                  </a:lnTo>
                  <a:lnTo>
                    <a:pt x="29287" y="2438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SMARTInkAnnotation26"/>
            <p:cNvSpPr/>
            <p:nvPr/>
          </p:nvSpPr>
          <p:spPr>
            <a:xfrm>
              <a:off x="6309360" y="2117880"/>
              <a:ext cx="264600" cy="2275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264881" h="227832">
                  <a:moveTo>
                    <a:pt x="91327" y="0"/>
                  </a:moveTo>
                  <a:lnTo>
                    <a:pt x="91327" y="7307"/>
                  </a:lnTo>
                  <a:lnTo>
                    <a:pt x="87282" y="11573"/>
                  </a:lnTo>
                  <a:lnTo>
                    <a:pt x="86090" y="13642"/>
                  </a:lnTo>
                  <a:lnTo>
                    <a:pt x="84766" y="18199"/>
                  </a:lnTo>
                  <a:lnTo>
                    <a:pt x="82720" y="20599"/>
                  </a:lnTo>
                  <a:lnTo>
                    <a:pt x="75930" y="25524"/>
                  </a:lnTo>
                  <a:lnTo>
                    <a:pt x="69526" y="30535"/>
                  </a:lnTo>
                  <a:lnTo>
                    <a:pt x="63858" y="35585"/>
                  </a:lnTo>
                  <a:lnTo>
                    <a:pt x="58517" y="40651"/>
                  </a:lnTo>
                  <a:lnTo>
                    <a:pt x="51062" y="45725"/>
                  </a:lnTo>
                  <a:lnTo>
                    <a:pt x="42952" y="50802"/>
                  </a:lnTo>
                  <a:lnTo>
                    <a:pt x="36525" y="55881"/>
                  </a:lnTo>
                  <a:lnTo>
                    <a:pt x="30845" y="60960"/>
                  </a:lnTo>
                  <a:lnTo>
                    <a:pt x="24653" y="66040"/>
                  </a:lnTo>
                  <a:lnTo>
                    <a:pt x="20631" y="68580"/>
                  </a:lnTo>
                  <a:lnTo>
                    <a:pt x="16256" y="71120"/>
                  </a:lnTo>
                  <a:lnTo>
                    <a:pt x="13340" y="73660"/>
                  </a:lnTo>
                  <a:lnTo>
                    <a:pt x="11395" y="76200"/>
                  </a:lnTo>
                  <a:lnTo>
                    <a:pt x="10100" y="78740"/>
                  </a:lnTo>
                  <a:lnTo>
                    <a:pt x="8389" y="80434"/>
                  </a:lnTo>
                  <a:lnTo>
                    <a:pt x="6402" y="81563"/>
                  </a:lnTo>
                  <a:lnTo>
                    <a:pt x="4230" y="82315"/>
                  </a:lnTo>
                  <a:lnTo>
                    <a:pt x="2782" y="83664"/>
                  </a:lnTo>
                  <a:lnTo>
                    <a:pt x="1818" y="85409"/>
                  </a:lnTo>
                  <a:lnTo>
                    <a:pt x="0" y="91087"/>
                  </a:lnTo>
                  <a:lnTo>
                    <a:pt x="6840" y="91370"/>
                  </a:lnTo>
                  <a:lnTo>
                    <a:pt x="14548" y="91409"/>
                  </a:lnTo>
                  <a:lnTo>
                    <a:pt x="18975" y="90573"/>
                  </a:lnTo>
                  <a:lnTo>
                    <a:pt x="23618" y="89169"/>
                  </a:lnTo>
                  <a:lnTo>
                    <a:pt x="28408" y="87386"/>
                  </a:lnTo>
                  <a:lnTo>
                    <a:pt x="34141" y="86197"/>
                  </a:lnTo>
                  <a:lnTo>
                    <a:pt x="40503" y="85405"/>
                  </a:lnTo>
                  <a:lnTo>
                    <a:pt x="47285" y="84876"/>
                  </a:lnTo>
                  <a:lnTo>
                    <a:pt x="56038" y="84525"/>
                  </a:lnTo>
                  <a:lnTo>
                    <a:pt x="86892" y="84029"/>
                  </a:lnTo>
                  <a:lnTo>
                    <a:pt x="104596" y="83913"/>
                  </a:lnTo>
                  <a:lnTo>
                    <a:pt x="113720" y="84729"/>
                  </a:lnTo>
                  <a:lnTo>
                    <a:pt x="123189" y="86119"/>
                  </a:lnTo>
                  <a:lnTo>
                    <a:pt x="132888" y="87893"/>
                  </a:lnTo>
                  <a:lnTo>
                    <a:pt x="142741" y="89922"/>
                  </a:lnTo>
                  <a:lnTo>
                    <a:pt x="162720" y="94434"/>
                  </a:lnTo>
                  <a:lnTo>
                    <a:pt x="171942" y="96823"/>
                  </a:lnTo>
                  <a:lnTo>
                    <a:pt x="180631" y="99262"/>
                  </a:lnTo>
                  <a:lnTo>
                    <a:pt x="188963" y="101735"/>
                  </a:lnTo>
                  <a:lnTo>
                    <a:pt x="207252" y="106740"/>
                  </a:lnTo>
                  <a:lnTo>
                    <a:pt x="216870" y="109260"/>
                  </a:lnTo>
                  <a:lnTo>
                    <a:pt x="224976" y="112633"/>
                  </a:lnTo>
                  <a:lnTo>
                    <a:pt x="232073" y="116576"/>
                  </a:lnTo>
                  <a:lnTo>
                    <a:pt x="238498" y="120897"/>
                  </a:lnTo>
                  <a:lnTo>
                    <a:pt x="243628" y="125472"/>
                  </a:lnTo>
                  <a:lnTo>
                    <a:pt x="247894" y="130214"/>
                  </a:lnTo>
                  <a:lnTo>
                    <a:pt x="251585" y="135070"/>
                  </a:lnTo>
                  <a:lnTo>
                    <a:pt x="254893" y="140000"/>
                  </a:lnTo>
                  <a:lnTo>
                    <a:pt x="257945" y="144980"/>
                  </a:lnTo>
                  <a:lnTo>
                    <a:pt x="260825" y="149993"/>
                  </a:lnTo>
                  <a:lnTo>
                    <a:pt x="262746" y="155029"/>
                  </a:lnTo>
                  <a:lnTo>
                    <a:pt x="264027" y="160079"/>
                  </a:lnTo>
                  <a:lnTo>
                    <a:pt x="264880" y="165140"/>
                  </a:lnTo>
                  <a:lnTo>
                    <a:pt x="264603" y="169360"/>
                  </a:lnTo>
                  <a:lnTo>
                    <a:pt x="263572" y="173020"/>
                  </a:lnTo>
                  <a:lnTo>
                    <a:pt x="262037" y="176307"/>
                  </a:lnTo>
                  <a:lnTo>
                    <a:pt x="258473" y="180191"/>
                  </a:lnTo>
                  <a:lnTo>
                    <a:pt x="253558" y="184474"/>
                  </a:lnTo>
                  <a:lnTo>
                    <a:pt x="247741" y="189023"/>
                  </a:lnTo>
                  <a:lnTo>
                    <a:pt x="242170" y="192902"/>
                  </a:lnTo>
                  <a:lnTo>
                    <a:pt x="236762" y="196335"/>
                  </a:lnTo>
                  <a:lnTo>
                    <a:pt x="231464" y="199470"/>
                  </a:lnTo>
                  <a:lnTo>
                    <a:pt x="224545" y="202406"/>
                  </a:lnTo>
                  <a:lnTo>
                    <a:pt x="216546" y="205211"/>
                  </a:lnTo>
                  <a:lnTo>
                    <a:pt x="207826" y="207927"/>
                  </a:lnTo>
                  <a:lnTo>
                    <a:pt x="198627" y="211432"/>
                  </a:lnTo>
                  <a:lnTo>
                    <a:pt x="189107" y="215461"/>
                  </a:lnTo>
                  <a:lnTo>
                    <a:pt x="179374" y="219841"/>
                  </a:lnTo>
                  <a:lnTo>
                    <a:pt x="170345" y="222760"/>
                  </a:lnTo>
                  <a:lnTo>
                    <a:pt x="161785" y="224707"/>
                  </a:lnTo>
                  <a:lnTo>
                    <a:pt x="153539" y="226005"/>
                  </a:lnTo>
                  <a:lnTo>
                    <a:pt x="144656" y="226870"/>
                  </a:lnTo>
                  <a:lnTo>
                    <a:pt x="135346" y="227447"/>
                  </a:lnTo>
                  <a:lnTo>
                    <a:pt x="125754" y="227831"/>
                  </a:lnTo>
                  <a:lnTo>
                    <a:pt x="116817" y="227241"/>
                  </a:lnTo>
                  <a:lnTo>
                    <a:pt x="108321" y="226000"/>
                  </a:lnTo>
                  <a:lnTo>
                    <a:pt x="100116" y="224327"/>
                  </a:lnTo>
                  <a:lnTo>
                    <a:pt x="92106" y="222365"/>
                  </a:lnTo>
                  <a:lnTo>
                    <a:pt x="84226" y="220210"/>
                  </a:lnTo>
                  <a:lnTo>
                    <a:pt x="76433" y="217926"/>
                  </a:lnTo>
                  <a:lnTo>
                    <a:pt x="70391" y="215558"/>
                  </a:lnTo>
                  <a:lnTo>
                    <a:pt x="65516" y="213132"/>
                  </a:lnTo>
                  <a:lnTo>
                    <a:pt x="61420" y="210668"/>
                  </a:lnTo>
                  <a:lnTo>
                    <a:pt x="56996" y="208179"/>
                  </a:lnTo>
                  <a:lnTo>
                    <a:pt x="37987" y="198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SMARTInkAnnotation27"/>
            <p:cNvSpPr/>
            <p:nvPr/>
          </p:nvSpPr>
          <p:spPr>
            <a:xfrm>
              <a:off x="6438600" y="2096280"/>
              <a:ext cx="228600" cy="212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28601" h="21486">
                  <a:moveTo>
                    <a:pt x="0" y="21485"/>
                  </a:moveTo>
                  <a:lnTo>
                    <a:pt x="0" y="17440"/>
                  </a:lnTo>
                  <a:lnTo>
                    <a:pt x="847" y="16248"/>
                  </a:lnTo>
                  <a:lnTo>
                    <a:pt x="2258" y="15454"/>
                  </a:lnTo>
                  <a:lnTo>
                    <a:pt x="6561" y="14179"/>
                  </a:lnTo>
                  <a:lnTo>
                    <a:pt x="11665" y="14004"/>
                  </a:lnTo>
                  <a:lnTo>
                    <a:pt x="15397" y="13958"/>
                  </a:lnTo>
                  <a:lnTo>
                    <a:pt x="18731" y="13081"/>
                  </a:lnTo>
                  <a:lnTo>
                    <a:pt x="21801" y="11649"/>
                  </a:lnTo>
                  <a:lnTo>
                    <a:pt x="24694" y="9848"/>
                  </a:lnTo>
                  <a:lnTo>
                    <a:pt x="29163" y="7800"/>
                  </a:lnTo>
                  <a:lnTo>
                    <a:pt x="34682" y="5589"/>
                  </a:lnTo>
                  <a:lnTo>
                    <a:pt x="40901" y="3267"/>
                  </a:lnTo>
                  <a:lnTo>
                    <a:pt x="47587" y="1720"/>
                  </a:lnTo>
                  <a:lnTo>
                    <a:pt x="54585" y="688"/>
                  </a:lnTo>
                  <a:lnTo>
                    <a:pt x="61790" y="0"/>
                  </a:lnTo>
                  <a:lnTo>
                    <a:pt x="69980" y="389"/>
                  </a:lnTo>
                  <a:lnTo>
                    <a:pt x="78827" y="1494"/>
                  </a:lnTo>
                  <a:lnTo>
                    <a:pt x="88112" y="3078"/>
                  </a:lnTo>
                  <a:lnTo>
                    <a:pt x="98534" y="4134"/>
                  </a:lnTo>
                  <a:lnTo>
                    <a:pt x="109717" y="4837"/>
                  </a:lnTo>
                  <a:lnTo>
                    <a:pt x="121404" y="5307"/>
                  </a:lnTo>
                  <a:lnTo>
                    <a:pt x="131736" y="6466"/>
                  </a:lnTo>
                  <a:lnTo>
                    <a:pt x="141164" y="8086"/>
                  </a:lnTo>
                  <a:lnTo>
                    <a:pt x="149990" y="10012"/>
                  </a:lnTo>
                  <a:lnTo>
                    <a:pt x="159259" y="11296"/>
                  </a:lnTo>
                  <a:lnTo>
                    <a:pt x="168826" y="12153"/>
                  </a:lnTo>
                  <a:lnTo>
                    <a:pt x="186794" y="13104"/>
                  </a:lnTo>
                  <a:lnTo>
                    <a:pt x="200424" y="13527"/>
                  </a:lnTo>
                  <a:lnTo>
                    <a:pt x="206429" y="14486"/>
                  </a:lnTo>
                  <a:lnTo>
                    <a:pt x="212127" y="15972"/>
                  </a:lnTo>
                  <a:lnTo>
                    <a:pt x="228600" y="2148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SMARTInkAnnotation28"/>
            <p:cNvSpPr/>
            <p:nvPr/>
          </p:nvSpPr>
          <p:spPr>
            <a:xfrm>
              <a:off x="5524200" y="2902680"/>
              <a:ext cx="220680" cy="226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20981" h="22861">
                  <a:moveTo>
                    <a:pt x="0" y="22860"/>
                  </a:moveTo>
                  <a:lnTo>
                    <a:pt x="6561" y="22860"/>
                  </a:lnTo>
                  <a:lnTo>
                    <a:pt x="7760" y="22013"/>
                  </a:lnTo>
                  <a:lnTo>
                    <a:pt x="9408" y="20602"/>
                  </a:lnTo>
                  <a:lnTo>
                    <a:pt x="11352" y="18815"/>
                  </a:lnTo>
                  <a:lnTo>
                    <a:pt x="15187" y="17623"/>
                  </a:lnTo>
                  <a:lnTo>
                    <a:pt x="20285" y="16829"/>
                  </a:lnTo>
                  <a:lnTo>
                    <a:pt x="26224" y="16299"/>
                  </a:lnTo>
                  <a:lnTo>
                    <a:pt x="32722" y="15946"/>
                  </a:lnTo>
                  <a:lnTo>
                    <a:pt x="46717" y="15554"/>
                  </a:lnTo>
                  <a:lnTo>
                    <a:pt x="54005" y="14603"/>
                  </a:lnTo>
                  <a:lnTo>
                    <a:pt x="61403" y="13122"/>
                  </a:lnTo>
                  <a:lnTo>
                    <a:pt x="68876" y="11288"/>
                  </a:lnTo>
                  <a:lnTo>
                    <a:pt x="76397" y="10065"/>
                  </a:lnTo>
                  <a:lnTo>
                    <a:pt x="83951" y="9250"/>
                  </a:lnTo>
                  <a:lnTo>
                    <a:pt x="91527" y="8707"/>
                  </a:lnTo>
                  <a:lnTo>
                    <a:pt x="99966" y="8345"/>
                  </a:lnTo>
                  <a:lnTo>
                    <a:pt x="118371" y="7942"/>
                  </a:lnTo>
                  <a:lnTo>
                    <a:pt x="143728" y="7715"/>
                  </a:lnTo>
                  <a:lnTo>
                    <a:pt x="151699" y="6837"/>
                  </a:lnTo>
                  <a:lnTo>
                    <a:pt x="159553" y="5405"/>
                  </a:lnTo>
                  <a:lnTo>
                    <a:pt x="167328" y="3603"/>
                  </a:lnTo>
                  <a:lnTo>
                    <a:pt x="175052" y="2402"/>
                  </a:lnTo>
                  <a:lnTo>
                    <a:pt x="182741" y="1602"/>
                  </a:lnTo>
                  <a:lnTo>
                    <a:pt x="190408" y="1068"/>
                  </a:lnTo>
                  <a:lnTo>
                    <a:pt x="197212" y="712"/>
                  </a:lnTo>
                  <a:lnTo>
                    <a:pt x="2209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SMARTInkAnnotation29"/>
            <p:cNvSpPr/>
            <p:nvPr/>
          </p:nvSpPr>
          <p:spPr>
            <a:xfrm>
              <a:off x="5874840" y="2765520"/>
              <a:ext cx="15120" cy="26640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5214" h="266701">
                  <a:moveTo>
                    <a:pt x="7621" y="0"/>
                  </a:moveTo>
                  <a:lnTo>
                    <a:pt x="7621" y="6561"/>
                  </a:lnTo>
                  <a:lnTo>
                    <a:pt x="8466" y="7760"/>
                  </a:lnTo>
                  <a:lnTo>
                    <a:pt x="9877" y="9407"/>
                  </a:lnTo>
                  <a:lnTo>
                    <a:pt x="11665" y="11352"/>
                  </a:lnTo>
                  <a:lnTo>
                    <a:pt x="12857" y="13494"/>
                  </a:lnTo>
                  <a:lnTo>
                    <a:pt x="13651" y="15769"/>
                  </a:lnTo>
                  <a:lnTo>
                    <a:pt x="14181" y="18133"/>
                  </a:lnTo>
                  <a:lnTo>
                    <a:pt x="14534" y="21402"/>
                  </a:lnTo>
                  <a:lnTo>
                    <a:pt x="14926" y="29550"/>
                  </a:lnTo>
                  <a:lnTo>
                    <a:pt x="15147" y="43657"/>
                  </a:lnTo>
                  <a:lnTo>
                    <a:pt x="15213" y="58561"/>
                  </a:lnTo>
                  <a:lnTo>
                    <a:pt x="14375" y="64441"/>
                  </a:lnTo>
                  <a:lnTo>
                    <a:pt x="12970" y="70901"/>
                  </a:lnTo>
                  <a:lnTo>
                    <a:pt x="11187" y="77747"/>
                  </a:lnTo>
                  <a:lnTo>
                    <a:pt x="9998" y="84851"/>
                  </a:lnTo>
                  <a:lnTo>
                    <a:pt x="9205" y="92127"/>
                  </a:lnTo>
                  <a:lnTo>
                    <a:pt x="8677" y="99519"/>
                  </a:lnTo>
                  <a:lnTo>
                    <a:pt x="8325" y="106139"/>
                  </a:lnTo>
                  <a:lnTo>
                    <a:pt x="7933" y="118011"/>
                  </a:lnTo>
                  <a:lnTo>
                    <a:pt x="6982" y="125241"/>
                  </a:lnTo>
                  <a:lnTo>
                    <a:pt x="5501" y="133447"/>
                  </a:lnTo>
                  <a:lnTo>
                    <a:pt x="3668" y="142305"/>
                  </a:lnTo>
                  <a:lnTo>
                    <a:pt x="2445" y="149903"/>
                  </a:lnTo>
                  <a:lnTo>
                    <a:pt x="1630" y="156662"/>
                  </a:lnTo>
                  <a:lnTo>
                    <a:pt x="1087" y="162862"/>
                  </a:lnTo>
                  <a:lnTo>
                    <a:pt x="725" y="170381"/>
                  </a:lnTo>
                  <a:lnTo>
                    <a:pt x="322" y="187767"/>
                  </a:lnTo>
                  <a:lnTo>
                    <a:pt x="0" y="2667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SMARTInkAnnotation30"/>
            <p:cNvSpPr/>
            <p:nvPr/>
          </p:nvSpPr>
          <p:spPr>
            <a:xfrm>
              <a:off x="5649120" y="3416400"/>
              <a:ext cx="202680" cy="14832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202776" h="148513">
                  <a:moveTo>
                    <a:pt x="202775" y="19550"/>
                  </a:moveTo>
                  <a:lnTo>
                    <a:pt x="202775" y="8944"/>
                  </a:lnTo>
                  <a:lnTo>
                    <a:pt x="201928" y="7400"/>
                  </a:lnTo>
                  <a:lnTo>
                    <a:pt x="200517" y="6369"/>
                  </a:lnTo>
                  <a:lnTo>
                    <a:pt x="196691" y="5225"/>
                  </a:lnTo>
                  <a:lnTo>
                    <a:pt x="192169" y="4716"/>
                  </a:lnTo>
                  <a:lnTo>
                    <a:pt x="188931" y="3735"/>
                  </a:lnTo>
                  <a:lnTo>
                    <a:pt x="185079" y="2233"/>
                  </a:lnTo>
                  <a:lnTo>
                    <a:pt x="180818" y="385"/>
                  </a:lnTo>
                  <a:lnTo>
                    <a:pt x="177130" y="0"/>
                  </a:lnTo>
                  <a:lnTo>
                    <a:pt x="173825" y="590"/>
                  </a:lnTo>
                  <a:lnTo>
                    <a:pt x="170775" y="1830"/>
                  </a:lnTo>
                  <a:lnTo>
                    <a:pt x="165355" y="3503"/>
                  </a:lnTo>
                  <a:lnTo>
                    <a:pt x="142392" y="9904"/>
                  </a:lnTo>
                  <a:lnTo>
                    <a:pt x="118280" y="17162"/>
                  </a:lnTo>
                  <a:lnTo>
                    <a:pt x="99746" y="22158"/>
                  </a:lnTo>
                  <a:lnTo>
                    <a:pt x="90062" y="25522"/>
                  </a:lnTo>
                  <a:lnTo>
                    <a:pt x="80220" y="29458"/>
                  </a:lnTo>
                  <a:lnTo>
                    <a:pt x="70271" y="33775"/>
                  </a:lnTo>
                  <a:lnTo>
                    <a:pt x="61100" y="39193"/>
                  </a:lnTo>
                  <a:lnTo>
                    <a:pt x="52444" y="45346"/>
                  </a:lnTo>
                  <a:lnTo>
                    <a:pt x="44135" y="51987"/>
                  </a:lnTo>
                  <a:lnTo>
                    <a:pt x="36901" y="58108"/>
                  </a:lnTo>
                  <a:lnTo>
                    <a:pt x="30386" y="63882"/>
                  </a:lnTo>
                  <a:lnTo>
                    <a:pt x="18631" y="74813"/>
                  </a:lnTo>
                  <a:lnTo>
                    <a:pt x="7762" y="85316"/>
                  </a:lnTo>
                  <a:lnTo>
                    <a:pt x="4187" y="90487"/>
                  </a:lnTo>
                  <a:lnTo>
                    <a:pt x="1803" y="95628"/>
                  </a:lnTo>
                  <a:lnTo>
                    <a:pt x="214" y="100749"/>
                  </a:lnTo>
                  <a:lnTo>
                    <a:pt x="0" y="105856"/>
                  </a:lnTo>
                  <a:lnTo>
                    <a:pt x="705" y="110954"/>
                  </a:lnTo>
                  <a:lnTo>
                    <a:pt x="2022" y="116046"/>
                  </a:lnTo>
                  <a:lnTo>
                    <a:pt x="4593" y="121134"/>
                  </a:lnTo>
                  <a:lnTo>
                    <a:pt x="8001" y="126220"/>
                  </a:lnTo>
                  <a:lnTo>
                    <a:pt x="11965" y="131303"/>
                  </a:lnTo>
                  <a:lnTo>
                    <a:pt x="16302" y="135538"/>
                  </a:lnTo>
                  <a:lnTo>
                    <a:pt x="20887" y="139209"/>
                  </a:lnTo>
                  <a:lnTo>
                    <a:pt x="25636" y="142503"/>
                  </a:lnTo>
                  <a:lnTo>
                    <a:pt x="32189" y="144698"/>
                  </a:lnTo>
                  <a:lnTo>
                    <a:pt x="39944" y="146163"/>
                  </a:lnTo>
                  <a:lnTo>
                    <a:pt x="48501" y="147138"/>
                  </a:lnTo>
                  <a:lnTo>
                    <a:pt x="57593" y="147789"/>
                  </a:lnTo>
                  <a:lnTo>
                    <a:pt x="67040" y="148223"/>
                  </a:lnTo>
                  <a:lnTo>
                    <a:pt x="76726" y="148512"/>
                  </a:lnTo>
                  <a:lnTo>
                    <a:pt x="85722" y="147858"/>
                  </a:lnTo>
                  <a:lnTo>
                    <a:pt x="94259" y="146575"/>
                  </a:lnTo>
                  <a:lnTo>
                    <a:pt x="102491" y="144873"/>
                  </a:lnTo>
                  <a:lnTo>
                    <a:pt x="120669" y="140725"/>
                  </a:lnTo>
                  <a:lnTo>
                    <a:pt x="130258" y="138434"/>
                  </a:lnTo>
                  <a:lnTo>
                    <a:pt x="138344" y="134366"/>
                  </a:lnTo>
                  <a:lnTo>
                    <a:pt x="145428" y="129114"/>
                  </a:lnTo>
                  <a:lnTo>
                    <a:pt x="157814" y="117351"/>
                  </a:lnTo>
                  <a:lnTo>
                    <a:pt x="168964" y="106480"/>
                  </a:lnTo>
                  <a:lnTo>
                    <a:pt x="172614" y="101210"/>
                  </a:lnTo>
                  <a:lnTo>
                    <a:pt x="175048" y="96003"/>
                  </a:lnTo>
                  <a:lnTo>
                    <a:pt x="176670" y="90839"/>
                  </a:lnTo>
                  <a:lnTo>
                    <a:pt x="177752" y="84856"/>
                  </a:lnTo>
                  <a:lnTo>
                    <a:pt x="178473" y="78327"/>
                  </a:lnTo>
                  <a:lnTo>
                    <a:pt x="179274" y="65993"/>
                  </a:lnTo>
                  <a:lnTo>
                    <a:pt x="179630" y="57689"/>
                  </a:lnTo>
                  <a:lnTo>
                    <a:pt x="178879" y="53443"/>
                  </a:lnTo>
                  <a:lnTo>
                    <a:pt x="177531" y="48918"/>
                  </a:lnTo>
                  <a:lnTo>
                    <a:pt x="175786" y="44209"/>
                  </a:lnTo>
                  <a:lnTo>
                    <a:pt x="173775" y="40223"/>
                  </a:lnTo>
                  <a:lnTo>
                    <a:pt x="171589" y="36718"/>
                  </a:lnTo>
                  <a:lnTo>
                    <a:pt x="169284" y="33536"/>
                  </a:lnTo>
                  <a:lnTo>
                    <a:pt x="166054" y="30567"/>
                  </a:lnTo>
                  <a:lnTo>
                    <a:pt x="162208" y="27741"/>
                  </a:lnTo>
                  <a:lnTo>
                    <a:pt x="157950" y="25011"/>
                  </a:lnTo>
                  <a:lnTo>
                    <a:pt x="153419" y="23191"/>
                  </a:lnTo>
                  <a:lnTo>
                    <a:pt x="148704" y="21977"/>
                  </a:lnTo>
                  <a:lnTo>
                    <a:pt x="143868" y="21168"/>
                  </a:lnTo>
                  <a:lnTo>
                    <a:pt x="139797" y="21476"/>
                  </a:lnTo>
                  <a:lnTo>
                    <a:pt x="136236" y="22527"/>
                  </a:lnTo>
                  <a:lnTo>
                    <a:pt x="126575" y="2717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SMARTInkAnnotation31"/>
            <p:cNvSpPr/>
            <p:nvPr/>
          </p:nvSpPr>
          <p:spPr>
            <a:xfrm>
              <a:off x="5677560" y="3565440"/>
              <a:ext cx="207000" cy="17424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174240"/>
                <a:gd name="textAreaBottom" fmla="*/ 174240 h 174240"/>
              </a:gdLst>
              <a:ahLst/>
              <a:rect l="textAreaLeft" t="textAreaTop" r="textAreaRight" b="textAreaBottom"/>
              <a:pathLst>
                <a:path w="207210" h="174360">
                  <a:moveTo>
                    <a:pt x="105789" y="53340"/>
                  </a:moveTo>
                  <a:lnTo>
                    <a:pt x="105789" y="49295"/>
                  </a:lnTo>
                  <a:lnTo>
                    <a:pt x="104942" y="47257"/>
                  </a:lnTo>
                  <a:lnTo>
                    <a:pt x="101744" y="42734"/>
                  </a:lnTo>
                  <a:lnTo>
                    <a:pt x="100552" y="40343"/>
                  </a:lnTo>
                  <a:lnTo>
                    <a:pt x="99228" y="35428"/>
                  </a:lnTo>
                  <a:lnTo>
                    <a:pt x="96382" y="30422"/>
                  </a:lnTo>
                  <a:lnTo>
                    <a:pt x="91701" y="24354"/>
                  </a:lnTo>
                  <a:lnTo>
                    <a:pt x="86546" y="23524"/>
                  </a:lnTo>
                  <a:lnTo>
                    <a:pt x="82800" y="23303"/>
                  </a:lnTo>
                  <a:lnTo>
                    <a:pt x="74123" y="23057"/>
                  </a:lnTo>
                  <a:lnTo>
                    <a:pt x="54755" y="22899"/>
                  </a:lnTo>
                  <a:lnTo>
                    <a:pt x="49753" y="24579"/>
                  </a:lnTo>
                  <a:lnTo>
                    <a:pt x="44725" y="27393"/>
                  </a:lnTo>
                  <a:lnTo>
                    <a:pt x="39679" y="30962"/>
                  </a:lnTo>
                  <a:lnTo>
                    <a:pt x="34623" y="35035"/>
                  </a:lnTo>
                  <a:lnTo>
                    <a:pt x="29558" y="39443"/>
                  </a:lnTo>
                  <a:lnTo>
                    <a:pt x="24488" y="44075"/>
                  </a:lnTo>
                  <a:lnTo>
                    <a:pt x="14339" y="53738"/>
                  </a:lnTo>
                  <a:lnTo>
                    <a:pt x="9263" y="58686"/>
                  </a:lnTo>
                  <a:lnTo>
                    <a:pt x="5878" y="64523"/>
                  </a:lnTo>
                  <a:lnTo>
                    <a:pt x="3622" y="70956"/>
                  </a:lnTo>
                  <a:lnTo>
                    <a:pt x="2118" y="77784"/>
                  </a:lnTo>
                  <a:lnTo>
                    <a:pt x="1114" y="84029"/>
                  </a:lnTo>
                  <a:lnTo>
                    <a:pt x="446" y="89886"/>
                  </a:lnTo>
                  <a:lnTo>
                    <a:pt x="0" y="95484"/>
                  </a:lnTo>
                  <a:lnTo>
                    <a:pt x="1397" y="101756"/>
                  </a:lnTo>
                  <a:lnTo>
                    <a:pt x="4020" y="108478"/>
                  </a:lnTo>
                  <a:lnTo>
                    <a:pt x="7464" y="115499"/>
                  </a:lnTo>
                  <a:lnTo>
                    <a:pt x="11452" y="121873"/>
                  </a:lnTo>
                  <a:lnTo>
                    <a:pt x="15804" y="127815"/>
                  </a:lnTo>
                  <a:lnTo>
                    <a:pt x="20400" y="133470"/>
                  </a:lnTo>
                  <a:lnTo>
                    <a:pt x="26849" y="138933"/>
                  </a:lnTo>
                  <a:lnTo>
                    <a:pt x="34536" y="144269"/>
                  </a:lnTo>
                  <a:lnTo>
                    <a:pt x="43047" y="149519"/>
                  </a:lnTo>
                  <a:lnTo>
                    <a:pt x="52108" y="154713"/>
                  </a:lnTo>
                  <a:lnTo>
                    <a:pt x="71206" y="164999"/>
                  </a:lnTo>
                  <a:lnTo>
                    <a:pt x="81040" y="168419"/>
                  </a:lnTo>
                  <a:lnTo>
                    <a:pt x="90983" y="170700"/>
                  </a:lnTo>
                  <a:lnTo>
                    <a:pt x="100999" y="172220"/>
                  </a:lnTo>
                  <a:lnTo>
                    <a:pt x="111062" y="173233"/>
                  </a:lnTo>
                  <a:lnTo>
                    <a:pt x="121158" y="173909"/>
                  </a:lnTo>
                  <a:lnTo>
                    <a:pt x="131275" y="174359"/>
                  </a:lnTo>
                  <a:lnTo>
                    <a:pt x="140560" y="173813"/>
                  </a:lnTo>
                  <a:lnTo>
                    <a:pt x="149289" y="172602"/>
                  </a:lnTo>
                  <a:lnTo>
                    <a:pt x="157649" y="170948"/>
                  </a:lnTo>
                  <a:lnTo>
                    <a:pt x="164916" y="168152"/>
                  </a:lnTo>
                  <a:lnTo>
                    <a:pt x="171454" y="164594"/>
                  </a:lnTo>
                  <a:lnTo>
                    <a:pt x="177505" y="160530"/>
                  </a:lnTo>
                  <a:lnTo>
                    <a:pt x="183233" y="155280"/>
                  </a:lnTo>
                  <a:lnTo>
                    <a:pt x="188745" y="149240"/>
                  </a:lnTo>
                  <a:lnTo>
                    <a:pt x="194113" y="142673"/>
                  </a:lnTo>
                  <a:lnTo>
                    <a:pt x="198539" y="135756"/>
                  </a:lnTo>
                  <a:lnTo>
                    <a:pt x="202335" y="128604"/>
                  </a:lnTo>
                  <a:lnTo>
                    <a:pt x="205713" y="121296"/>
                  </a:lnTo>
                  <a:lnTo>
                    <a:pt x="207118" y="113884"/>
                  </a:lnTo>
                  <a:lnTo>
                    <a:pt x="207209" y="106403"/>
                  </a:lnTo>
                  <a:lnTo>
                    <a:pt x="206422" y="98875"/>
                  </a:lnTo>
                  <a:lnTo>
                    <a:pt x="205051" y="91317"/>
                  </a:lnTo>
                  <a:lnTo>
                    <a:pt x="203291" y="83738"/>
                  </a:lnTo>
                  <a:lnTo>
                    <a:pt x="201270" y="76145"/>
                  </a:lnTo>
                  <a:lnTo>
                    <a:pt x="196767" y="60936"/>
                  </a:lnTo>
                  <a:lnTo>
                    <a:pt x="194381" y="53324"/>
                  </a:lnTo>
                  <a:lnTo>
                    <a:pt x="189404" y="46556"/>
                  </a:lnTo>
                  <a:lnTo>
                    <a:pt x="182699" y="40350"/>
                  </a:lnTo>
                  <a:lnTo>
                    <a:pt x="174842" y="34521"/>
                  </a:lnTo>
                  <a:lnTo>
                    <a:pt x="167911" y="28941"/>
                  </a:lnTo>
                  <a:lnTo>
                    <a:pt x="161597" y="23527"/>
                  </a:lnTo>
                  <a:lnTo>
                    <a:pt x="150913" y="13843"/>
                  </a:lnTo>
                  <a:lnTo>
                    <a:pt x="143342" y="6717"/>
                  </a:lnTo>
                  <a:lnTo>
                    <a:pt x="137154" y="2985"/>
                  </a:lnTo>
                  <a:lnTo>
                    <a:pt x="128649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SMARTInkAnnotation32"/>
            <p:cNvSpPr/>
            <p:nvPr/>
          </p:nvSpPr>
          <p:spPr>
            <a:xfrm>
              <a:off x="5676480" y="2757960"/>
              <a:ext cx="235800" cy="25884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35894" h="259069">
                  <a:moveTo>
                    <a:pt x="0" y="76188"/>
                  </a:moveTo>
                  <a:lnTo>
                    <a:pt x="81072" y="76188"/>
                  </a:lnTo>
                  <a:lnTo>
                    <a:pt x="87068" y="75341"/>
                  </a:lnTo>
                  <a:lnTo>
                    <a:pt x="93605" y="73930"/>
                  </a:lnTo>
                  <a:lnTo>
                    <a:pt x="100503" y="72143"/>
                  </a:lnTo>
                  <a:lnTo>
                    <a:pt x="107642" y="70951"/>
                  </a:lnTo>
                  <a:lnTo>
                    <a:pt x="114942" y="70157"/>
                  </a:lnTo>
                  <a:lnTo>
                    <a:pt x="122348" y="69627"/>
                  </a:lnTo>
                  <a:lnTo>
                    <a:pt x="128979" y="68428"/>
                  </a:lnTo>
                  <a:lnTo>
                    <a:pt x="135093" y="66781"/>
                  </a:lnTo>
                  <a:lnTo>
                    <a:pt x="161117" y="58055"/>
                  </a:lnTo>
                  <a:lnTo>
                    <a:pt x="167525" y="55633"/>
                  </a:lnTo>
                  <a:lnTo>
                    <a:pt x="173490" y="53171"/>
                  </a:lnTo>
                  <a:lnTo>
                    <a:pt x="179160" y="50684"/>
                  </a:lnTo>
                  <a:lnTo>
                    <a:pt x="183786" y="48178"/>
                  </a:lnTo>
                  <a:lnTo>
                    <a:pt x="187718" y="45662"/>
                  </a:lnTo>
                  <a:lnTo>
                    <a:pt x="191185" y="43137"/>
                  </a:lnTo>
                  <a:lnTo>
                    <a:pt x="195190" y="40607"/>
                  </a:lnTo>
                  <a:lnTo>
                    <a:pt x="199553" y="38074"/>
                  </a:lnTo>
                  <a:lnTo>
                    <a:pt x="204155" y="35539"/>
                  </a:lnTo>
                  <a:lnTo>
                    <a:pt x="211527" y="28206"/>
                  </a:lnTo>
                  <a:lnTo>
                    <a:pt x="217625" y="20149"/>
                  </a:lnTo>
                  <a:lnTo>
                    <a:pt x="223158" y="13746"/>
                  </a:lnTo>
                  <a:lnTo>
                    <a:pt x="224972" y="10853"/>
                  </a:lnTo>
                  <a:lnTo>
                    <a:pt x="227524" y="3584"/>
                  </a:lnTo>
                  <a:lnTo>
                    <a:pt x="228122" y="1586"/>
                  </a:lnTo>
                  <a:lnTo>
                    <a:pt x="229128" y="1053"/>
                  </a:lnTo>
                  <a:lnTo>
                    <a:pt x="235893" y="30"/>
                  </a:lnTo>
                  <a:lnTo>
                    <a:pt x="232078" y="0"/>
                  </a:lnTo>
                  <a:lnTo>
                    <a:pt x="230919" y="1690"/>
                  </a:lnTo>
                  <a:lnTo>
                    <a:pt x="229631" y="8082"/>
                  </a:lnTo>
                  <a:lnTo>
                    <a:pt x="229058" y="14310"/>
                  </a:lnTo>
                  <a:lnTo>
                    <a:pt x="228803" y="20747"/>
                  </a:lnTo>
                  <a:lnTo>
                    <a:pt x="228690" y="29252"/>
                  </a:lnTo>
                  <a:lnTo>
                    <a:pt x="227814" y="33891"/>
                  </a:lnTo>
                  <a:lnTo>
                    <a:pt x="226382" y="38677"/>
                  </a:lnTo>
                  <a:lnTo>
                    <a:pt x="224582" y="43560"/>
                  </a:lnTo>
                  <a:lnTo>
                    <a:pt x="223381" y="49356"/>
                  </a:lnTo>
                  <a:lnTo>
                    <a:pt x="222581" y="55760"/>
                  </a:lnTo>
                  <a:lnTo>
                    <a:pt x="222047" y="62569"/>
                  </a:lnTo>
                  <a:lnTo>
                    <a:pt x="221692" y="69649"/>
                  </a:lnTo>
                  <a:lnTo>
                    <a:pt x="221296" y="84288"/>
                  </a:lnTo>
                  <a:lnTo>
                    <a:pt x="220344" y="90902"/>
                  </a:lnTo>
                  <a:lnTo>
                    <a:pt x="218863" y="97004"/>
                  </a:lnTo>
                  <a:lnTo>
                    <a:pt x="217029" y="102765"/>
                  </a:lnTo>
                  <a:lnTo>
                    <a:pt x="215806" y="109146"/>
                  </a:lnTo>
                  <a:lnTo>
                    <a:pt x="214990" y="115940"/>
                  </a:lnTo>
                  <a:lnTo>
                    <a:pt x="214447" y="123010"/>
                  </a:lnTo>
                  <a:lnTo>
                    <a:pt x="213239" y="130262"/>
                  </a:lnTo>
                  <a:lnTo>
                    <a:pt x="211585" y="137638"/>
                  </a:lnTo>
                  <a:lnTo>
                    <a:pt x="209637" y="145094"/>
                  </a:lnTo>
                  <a:lnTo>
                    <a:pt x="208338" y="151759"/>
                  </a:lnTo>
                  <a:lnTo>
                    <a:pt x="207472" y="157895"/>
                  </a:lnTo>
                  <a:lnTo>
                    <a:pt x="206895" y="163680"/>
                  </a:lnTo>
                  <a:lnTo>
                    <a:pt x="205663" y="170076"/>
                  </a:lnTo>
                  <a:lnTo>
                    <a:pt x="203996" y="176880"/>
                  </a:lnTo>
                  <a:lnTo>
                    <a:pt x="202037" y="183956"/>
                  </a:lnTo>
                  <a:lnTo>
                    <a:pt x="199884" y="190367"/>
                  </a:lnTo>
                  <a:lnTo>
                    <a:pt x="197603" y="196334"/>
                  </a:lnTo>
                  <a:lnTo>
                    <a:pt x="195235" y="202005"/>
                  </a:lnTo>
                  <a:lnTo>
                    <a:pt x="193657" y="206633"/>
                  </a:lnTo>
                  <a:lnTo>
                    <a:pt x="191903" y="214032"/>
                  </a:lnTo>
                  <a:lnTo>
                    <a:pt x="190589" y="218037"/>
                  </a:lnTo>
                  <a:lnTo>
                    <a:pt x="188866" y="222401"/>
                  </a:lnTo>
                  <a:lnTo>
                    <a:pt x="186870" y="227004"/>
                  </a:lnTo>
                  <a:lnTo>
                    <a:pt x="184653" y="234375"/>
                  </a:lnTo>
                  <a:lnTo>
                    <a:pt x="184062" y="237526"/>
                  </a:lnTo>
                  <a:lnTo>
                    <a:pt x="181148" y="243285"/>
                  </a:lnTo>
                  <a:lnTo>
                    <a:pt x="176423" y="249836"/>
                  </a:lnTo>
                  <a:lnTo>
                    <a:pt x="175777" y="252990"/>
                  </a:lnTo>
                  <a:lnTo>
                    <a:pt x="175290" y="258712"/>
                  </a:lnTo>
                  <a:lnTo>
                    <a:pt x="177531" y="258910"/>
                  </a:lnTo>
                  <a:lnTo>
                    <a:pt x="182880" y="2590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SMARTInkAnnotation33"/>
            <p:cNvSpPr/>
            <p:nvPr/>
          </p:nvSpPr>
          <p:spPr>
            <a:xfrm>
              <a:off x="5775840" y="2933280"/>
              <a:ext cx="167400" cy="1512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67641" h="15241">
                  <a:moveTo>
                    <a:pt x="0" y="15240"/>
                  </a:moveTo>
                  <a:lnTo>
                    <a:pt x="0" y="11195"/>
                  </a:lnTo>
                  <a:lnTo>
                    <a:pt x="846" y="10003"/>
                  </a:lnTo>
                  <a:lnTo>
                    <a:pt x="2257" y="9209"/>
                  </a:lnTo>
                  <a:lnTo>
                    <a:pt x="4045" y="8679"/>
                  </a:lnTo>
                  <a:lnTo>
                    <a:pt x="6083" y="8326"/>
                  </a:lnTo>
                  <a:lnTo>
                    <a:pt x="10606" y="7934"/>
                  </a:lnTo>
                  <a:lnTo>
                    <a:pt x="15438" y="7760"/>
                  </a:lnTo>
                  <a:lnTo>
                    <a:pt x="25439" y="7648"/>
                  </a:lnTo>
                  <a:lnTo>
                    <a:pt x="51249" y="7623"/>
                  </a:lnTo>
                  <a:lnTo>
                    <a:pt x="56180" y="6775"/>
                  </a:lnTo>
                  <a:lnTo>
                    <a:pt x="61160" y="5363"/>
                  </a:lnTo>
                  <a:lnTo>
                    <a:pt x="66173" y="3576"/>
                  </a:lnTo>
                  <a:lnTo>
                    <a:pt x="72056" y="2384"/>
                  </a:lnTo>
                  <a:lnTo>
                    <a:pt x="78517" y="1589"/>
                  </a:lnTo>
                  <a:lnTo>
                    <a:pt x="85365" y="1059"/>
                  </a:lnTo>
                  <a:lnTo>
                    <a:pt x="92470" y="706"/>
                  </a:lnTo>
                  <a:lnTo>
                    <a:pt x="107137" y="314"/>
                  </a:lnTo>
                  <a:lnTo>
                    <a:pt x="1676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SMARTInkAnnotation34"/>
            <p:cNvSpPr/>
            <p:nvPr/>
          </p:nvSpPr>
          <p:spPr>
            <a:xfrm>
              <a:off x="1790640" y="4266720"/>
              <a:ext cx="449280" cy="1512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449581" h="15241">
                  <a:moveTo>
                    <a:pt x="0" y="15240"/>
                  </a:moveTo>
                  <a:lnTo>
                    <a:pt x="4045" y="11195"/>
                  </a:lnTo>
                  <a:lnTo>
                    <a:pt x="6930" y="10003"/>
                  </a:lnTo>
                  <a:lnTo>
                    <a:pt x="10547" y="9209"/>
                  </a:lnTo>
                  <a:lnTo>
                    <a:pt x="14651" y="8679"/>
                  </a:lnTo>
                  <a:lnTo>
                    <a:pt x="19081" y="8326"/>
                  </a:lnTo>
                  <a:lnTo>
                    <a:pt x="28518" y="7934"/>
                  </a:lnTo>
                  <a:lnTo>
                    <a:pt x="75638" y="7648"/>
                  </a:lnTo>
                  <a:lnTo>
                    <a:pt x="132477" y="7623"/>
                  </a:lnTo>
                  <a:lnTo>
                    <a:pt x="144198" y="8468"/>
                  </a:lnTo>
                  <a:lnTo>
                    <a:pt x="157092" y="9879"/>
                  </a:lnTo>
                  <a:lnTo>
                    <a:pt x="170768" y="11666"/>
                  </a:lnTo>
                  <a:lnTo>
                    <a:pt x="183272" y="12857"/>
                  </a:lnTo>
                  <a:lnTo>
                    <a:pt x="194994" y="13652"/>
                  </a:lnTo>
                  <a:lnTo>
                    <a:pt x="206197" y="14181"/>
                  </a:lnTo>
                  <a:lnTo>
                    <a:pt x="229932" y="14770"/>
                  </a:lnTo>
                  <a:lnTo>
                    <a:pt x="317578" y="15213"/>
                  </a:lnTo>
                  <a:lnTo>
                    <a:pt x="330252" y="14375"/>
                  </a:lnTo>
                  <a:lnTo>
                    <a:pt x="342935" y="12970"/>
                  </a:lnTo>
                  <a:lnTo>
                    <a:pt x="355623" y="11187"/>
                  </a:lnTo>
                  <a:lnTo>
                    <a:pt x="367469" y="9997"/>
                  </a:lnTo>
                  <a:lnTo>
                    <a:pt x="378752" y="9205"/>
                  </a:lnTo>
                  <a:lnTo>
                    <a:pt x="389661" y="8677"/>
                  </a:lnTo>
                  <a:lnTo>
                    <a:pt x="398628" y="7478"/>
                  </a:lnTo>
                  <a:lnTo>
                    <a:pt x="406298" y="5832"/>
                  </a:lnTo>
                  <a:lnTo>
                    <a:pt x="413106" y="3888"/>
                  </a:lnTo>
                  <a:lnTo>
                    <a:pt x="420184" y="2592"/>
                  </a:lnTo>
                  <a:lnTo>
                    <a:pt x="427443" y="1728"/>
                  </a:lnTo>
                  <a:lnTo>
                    <a:pt x="4495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SMARTInkAnnotation35"/>
            <p:cNvSpPr/>
            <p:nvPr/>
          </p:nvSpPr>
          <p:spPr>
            <a:xfrm>
              <a:off x="2392560" y="4114080"/>
              <a:ext cx="75960" cy="319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76073" h="320041">
                  <a:moveTo>
                    <a:pt x="53340" y="0"/>
                  </a:moveTo>
                  <a:lnTo>
                    <a:pt x="57386" y="0"/>
                  </a:lnTo>
                  <a:lnTo>
                    <a:pt x="59424" y="846"/>
                  </a:lnTo>
                  <a:lnTo>
                    <a:pt x="61629" y="2258"/>
                  </a:lnTo>
                  <a:lnTo>
                    <a:pt x="63946" y="4045"/>
                  </a:lnTo>
                  <a:lnTo>
                    <a:pt x="66338" y="6083"/>
                  </a:lnTo>
                  <a:lnTo>
                    <a:pt x="68778" y="8289"/>
                  </a:lnTo>
                  <a:lnTo>
                    <a:pt x="71252" y="10606"/>
                  </a:lnTo>
                  <a:lnTo>
                    <a:pt x="72902" y="12997"/>
                  </a:lnTo>
                  <a:lnTo>
                    <a:pt x="74734" y="17912"/>
                  </a:lnTo>
                  <a:lnTo>
                    <a:pt x="75549" y="25176"/>
                  </a:lnTo>
                  <a:lnTo>
                    <a:pt x="75911" y="34049"/>
                  </a:lnTo>
                  <a:lnTo>
                    <a:pt x="76072" y="43637"/>
                  </a:lnTo>
                  <a:lnTo>
                    <a:pt x="73886" y="53543"/>
                  </a:lnTo>
                  <a:lnTo>
                    <a:pt x="72117" y="58556"/>
                  </a:lnTo>
                  <a:lnTo>
                    <a:pt x="70091" y="63591"/>
                  </a:lnTo>
                  <a:lnTo>
                    <a:pt x="67894" y="68640"/>
                  </a:lnTo>
                  <a:lnTo>
                    <a:pt x="65583" y="73700"/>
                  </a:lnTo>
                  <a:lnTo>
                    <a:pt x="63195" y="79614"/>
                  </a:lnTo>
                  <a:lnTo>
                    <a:pt x="58285" y="92957"/>
                  </a:lnTo>
                  <a:lnTo>
                    <a:pt x="50760" y="114750"/>
                  </a:lnTo>
                  <a:lnTo>
                    <a:pt x="47387" y="122220"/>
                  </a:lnTo>
                  <a:lnTo>
                    <a:pt x="43445" y="129740"/>
                  </a:lnTo>
                  <a:lnTo>
                    <a:pt x="39123" y="137293"/>
                  </a:lnTo>
                  <a:lnTo>
                    <a:pt x="35395" y="144869"/>
                  </a:lnTo>
                  <a:lnTo>
                    <a:pt x="32064" y="152459"/>
                  </a:lnTo>
                  <a:lnTo>
                    <a:pt x="28996" y="160060"/>
                  </a:lnTo>
                  <a:lnTo>
                    <a:pt x="23330" y="175277"/>
                  </a:lnTo>
                  <a:lnTo>
                    <a:pt x="12793" y="205743"/>
                  </a:lnTo>
                  <a:lnTo>
                    <a:pt x="11068" y="213363"/>
                  </a:lnTo>
                  <a:lnTo>
                    <a:pt x="9919" y="220982"/>
                  </a:lnTo>
                  <a:lnTo>
                    <a:pt x="9152" y="228601"/>
                  </a:lnTo>
                  <a:lnTo>
                    <a:pt x="7795" y="235374"/>
                  </a:lnTo>
                  <a:lnTo>
                    <a:pt x="6043" y="241583"/>
                  </a:lnTo>
                  <a:lnTo>
                    <a:pt x="4029" y="247415"/>
                  </a:lnTo>
                  <a:lnTo>
                    <a:pt x="2686" y="252997"/>
                  </a:lnTo>
                  <a:lnTo>
                    <a:pt x="1791" y="258411"/>
                  </a:lnTo>
                  <a:lnTo>
                    <a:pt x="1194" y="263714"/>
                  </a:lnTo>
                  <a:lnTo>
                    <a:pt x="796" y="268943"/>
                  </a:lnTo>
                  <a:lnTo>
                    <a:pt x="531" y="274122"/>
                  </a:lnTo>
                  <a:lnTo>
                    <a:pt x="157" y="287244"/>
                  </a:lnTo>
                  <a:lnTo>
                    <a:pt x="9" y="307205"/>
                  </a:lnTo>
                  <a:lnTo>
                    <a:pt x="0" y="3200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MARTInkAnnotation36"/>
            <p:cNvSpPr/>
            <p:nvPr/>
          </p:nvSpPr>
          <p:spPr>
            <a:xfrm>
              <a:off x="2705400" y="4304880"/>
              <a:ext cx="97200" cy="59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97300" h="59666">
                  <a:moveTo>
                    <a:pt x="75660" y="22755"/>
                  </a:moveTo>
                  <a:lnTo>
                    <a:pt x="75660" y="26800"/>
                  </a:lnTo>
                  <a:lnTo>
                    <a:pt x="74814" y="28839"/>
                  </a:lnTo>
                  <a:lnTo>
                    <a:pt x="73403" y="31044"/>
                  </a:lnTo>
                  <a:lnTo>
                    <a:pt x="71615" y="33361"/>
                  </a:lnTo>
                  <a:lnTo>
                    <a:pt x="69577" y="35753"/>
                  </a:lnTo>
                  <a:lnTo>
                    <a:pt x="67372" y="38193"/>
                  </a:lnTo>
                  <a:lnTo>
                    <a:pt x="65054" y="40667"/>
                  </a:lnTo>
                  <a:lnTo>
                    <a:pt x="63510" y="43163"/>
                  </a:lnTo>
                  <a:lnTo>
                    <a:pt x="62480" y="45674"/>
                  </a:lnTo>
                  <a:lnTo>
                    <a:pt x="61793" y="48194"/>
                  </a:lnTo>
                  <a:lnTo>
                    <a:pt x="59642" y="49875"/>
                  </a:lnTo>
                  <a:lnTo>
                    <a:pt x="56515" y="50995"/>
                  </a:lnTo>
                  <a:lnTo>
                    <a:pt x="52737" y="51742"/>
                  </a:lnTo>
                  <a:lnTo>
                    <a:pt x="49371" y="53086"/>
                  </a:lnTo>
                  <a:lnTo>
                    <a:pt x="46281" y="54829"/>
                  </a:lnTo>
                  <a:lnTo>
                    <a:pt x="43374" y="56838"/>
                  </a:lnTo>
                  <a:lnTo>
                    <a:pt x="40589" y="58177"/>
                  </a:lnTo>
                  <a:lnTo>
                    <a:pt x="37887" y="59070"/>
                  </a:lnTo>
                  <a:lnTo>
                    <a:pt x="35238" y="59665"/>
                  </a:lnTo>
                  <a:lnTo>
                    <a:pt x="32625" y="59215"/>
                  </a:lnTo>
                  <a:lnTo>
                    <a:pt x="30037" y="58068"/>
                  </a:lnTo>
                  <a:lnTo>
                    <a:pt x="27465" y="56457"/>
                  </a:lnTo>
                  <a:lnTo>
                    <a:pt x="24057" y="55383"/>
                  </a:lnTo>
                  <a:lnTo>
                    <a:pt x="20091" y="54667"/>
                  </a:lnTo>
                  <a:lnTo>
                    <a:pt x="15754" y="54190"/>
                  </a:lnTo>
                  <a:lnTo>
                    <a:pt x="12016" y="53025"/>
                  </a:lnTo>
                  <a:lnTo>
                    <a:pt x="8678" y="51402"/>
                  </a:lnTo>
                  <a:lnTo>
                    <a:pt x="5605" y="49473"/>
                  </a:lnTo>
                  <a:lnTo>
                    <a:pt x="3557" y="47340"/>
                  </a:lnTo>
                  <a:lnTo>
                    <a:pt x="2191" y="45072"/>
                  </a:lnTo>
                  <a:lnTo>
                    <a:pt x="1281" y="42713"/>
                  </a:lnTo>
                  <a:lnTo>
                    <a:pt x="674" y="40294"/>
                  </a:lnTo>
                  <a:lnTo>
                    <a:pt x="269" y="37834"/>
                  </a:lnTo>
                  <a:lnTo>
                    <a:pt x="0" y="35348"/>
                  </a:lnTo>
                  <a:lnTo>
                    <a:pt x="667" y="32844"/>
                  </a:lnTo>
                  <a:lnTo>
                    <a:pt x="1958" y="30328"/>
                  </a:lnTo>
                  <a:lnTo>
                    <a:pt x="3665" y="27804"/>
                  </a:lnTo>
                  <a:lnTo>
                    <a:pt x="5650" y="25274"/>
                  </a:lnTo>
                  <a:lnTo>
                    <a:pt x="7820" y="22741"/>
                  </a:lnTo>
                  <a:lnTo>
                    <a:pt x="10114" y="20206"/>
                  </a:lnTo>
                  <a:lnTo>
                    <a:pt x="14919" y="15131"/>
                  </a:lnTo>
                  <a:lnTo>
                    <a:pt x="17387" y="12592"/>
                  </a:lnTo>
                  <a:lnTo>
                    <a:pt x="20724" y="10900"/>
                  </a:lnTo>
                  <a:lnTo>
                    <a:pt x="24643" y="9772"/>
                  </a:lnTo>
                  <a:lnTo>
                    <a:pt x="28949" y="9019"/>
                  </a:lnTo>
                  <a:lnTo>
                    <a:pt x="32666" y="7671"/>
                  </a:lnTo>
                  <a:lnTo>
                    <a:pt x="35991" y="5926"/>
                  </a:lnTo>
                  <a:lnTo>
                    <a:pt x="39054" y="3916"/>
                  </a:lnTo>
                  <a:lnTo>
                    <a:pt x="42789" y="2575"/>
                  </a:lnTo>
                  <a:lnTo>
                    <a:pt x="46973" y="1682"/>
                  </a:lnTo>
                  <a:lnTo>
                    <a:pt x="51455" y="1086"/>
                  </a:lnTo>
                  <a:lnTo>
                    <a:pt x="55290" y="689"/>
                  </a:lnTo>
                  <a:lnTo>
                    <a:pt x="58693" y="425"/>
                  </a:lnTo>
                  <a:lnTo>
                    <a:pt x="61809" y="248"/>
                  </a:lnTo>
                  <a:lnTo>
                    <a:pt x="69786" y="52"/>
                  </a:lnTo>
                  <a:lnTo>
                    <a:pt x="74285" y="0"/>
                  </a:lnTo>
                  <a:lnTo>
                    <a:pt x="78130" y="812"/>
                  </a:lnTo>
                  <a:lnTo>
                    <a:pt x="81540" y="2200"/>
                  </a:lnTo>
                  <a:lnTo>
                    <a:pt x="84660" y="3971"/>
                  </a:lnTo>
                  <a:lnTo>
                    <a:pt x="86740" y="5999"/>
                  </a:lnTo>
                  <a:lnTo>
                    <a:pt x="88127" y="8198"/>
                  </a:lnTo>
                  <a:lnTo>
                    <a:pt x="89051" y="10511"/>
                  </a:lnTo>
                  <a:lnTo>
                    <a:pt x="90514" y="12052"/>
                  </a:lnTo>
                  <a:lnTo>
                    <a:pt x="92336" y="13079"/>
                  </a:lnTo>
                  <a:lnTo>
                    <a:pt x="94397" y="13765"/>
                  </a:lnTo>
                  <a:lnTo>
                    <a:pt x="95772" y="15068"/>
                  </a:lnTo>
                  <a:lnTo>
                    <a:pt x="96688" y="16784"/>
                  </a:lnTo>
                  <a:lnTo>
                    <a:pt x="97299" y="18774"/>
                  </a:lnTo>
                  <a:lnTo>
                    <a:pt x="96859" y="20948"/>
                  </a:lnTo>
                  <a:lnTo>
                    <a:pt x="95719" y="23244"/>
                  </a:lnTo>
                  <a:lnTo>
                    <a:pt x="94113" y="25621"/>
                  </a:lnTo>
                  <a:lnTo>
                    <a:pt x="92196" y="28053"/>
                  </a:lnTo>
                  <a:lnTo>
                    <a:pt x="90071" y="30520"/>
                  </a:lnTo>
                  <a:lnTo>
                    <a:pt x="87807" y="33012"/>
                  </a:lnTo>
                  <a:lnTo>
                    <a:pt x="83034" y="38038"/>
                  </a:lnTo>
                  <a:lnTo>
                    <a:pt x="80576" y="40564"/>
                  </a:lnTo>
                  <a:lnTo>
                    <a:pt x="78091" y="42247"/>
                  </a:lnTo>
                  <a:lnTo>
                    <a:pt x="75587" y="43369"/>
                  </a:lnTo>
                  <a:lnTo>
                    <a:pt x="73072" y="44118"/>
                  </a:lnTo>
                  <a:lnTo>
                    <a:pt x="69701" y="44617"/>
                  </a:lnTo>
                  <a:lnTo>
                    <a:pt x="65761" y="44950"/>
                  </a:lnTo>
                  <a:lnTo>
                    <a:pt x="57714" y="45319"/>
                  </a:lnTo>
                  <a:lnTo>
                    <a:pt x="51315" y="45483"/>
                  </a:lnTo>
                  <a:lnTo>
                    <a:pt x="42953" y="45576"/>
                  </a:lnTo>
                  <a:lnTo>
                    <a:pt x="40309" y="44743"/>
                  </a:lnTo>
                  <a:lnTo>
                    <a:pt x="37699" y="43340"/>
                  </a:lnTo>
                  <a:lnTo>
                    <a:pt x="31473" y="39051"/>
                  </a:lnTo>
                  <a:lnTo>
                    <a:pt x="30962" y="37852"/>
                  </a:lnTo>
                  <a:lnTo>
                    <a:pt x="30622" y="36207"/>
                  </a:lnTo>
                  <a:lnTo>
                    <a:pt x="30394" y="34263"/>
                  </a:lnTo>
                  <a:lnTo>
                    <a:pt x="30243" y="32120"/>
                  </a:lnTo>
                  <a:lnTo>
                    <a:pt x="30142" y="29845"/>
                  </a:lnTo>
                  <a:lnTo>
                    <a:pt x="30075" y="27482"/>
                  </a:lnTo>
                  <a:lnTo>
                    <a:pt x="30876" y="25906"/>
                  </a:lnTo>
                  <a:lnTo>
                    <a:pt x="32258" y="24855"/>
                  </a:lnTo>
                  <a:lnTo>
                    <a:pt x="34025" y="24156"/>
                  </a:lnTo>
                  <a:lnTo>
                    <a:pt x="35204" y="22842"/>
                  </a:lnTo>
                  <a:lnTo>
                    <a:pt x="35989" y="21120"/>
                  </a:lnTo>
                  <a:lnTo>
                    <a:pt x="36513" y="19124"/>
                  </a:lnTo>
                  <a:lnTo>
                    <a:pt x="38555" y="17795"/>
                  </a:lnTo>
                  <a:lnTo>
                    <a:pt x="41610" y="16908"/>
                  </a:lnTo>
                  <a:lnTo>
                    <a:pt x="45340" y="16317"/>
                  </a:lnTo>
                  <a:lnTo>
                    <a:pt x="48674" y="15923"/>
                  </a:lnTo>
                  <a:lnTo>
                    <a:pt x="51742" y="15661"/>
                  </a:lnTo>
                  <a:lnTo>
                    <a:pt x="54635" y="15485"/>
                  </a:lnTo>
                  <a:lnTo>
                    <a:pt x="60107" y="15291"/>
                  </a:lnTo>
                  <a:lnTo>
                    <a:pt x="70205" y="15182"/>
                  </a:lnTo>
                  <a:lnTo>
                    <a:pt x="80698" y="15144"/>
                  </a:lnTo>
                  <a:lnTo>
                    <a:pt x="82405" y="15987"/>
                  </a:lnTo>
                  <a:lnTo>
                    <a:pt x="84390" y="17397"/>
                  </a:lnTo>
                  <a:lnTo>
                    <a:pt x="89614" y="21696"/>
                  </a:lnTo>
                  <a:lnTo>
                    <a:pt x="90043" y="22896"/>
                  </a:lnTo>
                  <a:lnTo>
                    <a:pt x="90328" y="24543"/>
                  </a:lnTo>
                  <a:lnTo>
                    <a:pt x="90519" y="26487"/>
                  </a:lnTo>
                  <a:lnTo>
                    <a:pt x="89799" y="28630"/>
                  </a:lnTo>
                  <a:lnTo>
                    <a:pt x="88473" y="30905"/>
                  </a:lnTo>
                  <a:lnTo>
                    <a:pt x="86742" y="33268"/>
                  </a:lnTo>
                  <a:lnTo>
                    <a:pt x="84742" y="34844"/>
                  </a:lnTo>
                  <a:lnTo>
                    <a:pt x="82561" y="35894"/>
                  </a:lnTo>
                  <a:lnTo>
                    <a:pt x="80260" y="36594"/>
                  </a:lnTo>
                  <a:lnTo>
                    <a:pt x="77881" y="37908"/>
                  </a:lnTo>
                  <a:lnTo>
                    <a:pt x="75447" y="39630"/>
                  </a:lnTo>
                  <a:lnTo>
                    <a:pt x="72978" y="41625"/>
                  </a:lnTo>
                  <a:lnTo>
                    <a:pt x="70485" y="42955"/>
                  </a:lnTo>
                  <a:lnTo>
                    <a:pt x="67977" y="43842"/>
                  </a:lnTo>
                  <a:lnTo>
                    <a:pt x="65458" y="44433"/>
                  </a:lnTo>
                  <a:lnTo>
                    <a:pt x="63779" y="45674"/>
                  </a:lnTo>
                  <a:lnTo>
                    <a:pt x="62659" y="47348"/>
                  </a:lnTo>
                  <a:lnTo>
                    <a:pt x="60420" y="5323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040" bIns="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MARTInkAnnotation37"/>
            <p:cNvSpPr/>
            <p:nvPr/>
          </p:nvSpPr>
          <p:spPr>
            <a:xfrm>
              <a:off x="2895480" y="4281840"/>
              <a:ext cx="320040" cy="720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320041" h="7528">
                  <a:moveTo>
                    <a:pt x="0" y="7527"/>
                  </a:moveTo>
                  <a:lnTo>
                    <a:pt x="13867" y="7527"/>
                  </a:lnTo>
                  <a:lnTo>
                    <a:pt x="16864" y="6681"/>
                  </a:lnTo>
                  <a:lnTo>
                    <a:pt x="26969" y="3482"/>
                  </a:lnTo>
                  <a:lnTo>
                    <a:pt x="32373" y="2290"/>
                  </a:lnTo>
                  <a:lnTo>
                    <a:pt x="37669" y="1496"/>
                  </a:lnTo>
                  <a:lnTo>
                    <a:pt x="42893" y="966"/>
                  </a:lnTo>
                  <a:lnTo>
                    <a:pt x="49762" y="613"/>
                  </a:lnTo>
                  <a:lnTo>
                    <a:pt x="66425" y="221"/>
                  </a:lnTo>
                  <a:lnTo>
                    <a:pt x="94847" y="0"/>
                  </a:lnTo>
                  <a:lnTo>
                    <a:pt x="104718" y="816"/>
                  </a:lnTo>
                  <a:lnTo>
                    <a:pt x="114685" y="2206"/>
                  </a:lnTo>
                  <a:lnTo>
                    <a:pt x="124717" y="3980"/>
                  </a:lnTo>
                  <a:lnTo>
                    <a:pt x="134792" y="5162"/>
                  </a:lnTo>
                  <a:lnTo>
                    <a:pt x="144894" y="5951"/>
                  </a:lnTo>
                  <a:lnTo>
                    <a:pt x="155016" y="6476"/>
                  </a:lnTo>
                  <a:lnTo>
                    <a:pt x="173036" y="7060"/>
                  </a:lnTo>
                  <a:lnTo>
                    <a:pt x="209346" y="7435"/>
                  </a:lnTo>
                  <a:lnTo>
                    <a:pt x="320040" y="752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SMARTInkAnnotation38"/>
            <p:cNvSpPr/>
            <p:nvPr/>
          </p:nvSpPr>
          <p:spPr>
            <a:xfrm>
              <a:off x="3268800" y="4205880"/>
              <a:ext cx="281880" cy="21708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281932" h="217311">
                  <a:moveTo>
                    <a:pt x="38091" y="22746"/>
                  </a:moveTo>
                  <a:lnTo>
                    <a:pt x="44652" y="22746"/>
                  </a:lnTo>
                  <a:lnTo>
                    <a:pt x="45005" y="23592"/>
                  </a:lnTo>
                  <a:lnTo>
                    <a:pt x="45502" y="28829"/>
                  </a:lnTo>
                  <a:lnTo>
                    <a:pt x="45618" y="33352"/>
                  </a:lnTo>
                  <a:lnTo>
                    <a:pt x="45709" y="66383"/>
                  </a:lnTo>
                  <a:lnTo>
                    <a:pt x="44863" y="72158"/>
                  </a:lnTo>
                  <a:lnTo>
                    <a:pt x="43452" y="78547"/>
                  </a:lnTo>
                  <a:lnTo>
                    <a:pt x="41665" y="85347"/>
                  </a:lnTo>
                  <a:lnTo>
                    <a:pt x="39627" y="91573"/>
                  </a:lnTo>
                  <a:lnTo>
                    <a:pt x="37422" y="97418"/>
                  </a:lnTo>
                  <a:lnTo>
                    <a:pt x="35105" y="103007"/>
                  </a:lnTo>
                  <a:lnTo>
                    <a:pt x="32714" y="109273"/>
                  </a:lnTo>
                  <a:lnTo>
                    <a:pt x="27799" y="123009"/>
                  </a:lnTo>
                  <a:lnTo>
                    <a:pt x="20272" y="145023"/>
                  </a:lnTo>
                  <a:lnTo>
                    <a:pt x="17745" y="151677"/>
                  </a:lnTo>
                  <a:lnTo>
                    <a:pt x="15214" y="157807"/>
                  </a:lnTo>
                  <a:lnTo>
                    <a:pt x="12680" y="163586"/>
                  </a:lnTo>
                  <a:lnTo>
                    <a:pt x="10990" y="169133"/>
                  </a:lnTo>
                  <a:lnTo>
                    <a:pt x="9864" y="174524"/>
                  </a:lnTo>
                  <a:lnTo>
                    <a:pt x="9113" y="179811"/>
                  </a:lnTo>
                  <a:lnTo>
                    <a:pt x="7765" y="184183"/>
                  </a:lnTo>
                  <a:lnTo>
                    <a:pt x="6020" y="187944"/>
                  </a:lnTo>
                  <a:lnTo>
                    <a:pt x="2671" y="194380"/>
                  </a:lnTo>
                  <a:lnTo>
                    <a:pt x="1182" y="200063"/>
                  </a:lnTo>
                  <a:lnTo>
                    <a:pt x="22" y="205481"/>
                  </a:lnTo>
                  <a:lnTo>
                    <a:pt x="0" y="201538"/>
                  </a:lnTo>
                  <a:lnTo>
                    <a:pt x="844" y="199514"/>
                  </a:lnTo>
                  <a:lnTo>
                    <a:pt x="6076" y="191774"/>
                  </a:lnTo>
                  <a:lnTo>
                    <a:pt x="8281" y="187925"/>
                  </a:lnTo>
                  <a:lnTo>
                    <a:pt x="10598" y="183665"/>
                  </a:lnTo>
                  <a:lnTo>
                    <a:pt x="13836" y="179132"/>
                  </a:lnTo>
                  <a:lnTo>
                    <a:pt x="17688" y="174417"/>
                  </a:lnTo>
                  <a:lnTo>
                    <a:pt x="21949" y="169580"/>
                  </a:lnTo>
                  <a:lnTo>
                    <a:pt x="25636" y="163815"/>
                  </a:lnTo>
                  <a:lnTo>
                    <a:pt x="28941" y="157432"/>
                  </a:lnTo>
                  <a:lnTo>
                    <a:pt x="31991" y="150637"/>
                  </a:lnTo>
                  <a:lnTo>
                    <a:pt x="35718" y="143567"/>
                  </a:lnTo>
                  <a:lnTo>
                    <a:pt x="39895" y="136313"/>
                  </a:lnTo>
                  <a:lnTo>
                    <a:pt x="44374" y="128937"/>
                  </a:lnTo>
                  <a:lnTo>
                    <a:pt x="53866" y="113969"/>
                  </a:lnTo>
                  <a:lnTo>
                    <a:pt x="88922" y="60834"/>
                  </a:lnTo>
                  <a:lnTo>
                    <a:pt x="93992" y="54064"/>
                  </a:lnTo>
                  <a:lnTo>
                    <a:pt x="99065" y="47858"/>
                  </a:lnTo>
                  <a:lnTo>
                    <a:pt x="104140" y="42028"/>
                  </a:lnTo>
                  <a:lnTo>
                    <a:pt x="110064" y="37294"/>
                  </a:lnTo>
                  <a:lnTo>
                    <a:pt x="116553" y="33291"/>
                  </a:lnTo>
                  <a:lnTo>
                    <a:pt x="123419" y="29776"/>
                  </a:lnTo>
                  <a:lnTo>
                    <a:pt x="128843" y="25739"/>
                  </a:lnTo>
                  <a:lnTo>
                    <a:pt x="133306" y="21355"/>
                  </a:lnTo>
                  <a:lnTo>
                    <a:pt x="137128" y="16739"/>
                  </a:lnTo>
                  <a:lnTo>
                    <a:pt x="141368" y="13661"/>
                  </a:lnTo>
                  <a:lnTo>
                    <a:pt x="145889" y="11609"/>
                  </a:lnTo>
                  <a:lnTo>
                    <a:pt x="154581" y="8483"/>
                  </a:lnTo>
                  <a:lnTo>
                    <a:pt x="161267" y="4272"/>
                  </a:lnTo>
                  <a:lnTo>
                    <a:pt x="169319" y="1835"/>
                  </a:lnTo>
                  <a:lnTo>
                    <a:pt x="177694" y="752"/>
                  </a:lnTo>
                  <a:lnTo>
                    <a:pt x="184239" y="271"/>
                  </a:lnTo>
                  <a:lnTo>
                    <a:pt x="192684" y="0"/>
                  </a:lnTo>
                  <a:lnTo>
                    <a:pt x="194493" y="809"/>
                  </a:lnTo>
                  <a:lnTo>
                    <a:pt x="195699" y="2195"/>
                  </a:lnTo>
                  <a:lnTo>
                    <a:pt x="197885" y="6839"/>
                  </a:lnTo>
                  <a:lnTo>
                    <a:pt x="215982" y="43238"/>
                  </a:lnTo>
                  <a:lnTo>
                    <a:pt x="218491" y="49108"/>
                  </a:lnTo>
                  <a:lnTo>
                    <a:pt x="221011" y="55561"/>
                  </a:lnTo>
                  <a:lnTo>
                    <a:pt x="226069" y="69504"/>
                  </a:lnTo>
                  <a:lnTo>
                    <a:pt x="246372" y="129467"/>
                  </a:lnTo>
                  <a:lnTo>
                    <a:pt x="248065" y="137073"/>
                  </a:lnTo>
                  <a:lnTo>
                    <a:pt x="249194" y="144684"/>
                  </a:lnTo>
                  <a:lnTo>
                    <a:pt x="249946" y="152298"/>
                  </a:lnTo>
                  <a:lnTo>
                    <a:pt x="251295" y="159068"/>
                  </a:lnTo>
                  <a:lnTo>
                    <a:pt x="253040" y="165274"/>
                  </a:lnTo>
                  <a:lnTo>
                    <a:pt x="255051" y="171104"/>
                  </a:lnTo>
                  <a:lnTo>
                    <a:pt x="257237" y="176685"/>
                  </a:lnTo>
                  <a:lnTo>
                    <a:pt x="259542" y="182099"/>
                  </a:lnTo>
                  <a:lnTo>
                    <a:pt x="261925" y="187401"/>
                  </a:lnTo>
                  <a:lnTo>
                    <a:pt x="264360" y="191783"/>
                  </a:lnTo>
                  <a:lnTo>
                    <a:pt x="266831" y="195550"/>
                  </a:lnTo>
                  <a:lnTo>
                    <a:pt x="270986" y="201995"/>
                  </a:lnTo>
                  <a:lnTo>
                    <a:pt x="272834" y="207681"/>
                  </a:lnTo>
                  <a:lnTo>
                    <a:pt x="273873" y="211597"/>
                  </a:lnTo>
                  <a:lnTo>
                    <a:pt x="278227" y="216802"/>
                  </a:lnTo>
                  <a:lnTo>
                    <a:pt x="279461" y="217310"/>
                  </a:lnTo>
                  <a:lnTo>
                    <a:pt x="280285" y="216802"/>
                  </a:lnTo>
                  <a:lnTo>
                    <a:pt x="281931" y="21324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SMARTInkAnnotation39"/>
            <p:cNvSpPr/>
            <p:nvPr/>
          </p:nvSpPr>
          <p:spPr>
            <a:xfrm>
              <a:off x="3710880" y="4312440"/>
              <a:ext cx="205560" cy="756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05740" h="7622">
                  <a:moveTo>
                    <a:pt x="0" y="7621"/>
                  </a:moveTo>
                  <a:lnTo>
                    <a:pt x="13866" y="7621"/>
                  </a:lnTo>
                  <a:lnTo>
                    <a:pt x="16864" y="6774"/>
                  </a:lnTo>
                  <a:lnTo>
                    <a:pt x="26968" y="3575"/>
                  </a:lnTo>
                  <a:lnTo>
                    <a:pt x="32372" y="2384"/>
                  </a:lnTo>
                  <a:lnTo>
                    <a:pt x="37667" y="1589"/>
                  </a:lnTo>
                  <a:lnTo>
                    <a:pt x="42892" y="1059"/>
                  </a:lnTo>
                  <a:lnTo>
                    <a:pt x="48914" y="706"/>
                  </a:lnTo>
                  <a:lnTo>
                    <a:pt x="62379" y="314"/>
                  </a:lnTo>
                  <a:lnTo>
                    <a:pt x="129576" y="9"/>
                  </a:lnTo>
                  <a:lnTo>
                    <a:pt x="205739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SMARTInkAnnotation40"/>
            <p:cNvSpPr/>
            <p:nvPr/>
          </p:nvSpPr>
          <p:spPr>
            <a:xfrm>
              <a:off x="3695400" y="4419000"/>
              <a:ext cx="190440" cy="22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90501" h="22861">
                  <a:moveTo>
                    <a:pt x="0" y="22860"/>
                  </a:moveTo>
                  <a:lnTo>
                    <a:pt x="40156" y="22860"/>
                  </a:lnTo>
                  <a:lnTo>
                    <a:pt x="46244" y="22014"/>
                  </a:lnTo>
                  <a:lnTo>
                    <a:pt x="51996" y="20603"/>
                  </a:lnTo>
                  <a:lnTo>
                    <a:pt x="57524" y="18815"/>
                  </a:lnTo>
                  <a:lnTo>
                    <a:pt x="62903" y="17623"/>
                  </a:lnTo>
                  <a:lnTo>
                    <a:pt x="68182" y="16829"/>
                  </a:lnTo>
                  <a:lnTo>
                    <a:pt x="73395" y="16299"/>
                  </a:lnTo>
                  <a:lnTo>
                    <a:pt x="79410" y="15099"/>
                  </a:lnTo>
                  <a:lnTo>
                    <a:pt x="85960" y="13453"/>
                  </a:lnTo>
                  <a:lnTo>
                    <a:pt x="92866" y="11509"/>
                  </a:lnTo>
                  <a:lnTo>
                    <a:pt x="99164" y="10213"/>
                  </a:lnTo>
                  <a:lnTo>
                    <a:pt x="105056" y="9348"/>
                  </a:lnTo>
                  <a:lnTo>
                    <a:pt x="110678" y="8772"/>
                  </a:lnTo>
                  <a:lnTo>
                    <a:pt x="116965" y="7541"/>
                  </a:lnTo>
                  <a:lnTo>
                    <a:pt x="123697" y="5874"/>
                  </a:lnTo>
                  <a:lnTo>
                    <a:pt x="130724" y="3916"/>
                  </a:lnTo>
                  <a:lnTo>
                    <a:pt x="136256" y="2611"/>
                  </a:lnTo>
                  <a:lnTo>
                    <a:pt x="140791" y="1741"/>
                  </a:lnTo>
                  <a:lnTo>
                    <a:pt x="144661" y="1160"/>
                  </a:lnTo>
                  <a:lnTo>
                    <a:pt x="148934" y="774"/>
                  </a:lnTo>
                  <a:lnTo>
                    <a:pt x="153476" y="515"/>
                  </a:lnTo>
                  <a:lnTo>
                    <a:pt x="163038" y="229"/>
                  </a:ln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SMARTInkAnnotation41"/>
            <p:cNvSpPr/>
            <p:nvPr/>
          </p:nvSpPr>
          <p:spPr>
            <a:xfrm>
              <a:off x="4038840" y="4199760"/>
              <a:ext cx="395640" cy="23400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234000"/>
                <a:gd name="textAreaBottom" fmla="*/ 234360 h 234000"/>
              </a:gdLst>
              <a:ahLst/>
              <a:rect l="textAreaLeft" t="textAreaTop" r="textAreaRight" b="textAreaBottom"/>
              <a:pathLst>
                <a:path w="395891" h="234294">
                  <a:moveTo>
                    <a:pt x="37749" y="21207"/>
                  </a:moveTo>
                  <a:lnTo>
                    <a:pt x="37749" y="98732"/>
                  </a:lnTo>
                  <a:lnTo>
                    <a:pt x="36903" y="105911"/>
                  </a:lnTo>
                  <a:lnTo>
                    <a:pt x="35491" y="113236"/>
                  </a:lnTo>
                  <a:lnTo>
                    <a:pt x="27143" y="147289"/>
                  </a:lnTo>
                  <a:lnTo>
                    <a:pt x="25599" y="155215"/>
                  </a:lnTo>
                  <a:lnTo>
                    <a:pt x="24568" y="162192"/>
                  </a:lnTo>
                  <a:lnTo>
                    <a:pt x="23882" y="168537"/>
                  </a:lnTo>
                  <a:lnTo>
                    <a:pt x="22578" y="175307"/>
                  </a:lnTo>
                  <a:lnTo>
                    <a:pt x="20862" y="182360"/>
                  </a:lnTo>
                  <a:lnTo>
                    <a:pt x="18871" y="189602"/>
                  </a:lnTo>
                  <a:lnTo>
                    <a:pt x="16697" y="196124"/>
                  </a:lnTo>
                  <a:lnTo>
                    <a:pt x="14401" y="202165"/>
                  </a:lnTo>
                  <a:lnTo>
                    <a:pt x="12024" y="207886"/>
                  </a:lnTo>
                  <a:lnTo>
                    <a:pt x="10439" y="213393"/>
                  </a:lnTo>
                  <a:lnTo>
                    <a:pt x="9382" y="218758"/>
                  </a:lnTo>
                  <a:lnTo>
                    <a:pt x="8678" y="224028"/>
                  </a:lnTo>
                  <a:lnTo>
                    <a:pt x="7362" y="227540"/>
                  </a:lnTo>
                  <a:lnTo>
                    <a:pt x="5637" y="229883"/>
                  </a:lnTo>
                  <a:lnTo>
                    <a:pt x="0" y="234293"/>
                  </a:lnTo>
                  <a:lnTo>
                    <a:pt x="3798" y="230441"/>
                  </a:lnTo>
                  <a:lnTo>
                    <a:pt x="7985" y="223984"/>
                  </a:lnTo>
                  <a:lnTo>
                    <a:pt x="10286" y="219892"/>
                  </a:lnTo>
                  <a:lnTo>
                    <a:pt x="13514" y="214624"/>
                  </a:lnTo>
                  <a:lnTo>
                    <a:pt x="21616" y="201997"/>
                  </a:lnTo>
                  <a:lnTo>
                    <a:pt x="27840" y="194227"/>
                  </a:lnTo>
                  <a:lnTo>
                    <a:pt x="35377" y="185660"/>
                  </a:lnTo>
                  <a:lnTo>
                    <a:pt x="43787" y="176562"/>
                  </a:lnTo>
                  <a:lnTo>
                    <a:pt x="51088" y="167111"/>
                  </a:lnTo>
                  <a:lnTo>
                    <a:pt x="57648" y="157423"/>
                  </a:lnTo>
                  <a:lnTo>
                    <a:pt x="63716" y="147578"/>
                  </a:lnTo>
                  <a:lnTo>
                    <a:pt x="71147" y="137627"/>
                  </a:lnTo>
                  <a:lnTo>
                    <a:pt x="79488" y="127607"/>
                  </a:lnTo>
                  <a:lnTo>
                    <a:pt x="88435" y="117540"/>
                  </a:lnTo>
                  <a:lnTo>
                    <a:pt x="96940" y="107443"/>
                  </a:lnTo>
                  <a:lnTo>
                    <a:pt x="113163" y="87192"/>
                  </a:lnTo>
                  <a:lnTo>
                    <a:pt x="121044" y="77896"/>
                  </a:lnTo>
                  <a:lnTo>
                    <a:pt x="128839" y="69161"/>
                  </a:lnTo>
                  <a:lnTo>
                    <a:pt x="143427" y="53527"/>
                  </a:lnTo>
                  <a:lnTo>
                    <a:pt x="155555" y="40933"/>
                  </a:lnTo>
                  <a:lnTo>
                    <a:pt x="162007" y="35205"/>
                  </a:lnTo>
                  <a:lnTo>
                    <a:pt x="168848" y="29692"/>
                  </a:lnTo>
                  <a:lnTo>
                    <a:pt x="175948" y="24324"/>
                  </a:lnTo>
                  <a:lnTo>
                    <a:pt x="183222" y="19898"/>
                  </a:lnTo>
                  <a:lnTo>
                    <a:pt x="190611" y="16101"/>
                  </a:lnTo>
                  <a:lnTo>
                    <a:pt x="198077" y="12723"/>
                  </a:lnTo>
                  <a:lnTo>
                    <a:pt x="208630" y="6712"/>
                  </a:lnTo>
                  <a:lnTo>
                    <a:pt x="212630" y="3924"/>
                  </a:lnTo>
                  <a:lnTo>
                    <a:pt x="221590" y="826"/>
                  </a:lnTo>
                  <a:lnTo>
                    <a:pt x="226350" y="0"/>
                  </a:lnTo>
                  <a:lnTo>
                    <a:pt x="231216" y="295"/>
                  </a:lnTo>
                  <a:lnTo>
                    <a:pt x="241139" y="2882"/>
                  </a:lnTo>
                  <a:lnTo>
                    <a:pt x="251193" y="6854"/>
                  </a:lnTo>
                  <a:lnTo>
                    <a:pt x="261307" y="12288"/>
                  </a:lnTo>
                  <a:lnTo>
                    <a:pt x="266374" y="16108"/>
                  </a:lnTo>
                  <a:lnTo>
                    <a:pt x="271446" y="20348"/>
                  </a:lnTo>
                  <a:lnTo>
                    <a:pt x="276520" y="25714"/>
                  </a:lnTo>
                  <a:lnTo>
                    <a:pt x="281597" y="31831"/>
                  </a:lnTo>
                  <a:lnTo>
                    <a:pt x="286674" y="38450"/>
                  </a:lnTo>
                  <a:lnTo>
                    <a:pt x="291752" y="44556"/>
                  </a:lnTo>
                  <a:lnTo>
                    <a:pt x="296831" y="50320"/>
                  </a:lnTo>
                  <a:lnTo>
                    <a:pt x="301911" y="55856"/>
                  </a:lnTo>
                  <a:lnTo>
                    <a:pt x="306990" y="62933"/>
                  </a:lnTo>
                  <a:lnTo>
                    <a:pt x="312070" y="71038"/>
                  </a:lnTo>
                  <a:lnTo>
                    <a:pt x="317149" y="79827"/>
                  </a:lnTo>
                  <a:lnTo>
                    <a:pt x="327310" y="96367"/>
                  </a:lnTo>
                  <a:lnTo>
                    <a:pt x="342549" y="119959"/>
                  </a:lnTo>
                  <a:lnTo>
                    <a:pt x="347629" y="127682"/>
                  </a:lnTo>
                  <a:lnTo>
                    <a:pt x="351863" y="135370"/>
                  </a:lnTo>
                  <a:lnTo>
                    <a:pt x="355532" y="143036"/>
                  </a:lnTo>
                  <a:lnTo>
                    <a:pt x="358825" y="150686"/>
                  </a:lnTo>
                  <a:lnTo>
                    <a:pt x="364741" y="163702"/>
                  </a:lnTo>
                  <a:lnTo>
                    <a:pt x="367504" y="169544"/>
                  </a:lnTo>
                  <a:lnTo>
                    <a:pt x="371039" y="175132"/>
                  </a:lnTo>
                  <a:lnTo>
                    <a:pt x="375089" y="180550"/>
                  </a:lnTo>
                  <a:lnTo>
                    <a:pt x="379482" y="185856"/>
                  </a:lnTo>
                  <a:lnTo>
                    <a:pt x="382412" y="191086"/>
                  </a:lnTo>
                  <a:lnTo>
                    <a:pt x="384364" y="196267"/>
                  </a:lnTo>
                  <a:lnTo>
                    <a:pt x="385666" y="201413"/>
                  </a:lnTo>
                  <a:lnTo>
                    <a:pt x="387380" y="205691"/>
                  </a:lnTo>
                  <a:lnTo>
                    <a:pt x="391543" y="212702"/>
                  </a:lnTo>
                  <a:lnTo>
                    <a:pt x="395890" y="21932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1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d9d9d9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Name the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2"/>
              <p:cNvSpPr txBox="1"/>
              <p:nvPr/>
            </p:nvSpPr>
            <p:spPr>
              <a:xfrm>
                <a:off x="380880" y="838080"/>
                <a:ext cx="20638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 1</m:t>
                    </m:r>
                    <m:r>
                      <m:t xml:space="preserve">)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380880" y="1417680"/>
                <a:ext cx="48769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 2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-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5"/>
              <p:cNvSpPr txBox="1"/>
              <p:nvPr/>
            </p:nvSpPr>
            <p:spPr>
              <a:xfrm>
                <a:off x="380880" y="2133720"/>
                <a:ext cx="33084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 3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6"/>
              <p:cNvSpPr txBox="1"/>
              <p:nvPr/>
            </p:nvSpPr>
            <p:spPr>
              <a:xfrm>
                <a:off x="380880" y="2743200"/>
                <a:ext cx="2433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 4</m:t>
                    </m:r>
                    <m:r>
                      <m:t xml:space="preserve">)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7"/>
              <p:cNvSpPr txBox="1"/>
              <p:nvPr/>
            </p:nvSpPr>
            <p:spPr>
              <a:xfrm>
                <a:off x="380880" y="3429000"/>
                <a:ext cx="23623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 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8"/>
              <p:cNvSpPr txBox="1"/>
              <p:nvPr/>
            </p:nvSpPr>
            <p:spPr>
              <a:xfrm>
                <a:off x="380880" y="4114800"/>
                <a:ext cx="3097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 6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7" name="Group 16"/>
          <p:cNvGrpSpPr/>
          <p:nvPr/>
        </p:nvGrpSpPr>
        <p:grpSpPr>
          <a:xfrm>
            <a:off x="3162240" y="861840"/>
            <a:ext cx="3597480" cy="501840"/>
            <a:chOff x="3162240" y="861840"/>
            <a:chExt cx="3597480" cy="501840"/>
          </a:xfrm>
        </p:grpSpPr>
        <p:sp>
          <p:nvSpPr>
            <p:cNvPr id="228" name="SMARTInkAnnotation1"/>
            <p:cNvSpPr/>
            <p:nvPr/>
          </p:nvSpPr>
          <p:spPr>
            <a:xfrm>
              <a:off x="3253680" y="928800"/>
              <a:ext cx="129240" cy="34344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343440"/>
                <a:gd name="textAreaBottom" fmla="*/ 343800 h 343440"/>
              </a:gdLst>
              <a:ahLst/>
              <a:rect l="textAreaLeft" t="textAreaTop" r="textAreaRight" b="textAreaBottom"/>
              <a:pathLst>
                <a:path w="129541" h="342901">
                  <a:moveTo>
                    <a:pt x="129540" y="0"/>
                  </a:moveTo>
                  <a:lnTo>
                    <a:pt x="129540" y="10606"/>
                  </a:lnTo>
                  <a:lnTo>
                    <a:pt x="127283" y="17696"/>
                  </a:lnTo>
                  <a:lnTo>
                    <a:pt x="123457" y="27338"/>
                  </a:lnTo>
                  <a:lnTo>
                    <a:pt x="118934" y="40090"/>
                  </a:lnTo>
                  <a:lnTo>
                    <a:pt x="96509" y="106732"/>
                  </a:lnTo>
                  <a:lnTo>
                    <a:pt x="93125" y="115181"/>
                  </a:lnTo>
                  <a:lnTo>
                    <a:pt x="89177" y="124201"/>
                  </a:lnTo>
                  <a:lnTo>
                    <a:pt x="84851" y="133601"/>
                  </a:lnTo>
                  <a:lnTo>
                    <a:pt x="81121" y="142407"/>
                  </a:lnTo>
                  <a:lnTo>
                    <a:pt x="77787" y="150818"/>
                  </a:lnTo>
                  <a:lnTo>
                    <a:pt x="74718" y="158965"/>
                  </a:lnTo>
                  <a:lnTo>
                    <a:pt x="71826" y="167784"/>
                  </a:lnTo>
                  <a:lnTo>
                    <a:pt x="69050" y="177049"/>
                  </a:lnTo>
                  <a:lnTo>
                    <a:pt x="66353" y="186613"/>
                  </a:lnTo>
                  <a:lnTo>
                    <a:pt x="62862" y="195529"/>
                  </a:lnTo>
                  <a:lnTo>
                    <a:pt x="58842" y="204012"/>
                  </a:lnTo>
                  <a:lnTo>
                    <a:pt x="54468" y="212208"/>
                  </a:lnTo>
                  <a:lnTo>
                    <a:pt x="50705" y="221059"/>
                  </a:lnTo>
                  <a:lnTo>
                    <a:pt x="47350" y="230346"/>
                  </a:lnTo>
                  <a:lnTo>
                    <a:pt x="44267" y="239924"/>
                  </a:lnTo>
                  <a:lnTo>
                    <a:pt x="40518" y="248849"/>
                  </a:lnTo>
                  <a:lnTo>
                    <a:pt x="36325" y="257340"/>
                  </a:lnTo>
                  <a:lnTo>
                    <a:pt x="31837" y="265540"/>
                  </a:lnTo>
                  <a:lnTo>
                    <a:pt x="27998" y="273547"/>
                  </a:lnTo>
                  <a:lnTo>
                    <a:pt x="24592" y="281424"/>
                  </a:lnTo>
                  <a:lnTo>
                    <a:pt x="21474" y="289216"/>
                  </a:lnTo>
                  <a:lnTo>
                    <a:pt x="18550" y="296104"/>
                  </a:lnTo>
                  <a:lnTo>
                    <a:pt x="13042" y="308273"/>
                  </a:lnTo>
                  <a:lnTo>
                    <a:pt x="5182" y="324644"/>
                  </a:lnTo>
                  <a:lnTo>
                    <a:pt x="2303" y="332811"/>
                  </a:lnTo>
                  <a:lnTo>
                    <a:pt x="0" y="3429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SMARTInkAnnotation2"/>
            <p:cNvSpPr/>
            <p:nvPr/>
          </p:nvSpPr>
          <p:spPr>
            <a:xfrm>
              <a:off x="3200040" y="890640"/>
              <a:ext cx="350280" cy="3024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50520" h="30481">
                  <a:moveTo>
                    <a:pt x="7619" y="30480"/>
                  </a:moveTo>
                  <a:lnTo>
                    <a:pt x="1058" y="30480"/>
                  </a:lnTo>
                  <a:lnTo>
                    <a:pt x="705" y="29633"/>
                  </a:lnTo>
                  <a:lnTo>
                    <a:pt x="470" y="28222"/>
                  </a:lnTo>
                  <a:lnTo>
                    <a:pt x="2" y="22888"/>
                  </a:lnTo>
                  <a:lnTo>
                    <a:pt x="0" y="22863"/>
                  </a:lnTo>
                  <a:lnTo>
                    <a:pt x="4045" y="22861"/>
                  </a:lnTo>
                  <a:lnTo>
                    <a:pt x="6083" y="22014"/>
                  </a:lnTo>
                  <a:lnTo>
                    <a:pt x="8288" y="20603"/>
                  </a:lnTo>
                  <a:lnTo>
                    <a:pt x="10605" y="18815"/>
                  </a:lnTo>
                  <a:lnTo>
                    <a:pt x="14690" y="17623"/>
                  </a:lnTo>
                  <a:lnTo>
                    <a:pt x="19953" y="16829"/>
                  </a:lnTo>
                  <a:lnTo>
                    <a:pt x="26002" y="16299"/>
                  </a:lnTo>
                  <a:lnTo>
                    <a:pt x="32574" y="15100"/>
                  </a:lnTo>
                  <a:lnTo>
                    <a:pt x="39496" y="13453"/>
                  </a:lnTo>
                  <a:lnTo>
                    <a:pt x="46650" y="11509"/>
                  </a:lnTo>
                  <a:lnTo>
                    <a:pt x="53960" y="10213"/>
                  </a:lnTo>
                  <a:lnTo>
                    <a:pt x="61373" y="9348"/>
                  </a:lnTo>
                  <a:lnTo>
                    <a:pt x="68855" y="8772"/>
                  </a:lnTo>
                  <a:lnTo>
                    <a:pt x="77230" y="7542"/>
                  </a:lnTo>
                  <a:lnTo>
                    <a:pt x="86200" y="5874"/>
                  </a:lnTo>
                  <a:lnTo>
                    <a:pt x="95566" y="3916"/>
                  </a:lnTo>
                  <a:lnTo>
                    <a:pt x="104350" y="2611"/>
                  </a:lnTo>
                  <a:lnTo>
                    <a:pt x="112747" y="1741"/>
                  </a:lnTo>
                  <a:lnTo>
                    <a:pt x="120884" y="1161"/>
                  </a:lnTo>
                  <a:lnTo>
                    <a:pt x="129696" y="774"/>
                  </a:lnTo>
                  <a:lnTo>
                    <a:pt x="148518" y="344"/>
                  </a:lnTo>
                  <a:lnTo>
                    <a:pt x="350519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SMARTInkAnnotation3"/>
            <p:cNvSpPr/>
            <p:nvPr/>
          </p:nvSpPr>
          <p:spPr>
            <a:xfrm>
              <a:off x="3162240" y="1272240"/>
              <a:ext cx="502920" cy="91440"/>
            </a:xfrm>
            <a:custGeom>
              <a:avLst/>
              <a:gdLst>
                <a:gd name="textAreaLeft" fmla="*/ 0 w 502920"/>
                <a:gd name="textAreaRight" fmla="*/ 503280 w 5029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502921" h="91441">
                  <a:moveTo>
                    <a:pt x="0" y="91440"/>
                  </a:moveTo>
                  <a:lnTo>
                    <a:pt x="8091" y="91440"/>
                  </a:lnTo>
                  <a:lnTo>
                    <a:pt x="13860" y="89747"/>
                  </a:lnTo>
                  <a:lnTo>
                    <a:pt x="21094" y="86925"/>
                  </a:lnTo>
                  <a:lnTo>
                    <a:pt x="29303" y="83350"/>
                  </a:lnTo>
                  <a:lnTo>
                    <a:pt x="36468" y="80966"/>
                  </a:lnTo>
                  <a:lnTo>
                    <a:pt x="48946" y="78318"/>
                  </a:lnTo>
                  <a:lnTo>
                    <a:pt x="103080" y="68190"/>
                  </a:lnTo>
                  <a:lnTo>
                    <a:pt x="176637" y="55829"/>
                  </a:lnTo>
                  <a:lnTo>
                    <a:pt x="210021" y="50777"/>
                  </a:lnTo>
                  <a:lnTo>
                    <a:pt x="227220" y="47398"/>
                  </a:lnTo>
                  <a:lnTo>
                    <a:pt x="244614" y="43452"/>
                  </a:lnTo>
                  <a:lnTo>
                    <a:pt x="262136" y="39128"/>
                  </a:lnTo>
                  <a:lnTo>
                    <a:pt x="279744" y="35399"/>
                  </a:lnTo>
                  <a:lnTo>
                    <a:pt x="297409" y="32066"/>
                  </a:lnTo>
                  <a:lnTo>
                    <a:pt x="332842" y="26105"/>
                  </a:lnTo>
                  <a:lnTo>
                    <a:pt x="421653" y="12793"/>
                  </a:lnTo>
                  <a:lnTo>
                    <a:pt x="436043" y="11069"/>
                  </a:lnTo>
                  <a:lnTo>
                    <a:pt x="448175" y="9919"/>
                  </a:lnTo>
                  <a:lnTo>
                    <a:pt x="458803" y="9153"/>
                  </a:lnTo>
                  <a:lnTo>
                    <a:pt x="468429" y="7795"/>
                  </a:lnTo>
                  <a:lnTo>
                    <a:pt x="477387" y="6043"/>
                  </a:lnTo>
                  <a:lnTo>
                    <a:pt x="5029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SMARTInkAnnotation4"/>
            <p:cNvSpPr/>
            <p:nvPr/>
          </p:nvSpPr>
          <p:spPr>
            <a:xfrm>
              <a:off x="3720600" y="867600"/>
              <a:ext cx="302760" cy="39312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393120"/>
                <a:gd name="textAreaBottom" fmla="*/ 393480 h 393120"/>
              </a:gdLst>
              <a:ahLst/>
              <a:rect l="textAreaLeft" t="textAreaTop" r="textAreaRight" b="textAreaBottom"/>
              <a:pathLst>
                <a:path w="302667" h="392479">
                  <a:moveTo>
                    <a:pt x="203606" y="0"/>
                  </a:moveTo>
                  <a:lnTo>
                    <a:pt x="214212" y="10606"/>
                  </a:lnTo>
                  <a:lnTo>
                    <a:pt x="215756" y="14691"/>
                  </a:lnTo>
                  <a:lnTo>
                    <a:pt x="218777" y="32575"/>
                  </a:lnTo>
                  <a:lnTo>
                    <a:pt x="220493" y="39497"/>
                  </a:lnTo>
                  <a:lnTo>
                    <a:pt x="222485" y="46651"/>
                  </a:lnTo>
                  <a:lnTo>
                    <a:pt x="223811" y="54807"/>
                  </a:lnTo>
                  <a:lnTo>
                    <a:pt x="224697" y="63632"/>
                  </a:lnTo>
                  <a:lnTo>
                    <a:pt x="225286" y="72901"/>
                  </a:lnTo>
                  <a:lnTo>
                    <a:pt x="225680" y="82467"/>
                  </a:lnTo>
                  <a:lnTo>
                    <a:pt x="226117" y="102128"/>
                  </a:lnTo>
                  <a:lnTo>
                    <a:pt x="226362" y="132236"/>
                  </a:lnTo>
                  <a:lnTo>
                    <a:pt x="228090" y="142344"/>
                  </a:lnTo>
                  <a:lnTo>
                    <a:pt x="230935" y="152469"/>
                  </a:lnTo>
                  <a:lnTo>
                    <a:pt x="234526" y="162606"/>
                  </a:lnTo>
                  <a:lnTo>
                    <a:pt x="236919" y="171904"/>
                  </a:lnTo>
                  <a:lnTo>
                    <a:pt x="238515" y="180643"/>
                  </a:lnTo>
                  <a:lnTo>
                    <a:pt x="239579" y="189009"/>
                  </a:lnTo>
                  <a:lnTo>
                    <a:pt x="241135" y="197972"/>
                  </a:lnTo>
                  <a:lnTo>
                    <a:pt x="243018" y="207335"/>
                  </a:lnTo>
                  <a:lnTo>
                    <a:pt x="245121" y="216963"/>
                  </a:lnTo>
                  <a:lnTo>
                    <a:pt x="248216" y="225076"/>
                  </a:lnTo>
                  <a:lnTo>
                    <a:pt x="251972" y="232177"/>
                  </a:lnTo>
                  <a:lnTo>
                    <a:pt x="256170" y="238605"/>
                  </a:lnTo>
                  <a:lnTo>
                    <a:pt x="259815" y="245430"/>
                  </a:lnTo>
                  <a:lnTo>
                    <a:pt x="263093" y="252520"/>
                  </a:lnTo>
                  <a:lnTo>
                    <a:pt x="266123" y="259787"/>
                  </a:lnTo>
                  <a:lnTo>
                    <a:pt x="268992" y="266324"/>
                  </a:lnTo>
                  <a:lnTo>
                    <a:pt x="274435" y="278104"/>
                  </a:lnTo>
                  <a:lnTo>
                    <a:pt x="278214" y="290211"/>
                  </a:lnTo>
                  <a:lnTo>
                    <a:pt x="279596" y="302293"/>
                  </a:lnTo>
                  <a:lnTo>
                    <a:pt x="279764" y="304305"/>
                  </a:lnTo>
                  <a:lnTo>
                    <a:pt x="271703" y="304653"/>
                  </a:lnTo>
                  <a:lnTo>
                    <a:pt x="254545" y="304757"/>
                  </a:lnTo>
                  <a:lnTo>
                    <a:pt x="247726" y="303924"/>
                  </a:lnTo>
                  <a:lnTo>
                    <a:pt x="240639" y="302523"/>
                  </a:lnTo>
                  <a:lnTo>
                    <a:pt x="233375" y="300742"/>
                  </a:lnTo>
                  <a:lnTo>
                    <a:pt x="214015" y="296505"/>
                  </a:lnTo>
                  <a:lnTo>
                    <a:pt x="202925" y="294190"/>
                  </a:lnTo>
                  <a:lnTo>
                    <a:pt x="192146" y="292647"/>
                  </a:lnTo>
                  <a:lnTo>
                    <a:pt x="181573" y="291618"/>
                  </a:lnTo>
                  <a:lnTo>
                    <a:pt x="171137" y="290932"/>
                  </a:lnTo>
                  <a:lnTo>
                    <a:pt x="159947" y="291321"/>
                  </a:lnTo>
                  <a:lnTo>
                    <a:pt x="148253" y="292428"/>
                  </a:lnTo>
                  <a:lnTo>
                    <a:pt x="136224" y="294012"/>
                  </a:lnTo>
                  <a:lnTo>
                    <a:pt x="123972" y="295068"/>
                  </a:lnTo>
                  <a:lnTo>
                    <a:pt x="111570" y="295772"/>
                  </a:lnTo>
                  <a:lnTo>
                    <a:pt x="99068" y="296241"/>
                  </a:lnTo>
                  <a:lnTo>
                    <a:pt x="87348" y="298248"/>
                  </a:lnTo>
                  <a:lnTo>
                    <a:pt x="76148" y="301278"/>
                  </a:lnTo>
                  <a:lnTo>
                    <a:pt x="37883" y="314264"/>
                  </a:lnTo>
                  <a:lnTo>
                    <a:pt x="30470" y="317883"/>
                  </a:lnTo>
                  <a:lnTo>
                    <a:pt x="23836" y="321989"/>
                  </a:lnTo>
                  <a:lnTo>
                    <a:pt x="17719" y="326419"/>
                  </a:lnTo>
                  <a:lnTo>
                    <a:pt x="8666" y="335857"/>
                  </a:lnTo>
                  <a:lnTo>
                    <a:pt x="5066" y="340745"/>
                  </a:lnTo>
                  <a:lnTo>
                    <a:pt x="1066" y="350691"/>
                  </a:lnTo>
                  <a:lnTo>
                    <a:pt x="0" y="355714"/>
                  </a:lnTo>
                  <a:lnTo>
                    <a:pt x="982" y="359909"/>
                  </a:lnTo>
                  <a:lnTo>
                    <a:pt x="3331" y="363553"/>
                  </a:lnTo>
                  <a:lnTo>
                    <a:pt x="11301" y="370706"/>
                  </a:lnTo>
                  <a:lnTo>
                    <a:pt x="16983" y="374984"/>
                  </a:lnTo>
                  <a:lnTo>
                    <a:pt x="23311" y="379529"/>
                  </a:lnTo>
                  <a:lnTo>
                    <a:pt x="30916" y="382559"/>
                  </a:lnTo>
                  <a:lnTo>
                    <a:pt x="39373" y="384580"/>
                  </a:lnTo>
                  <a:lnTo>
                    <a:pt x="48398" y="385926"/>
                  </a:lnTo>
                  <a:lnTo>
                    <a:pt x="69714" y="389681"/>
                  </a:lnTo>
                  <a:lnTo>
                    <a:pt x="81325" y="391867"/>
                  </a:lnTo>
                  <a:lnTo>
                    <a:pt x="93298" y="392478"/>
                  </a:lnTo>
                  <a:lnTo>
                    <a:pt x="105514" y="392039"/>
                  </a:lnTo>
                  <a:lnTo>
                    <a:pt x="117892" y="390899"/>
                  </a:lnTo>
                  <a:lnTo>
                    <a:pt x="131223" y="390139"/>
                  </a:lnTo>
                  <a:lnTo>
                    <a:pt x="159582" y="389295"/>
                  </a:lnTo>
                  <a:lnTo>
                    <a:pt x="173411" y="387377"/>
                  </a:lnTo>
                  <a:lnTo>
                    <a:pt x="186862" y="384405"/>
                  </a:lnTo>
                  <a:lnTo>
                    <a:pt x="200064" y="380730"/>
                  </a:lnTo>
                  <a:lnTo>
                    <a:pt x="213098" y="377433"/>
                  </a:lnTo>
                  <a:lnTo>
                    <a:pt x="249975" y="368748"/>
                  </a:lnTo>
                  <a:lnTo>
                    <a:pt x="259918" y="366059"/>
                  </a:lnTo>
                  <a:lnTo>
                    <a:pt x="269088" y="363419"/>
                  </a:lnTo>
                  <a:lnTo>
                    <a:pt x="276893" y="361659"/>
                  </a:lnTo>
                  <a:lnTo>
                    <a:pt x="283791" y="360486"/>
                  </a:lnTo>
                  <a:lnTo>
                    <a:pt x="302666" y="3581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SMARTInkAnnotation5"/>
            <p:cNvSpPr/>
            <p:nvPr/>
          </p:nvSpPr>
          <p:spPr>
            <a:xfrm>
              <a:off x="4101120" y="1081800"/>
              <a:ext cx="524160" cy="16596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0 h 165960"/>
                <a:gd name="textAreaBottom" fmla="*/ 165960 h 165960"/>
              </a:gdLst>
              <a:ahLst/>
              <a:rect l="textAreaLeft" t="textAreaTop" r="textAreaRight" b="textAreaBottom"/>
              <a:pathLst>
                <a:path w="524209" h="165792">
                  <a:moveTo>
                    <a:pt x="97487" y="22518"/>
                  </a:moveTo>
                  <a:lnTo>
                    <a:pt x="111640" y="8365"/>
                  </a:lnTo>
                  <a:lnTo>
                    <a:pt x="112245" y="5503"/>
                  </a:lnTo>
                  <a:lnTo>
                    <a:pt x="112405" y="3555"/>
                  </a:lnTo>
                  <a:lnTo>
                    <a:pt x="111666" y="2256"/>
                  </a:lnTo>
                  <a:lnTo>
                    <a:pt x="110326" y="1390"/>
                  </a:lnTo>
                  <a:lnTo>
                    <a:pt x="106580" y="428"/>
                  </a:lnTo>
                  <a:lnTo>
                    <a:pt x="102093" y="0"/>
                  </a:lnTo>
                  <a:lnTo>
                    <a:pt x="86716" y="3805"/>
                  </a:lnTo>
                  <a:lnTo>
                    <a:pt x="75485" y="5734"/>
                  </a:lnTo>
                  <a:lnTo>
                    <a:pt x="64848" y="7439"/>
                  </a:lnTo>
                  <a:lnTo>
                    <a:pt x="54477" y="11018"/>
                  </a:lnTo>
                  <a:lnTo>
                    <a:pt x="35073" y="17794"/>
                  </a:lnTo>
                  <a:lnTo>
                    <a:pt x="25156" y="22676"/>
                  </a:lnTo>
                  <a:lnTo>
                    <a:pt x="17927" y="27668"/>
                  </a:lnTo>
                  <a:lnTo>
                    <a:pt x="11891" y="32709"/>
                  </a:lnTo>
                  <a:lnTo>
                    <a:pt x="9097" y="36085"/>
                  </a:lnTo>
                  <a:lnTo>
                    <a:pt x="6387" y="40030"/>
                  </a:lnTo>
                  <a:lnTo>
                    <a:pt x="3733" y="44353"/>
                  </a:lnTo>
                  <a:lnTo>
                    <a:pt x="1965" y="48081"/>
                  </a:lnTo>
                  <a:lnTo>
                    <a:pt x="786" y="51413"/>
                  </a:lnTo>
                  <a:lnTo>
                    <a:pt x="0" y="54482"/>
                  </a:lnTo>
                  <a:lnTo>
                    <a:pt x="322" y="57374"/>
                  </a:lnTo>
                  <a:lnTo>
                    <a:pt x="1384" y="60149"/>
                  </a:lnTo>
                  <a:lnTo>
                    <a:pt x="2938" y="62845"/>
                  </a:lnTo>
                  <a:lnTo>
                    <a:pt x="4821" y="65489"/>
                  </a:lnTo>
                  <a:lnTo>
                    <a:pt x="6923" y="68099"/>
                  </a:lnTo>
                  <a:lnTo>
                    <a:pt x="9171" y="70685"/>
                  </a:lnTo>
                  <a:lnTo>
                    <a:pt x="16184" y="75817"/>
                  </a:lnTo>
                  <a:lnTo>
                    <a:pt x="20426" y="78371"/>
                  </a:lnTo>
                  <a:lnTo>
                    <a:pt x="29653" y="81208"/>
                  </a:lnTo>
                  <a:lnTo>
                    <a:pt x="34484" y="81965"/>
                  </a:lnTo>
                  <a:lnTo>
                    <a:pt x="42110" y="85063"/>
                  </a:lnTo>
                  <a:lnTo>
                    <a:pt x="48321" y="88416"/>
                  </a:lnTo>
                  <a:lnTo>
                    <a:pt x="53904" y="89906"/>
                  </a:lnTo>
                  <a:lnTo>
                    <a:pt x="69512" y="90993"/>
                  </a:lnTo>
                  <a:lnTo>
                    <a:pt x="73111" y="91067"/>
                  </a:lnTo>
                  <a:lnTo>
                    <a:pt x="73617" y="91924"/>
                  </a:lnTo>
                  <a:lnTo>
                    <a:pt x="74178" y="95134"/>
                  </a:lnTo>
                  <a:lnTo>
                    <a:pt x="73482" y="96329"/>
                  </a:lnTo>
                  <a:lnTo>
                    <a:pt x="72170" y="97125"/>
                  </a:lnTo>
                  <a:lnTo>
                    <a:pt x="70449" y="97656"/>
                  </a:lnTo>
                  <a:lnTo>
                    <a:pt x="69302" y="98857"/>
                  </a:lnTo>
                  <a:lnTo>
                    <a:pt x="68537" y="100504"/>
                  </a:lnTo>
                  <a:lnTo>
                    <a:pt x="68027" y="102449"/>
                  </a:lnTo>
                  <a:lnTo>
                    <a:pt x="65203" y="106867"/>
                  </a:lnTo>
                  <a:lnTo>
                    <a:pt x="63264" y="109231"/>
                  </a:lnTo>
                  <a:lnTo>
                    <a:pt x="61125" y="112500"/>
                  </a:lnTo>
                  <a:lnTo>
                    <a:pt x="58853" y="116373"/>
                  </a:lnTo>
                  <a:lnTo>
                    <a:pt x="56490" y="120648"/>
                  </a:lnTo>
                  <a:lnTo>
                    <a:pt x="54916" y="124345"/>
                  </a:lnTo>
                  <a:lnTo>
                    <a:pt x="53867" y="127656"/>
                  </a:lnTo>
                  <a:lnTo>
                    <a:pt x="53167" y="130710"/>
                  </a:lnTo>
                  <a:lnTo>
                    <a:pt x="52700" y="133593"/>
                  </a:lnTo>
                  <a:lnTo>
                    <a:pt x="52390" y="136361"/>
                  </a:lnTo>
                  <a:lnTo>
                    <a:pt x="52182" y="139053"/>
                  </a:lnTo>
                  <a:lnTo>
                    <a:pt x="52890" y="141695"/>
                  </a:lnTo>
                  <a:lnTo>
                    <a:pt x="54209" y="144303"/>
                  </a:lnTo>
                  <a:lnTo>
                    <a:pt x="57932" y="149458"/>
                  </a:lnTo>
                  <a:lnTo>
                    <a:pt x="62409" y="154571"/>
                  </a:lnTo>
                  <a:lnTo>
                    <a:pt x="69480" y="159666"/>
                  </a:lnTo>
                  <a:lnTo>
                    <a:pt x="73735" y="162210"/>
                  </a:lnTo>
                  <a:lnTo>
                    <a:pt x="87495" y="165037"/>
                  </a:lnTo>
                  <a:lnTo>
                    <a:pt x="95906" y="165791"/>
                  </a:lnTo>
                  <a:lnTo>
                    <a:pt x="112025" y="164370"/>
                  </a:lnTo>
                  <a:lnTo>
                    <a:pt x="126809" y="160917"/>
                  </a:lnTo>
                  <a:lnTo>
                    <a:pt x="139023" y="156560"/>
                  </a:lnTo>
                  <a:lnTo>
                    <a:pt x="150097" y="151801"/>
                  </a:lnTo>
                  <a:lnTo>
                    <a:pt x="161509" y="146864"/>
                  </a:lnTo>
                  <a:lnTo>
                    <a:pt x="175048" y="141847"/>
                  </a:lnTo>
                  <a:lnTo>
                    <a:pt x="180522" y="138478"/>
                  </a:lnTo>
                  <a:lnTo>
                    <a:pt x="185016" y="134538"/>
                  </a:lnTo>
                  <a:lnTo>
                    <a:pt x="188860" y="130218"/>
                  </a:lnTo>
                  <a:lnTo>
                    <a:pt x="197646" y="120902"/>
                  </a:lnTo>
                  <a:lnTo>
                    <a:pt x="202360" y="116048"/>
                  </a:lnTo>
                  <a:lnTo>
                    <a:pt x="206349" y="111118"/>
                  </a:lnTo>
                  <a:lnTo>
                    <a:pt x="209855" y="106138"/>
                  </a:lnTo>
                  <a:lnTo>
                    <a:pt x="213039" y="101125"/>
                  </a:lnTo>
                  <a:lnTo>
                    <a:pt x="216008" y="95243"/>
                  </a:lnTo>
                  <a:lnTo>
                    <a:pt x="218835" y="88781"/>
                  </a:lnTo>
                  <a:lnTo>
                    <a:pt x="221566" y="81933"/>
                  </a:lnTo>
                  <a:lnTo>
                    <a:pt x="224233" y="75675"/>
                  </a:lnTo>
                  <a:lnTo>
                    <a:pt x="229454" y="64206"/>
                  </a:lnTo>
                  <a:lnTo>
                    <a:pt x="232032" y="59623"/>
                  </a:lnTo>
                  <a:lnTo>
                    <a:pt x="234597" y="55721"/>
                  </a:lnTo>
                  <a:lnTo>
                    <a:pt x="237154" y="52274"/>
                  </a:lnTo>
                  <a:lnTo>
                    <a:pt x="238858" y="48282"/>
                  </a:lnTo>
                  <a:lnTo>
                    <a:pt x="239995" y="43927"/>
                  </a:lnTo>
                  <a:lnTo>
                    <a:pt x="240752" y="39331"/>
                  </a:lnTo>
                  <a:lnTo>
                    <a:pt x="242104" y="36267"/>
                  </a:lnTo>
                  <a:lnTo>
                    <a:pt x="243852" y="34224"/>
                  </a:lnTo>
                  <a:lnTo>
                    <a:pt x="248695" y="30945"/>
                  </a:lnTo>
                  <a:lnTo>
                    <a:pt x="251615" y="30497"/>
                  </a:lnTo>
                  <a:lnTo>
                    <a:pt x="256343" y="30209"/>
                  </a:lnTo>
                  <a:lnTo>
                    <a:pt x="259247" y="32427"/>
                  </a:lnTo>
                  <a:lnTo>
                    <a:pt x="263361" y="36235"/>
                  </a:lnTo>
                  <a:lnTo>
                    <a:pt x="268011" y="40750"/>
                  </a:lnTo>
                  <a:lnTo>
                    <a:pt x="270436" y="43986"/>
                  </a:lnTo>
                  <a:lnTo>
                    <a:pt x="272900" y="47837"/>
                  </a:lnTo>
                  <a:lnTo>
                    <a:pt x="275389" y="52097"/>
                  </a:lnTo>
                  <a:lnTo>
                    <a:pt x="277895" y="56631"/>
                  </a:lnTo>
                  <a:lnTo>
                    <a:pt x="282937" y="66184"/>
                  </a:lnTo>
                  <a:lnTo>
                    <a:pt x="286314" y="71102"/>
                  </a:lnTo>
                  <a:lnTo>
                    <a:pt x="290259" y="76074"/>
                  </a:lnTo>
                  <a:lnTo>
                    <a:pt x="294582" y="81082"/>
                  </a:lnTo>
                  <a:lnTo>
                    <a:pt x="298310" y="86961"/>
                  </a:lnTo>
                  <a:lnTo>
                    <a:pt x="301643" y="93420"/>
                  </a:lnTo>
                  <a:lnTo>
                    <a:pt x="304711" y="100266"/>
                  </a:lnTo>
                  <a:lnTo>
                    <a:pt x="306756" y="106523"/>
                  </a:lnTo>
                  <a:lnTo>
                    <a:pt x="308120" y="112388"/>
                  </a:lnTo>
                  <a:lnTo>
                    <a:pt x="309029" y="117992"/>
                  </a:lnTo>
                  <a:lnTo>
                    <a:pt x="311329" y="122574"/>
                  </a:lnTo>
                  <a:lnTo>
                    <a:pt x="314555" y="126475"/>
                  </a:lnTo>
                  <a:lnTo>
                    <a:pt x="321809" y="133068"/>
                  </a:lnTo>
                  <a:lnTo>
                    <a:pt x="327855" y="138820"/>
                  </a:lnTo>
                  <a:lnTo>
                    <a:pt x="329805" y="141540"/>
                  </a:lnTo>
                  <a:lnTo>
                    <a:pt x="331106" y="144199"/>
                  </a:lnTo>
                  <a:lnTo>
                    <a:pt x="331973" y="146819"/>
                  </a:lnTo>
                  <a:lnTo>
                    <a:pt x="333398" y="148565"/>
                  </a:lnTo>
                  <a:lnTo>
                    <a:pt x="335194" y="149729"/>
                  </a:lnTo>
                  <a:lnTo>
                    <a:pt x="340116" y="151598"/>
                  </a:lnTo>
                  <a:lnTo>
                    <a:pt x="340520" y="150905"/>
                  </a:lnTo>
                  <a:lnTo>
                    <a:pt x="341088" y="145884"/>
                  </a:lnTo>
                  <a:lnTo>
                    <a:pt x="341221" y="141412"/>
                  </a:lnTo>
                  <a:lnTo>
                    <a:pt x="342103" y="138187"/>
                  </a:lnTo>
                  <a:lnTo>
                    <a:pt x="343538" y="134344"/>
                  </a:lnTo>
                  <a:lnTo>
                    <a:pt x="345341" y="130089"/>
                  </a:lnTo>
                  <a:lnTo>
                    <a:pt x="346543" y="125559"/>
                  </a:lnTo>
                  <a:lnTo>
                    <a:pt x="347344" y="120845"/>
                  </a:lnTo>
                  <a:lnTo>
                    <a:pt x="347879" y="116009"/>
                  </a:lnTo>
                  <a:lnTo>
                    <a:pt x="348235" y="110246"/>
                  </a:lnTo>
                  <a:lnTo>
                    <a:pt x="348631" y="97068"/>
                  </a:lnTo>
                  <a:lnTo>
                    <a:pt x="348854" y="79414"/>
                  </a:lnTo>
                  <a:lnTo>
                    <a:pt x="349732" y="73996"/>
                  </a:lnTo>
                  <a:lnTo>
                    <a:pt x="351163" y="68690"/>
                  </a:lnTo>
                  <a:lnTo>
                    <a:pt x="352965" y="63459"/>
                  </a:lnTo>
                  <a:lnTo>
                    <a:pt x="355012" y="59126"/>
                  </a:lnTo>
                  <a:lnTo>
                    <a:pt x="357224" y="55390"/>
                  </a:lnTo>
                  <a:lnTo>
                    <a:pt x="359545" y="52052"/>
                  </a:lnTo>
                  <a:lnTo>
                    <a:pt x="362785" y="48981"/>
                  </a:lnTo>
                  <a:lnTo>
                    <a:pt x="366640" y="46087"/>
                  </a:lnTo>
                  <a:lnTo>
                    <a:pt x="374591" y="41460"/>
                  </a:lnTo>
                  <a:lnTo>
                    <a:pt x="380947" y="39403"/>
                  </a:lnTo>
                  <a:lnTo>
                    <a:pt x="384674" y="39702"/>
                  </a:lnTo>
                  <a:lnTo>
                    <a:pt x="398009" y="44167"/>
                  </a:lnTo>
                  <a:lnTo>
                    <a:pt x="407724" y="48508"/>
                  </a:lnTo>
                  <a:lnTo>
                    <a:pt x="412685" y="51698"/>
                  </a:lnTo>
                  <a:lnTo>
                    <a:pt x="417686" y="55518"/>
                  </a:lnTo>
                  <a:lnTo>
                    <a:pt x="422713" y="59758"/>
                  </a:lnTo>
                  <a:lnTo>
                    <a:pt x="427758" y="64278"/>
                  </a:lnTo>
                  <a:lnTo>
                    <a:pt x="437878" y="73816"/>
                  </a:lnTo>
                  <a:lnTo>
                    <a:pt x="443794" y="77883"/>
                  </a:lnTo>
                  <a:lnTo>
                    <a:pt x="450279" y="81442"/>
                  </a:lnTo>
                  <a:lnTo>
                    <a:pt x="457142" y="84660"/>
                  </a:lnTo>
                  <a:lnTo>
                    <a:pt x="462564" y="88500"/>
                  </a:lnTo>
                  <a:lnTo>
                    <a:pt x="467025" y="92752"/>
                  </a:lnTo>
                  <a:lnTo>
                    <a:pt x="470845" y="97281"/>
                  </a:lnTo>
                  <a:lnTo>
                    <a:pt x="475086" y="101147"/>
                  </a:lnTo>
                  <a:lnTo>
                    <a:pt x="479606" y="104570"/>
                  </a:lnTo>
                  <a:lnTo>
                    <a:pt x="484313" y="107700"/>
                  </a:lnTo>
                  <a:lnTo>
                    <a:pt x="489145" y="110632"/>
                  </a:lnTo>
                  <a:lnTo>
                    <a:pt x="494059" y="113434"/>
                  </a:lnTo>
                  <a:lnTo>
                    <a:pt x="504035" y="118805"/>
                  </a:lnTo>
                  <a:lnTo>
                    <a:pt x="524208" y="12919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SMARTInkAnnotation6"/>
            <p:cNvSpPr/>
            <p:nvPr/>
          </p:nvSpPr>
          <p:spPr>
            <a:xfrm>
              <a:off x="4694040" y="997560"/>
              <a:ext cx="75960" cy="2440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76201" h="243841">
                  <a:moveTo>
                    <a:pt x="0" y="0"/>
                  </a:moveTo>
                  <a:lnTo>
                    <a:pt x="0" y="47683"/>
                  </a:lnTo>
                  <a:lnTo>
                    <a:pt x="847" y="55495"/>
                  </a:lnTo>
                  <a:lnTo>
                    <a:pt x="2258" y="64090"/>
                  </a:lnTo>
                  <a:lnTo>
                    <a:pt x="4045" y="73207"/>
                  </a:lnTo>
                  <a:lnTo>
                    <a:pt x="6084" y="81825"/>
                  </a:lnTo>
                  <a:lnTo>
                    <a:pt x="8289" y="90110"/>
                  </a:lnTo>
                  <a:lnTo>
                    <a:pt x="12997" y="106936"/>
                  </a:lnTo>
                  <a:lnTo>
                    <a:pt x="17912" y="125702"/>
                  </a:lnTo>
                  <a:lnTo>
                    <a:pt x="20409" y="134602"/>
                  </a:lnTo>
                  <a:lnTo>
                    <a:pt x="25439" y="151263"/>
                  </a:lnTo>
                  <a:lnTo>
                    <a:pt x="28813" y="159262"/>
                  </a:lnTo>
                  <a:lnTo>
                    <a:pt x="32756" y="167135"/>
                  </a:lnTo>
                  <a:lnTo>
                    <a:pt x="37077" y="174923"/>
                  </a:lnTo>
                  <a:lnTo>
                    <a:pt x="40805" y="182655"/>
                  </a:lnTo>
                  <a:lnTo>
                    <a:pt x="44137" y="190350"/>
                  </a:lnTo>
                  <a:lnTo>
                    <a:pt x="47205" y="198020"/>
                  </a:lnTo>
                  <a:lnTo>
                    <a:pt x="50096" y="204827"/>
                  </a:lnTo>
                  <a:lnTo>
                    <a:pt x="55568" y="216905"/>
                  </a:lnTo>
                  <a:lnTo>
                    <a:pt x="59058" y="221650"/>
                  </a:lnTo>
                  <a:lnTo>
                    <a:pt x="63080" y="225660"/>
                  </a:lnTo>
                  <a:lnTo>
                    <a:pt x="67453" y="229180"/>
                  </a:lnTo>
                  <a:lnTo>
                    <a:pt x="70369" y="232373"/>
                  </a:lnTo>
                  <a:lnTo>
                    <a:pt x="72313" y="235349"/>
                  </a:lnTo>
                  <a:lnTo>
                    <a:pt x="76200" y="2438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SMARTInkAnnotation7"/>
            <p:cNvSpPr/>
            <p:nvPr/>
          </p:nvSpPr>
          <p:spPr>
            <a:xfrm>
              <a:off x="4610520" y="1157760"/>
              <a:ext cx="137160" cy="1512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37161" h="15241">
                  <a:moveTo>
                    <a:pt x="0" y="0"/>
                  </a:moveTo>
                  <a:lnTo>
                    <a:pt x="17167" y="0"/>
                  </a:lnTo>
                  <a:lnTo>
                    <a:pt x="21605" y="847"/>
                  </a:lnTo>
                  <a:lnTo>
                    <a:pt x="27103" y="2258"/>
                  </a:lnTo>
                  <a:lnTo>
                    <a:pt x="33309" y="4045"/>
                  </a:lnTo>
                  <a:lnTo>
                    <a:pt x="40832" y="5237"/>
                  </a:lnTo>
                  <a:lnTo>
                    <a:pt x="49235" y="6031"/>
                  </a:lnTo>
                  <a:lnTo>
                    <a:pt x="58223" y="6561"/>
                  </a:lnTo>
                  <a:lnTo>
                    <a:pt x="66756" y="7761"/>
                  </a:lnTo>
                  <a:lnTo>
                    <a:pt x="74984" y="9407"/>
                  </a:lnTo>
                  <a:lnTo>
                    <a:pt x="83009" y="11351"/>
                  </a:lnTo>
                  <a:lnTo>
                    <a:pt x="90899" y="12648"/>
                  </a:lnTo>
                  <a:lnTo>
                    <a:pt x="98700" y="13512"/>
                  </a:lnTo>
                  <a:lnTo>
                    <a:pt x="106440" y="14088"/>
                  </a:lnTo>
                  <a:lnTo>
                    <a:pt x="113293" y="14472"/>
                  </a:lnTo>
                  <a:lnTo>
                    <a:pt x="137160" y="15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SMARTInkAnnotation8"/>
            <p:cNvSpPr/>
            <p:nvPr/>
          </p:nvSpPr>
          <p:spPr>
            <a:xfrm>
              <a:off x="4892400" y="1218960"/>
              <a:ext cx="15120" cy="3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5240" h="1">
                  <a:moveTo>
                    <a:pt x="0" y="0"/>
                  </a:moveTo>
                  <a:lnTo>
                    <a:pt x="15239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SMARTInkAnnotation9"/>
            <p:cNvSpPr/>
            <p:nvPr/>
          </p:nvSpPr>
          <p:spPr>
            <a:xfrm>
              <a:off x="5418360" y="898920"/>
              <a:ext cx="426600" cy="316440"/>
            </a:xfrm>
            <a:custGeom>
              <a:avLst/>
              <a:gdLst>
                <a:gd name="textAreaLeft" fmla="*/ 0 w 426600"/>
                <a:gd name="textAreaRight" fmla="*/ 426960 w 4266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26620" h="315843">
                  <a:moveTo>
                    <a:pt x="22759" y="273454"/>
                  </a:moveTo>
                  <a:lnTo>
                    <a:pt x="18714" y="273454"/>
                  </a:lnTo>
                  <a:lnTo>
                    <a:pt x="17522" y="275147"/>
                  </a:lnTo>
                  <a:lnTo>
                    <a:pt x="15845" y="283928"/>
                  </a:lnTo>
                  <a:lnTo>
                    <a:pt x="15452" y="286576"/>
                  </a:lnTo>
                  <a:lnTo>
                    <a:pt x="11186" y="296157"/>
                  </a:lnTo>
                  <a:lnTo>
                    <a:pt x="9149" y="302735"/>
                  </a:lnTo>
                  <a:lnTo>
                    <a:pt x="8605" y="305675"/>
                  </a:lnTo>
                  <a:lnTo>
                    <a:pt x="7396" y="307635"/>
                  </a:lnTo>
                  <a:lnTo>
                    <a:pt x="5744" y="308941"/>
                  </a:lnTo>
                  <a:lnTo>
                    <a:pt x="1053" y="311038"/>
                  </a:lnTo>
                  <a:lnTo>
                    <a:pt x="668" y="312057"/>
                  </a:lnTo>
                  <a:lnTo>
                    <a:pt x="126" y="315842"/>
                  </a:lnTo>
                  <a:lnTo>
                    <a:pt x="0" y="314024"/>
                  </a:lnTo>
                  <a:lnTo>
                    <a:pt x="813" y="312354"/>
                  </a:lnTo>
                  <a:lnTo>
                    <a:pt x="8201" y="303590"/>
                  </a:lnTo>
                  <a:lnTo>
                    <a:pt x="10513" y="301165"/>
                  </a:lnTo>
                  <a:lnTo>
                    <a:pt x="15341" y="291697"/>
                  </a:lnTo>
                  <a:lnTo>
                    <a:pt x="17814" y="285616"/>
                  </a:lnTo>
                  <a:lnTo>
                    <a:pt x="21155" y="279022"/>
                  </a:lnTo>
                  <a:lnTo>
                    <a:pt x="25076" y="272086"/>
                  </a:lnTo>
                  <a:lnTo>
                    <a:pt x="29383" y="264922"/>
                  </a:lnTo>
                  <a:lnTo>
                    <a:pt x="33949" y="256759"/>
                  </a:lnTo>
                  <a:lnTo>
                    <a:pt x="43536" y="238659"/>
                  </a:lnTo>
                  <a:lnTo>
                    <a:pt x="58454" y="209428"/>
                  </a:lnTo>
                  <a:lnTo>
                    <a:pt x="64336" y="199443"/>
                  </a:lnTo>
                  <a:lnTo>
                    <a:pt x="70796" y="189400"/>
                  </a:lnTo>
                  <a:lnTo>
                    <a:pt x="77644" y="179318"/>
                  </a:lnTo>
                  <a:lnTo>
                    <a:pt x="83903" y="169210"/>
                  </a:lnTo>
                  <a:lnTo>
                    <a:pt x="89767" y="159085"/>
                  </a:lnTo>
                  <a:lnTo>
                    <a:pt x="95372" y="148948"/>
                  </a:lnTo>
                  <a:lnTo>
                    <a:pt x="100800" y="137957"/>
                  </a:lnTo>
                  <a:lnTo>
                    <a:pt x="106113" y="126396"/>
                  </a:lnTo>
                  <a:lnTo>
                    <a:pt x="111348" y="114455"/>
                  </a:lnTo>
                  <a:lnTo>
                    <a:pt x="117378" y="103955"/>
                  </a:lnTo>
                  <a:lnTo>
                    <a:pt x="123939" y="94414"/>
                  </a:lnTo>
                  <a:lnTo>
                    <a:pt x="130852" y="85514"/>
                  </a:lnTo>
                  <a:lnTo>
                    <a:pt x="137154" y="77041"/>
                  </a:lnTo>
                  <a:lnTo>
                    <a:pt x="148672" y="60853"/>
                  </a:lnTo>
                  <a:lnTo>
                    <a:pt x="153268" y="53826"/>
                  </a:lnTo>
                  <a:lnTo>
                    <a:pt x="157178" y="47449"/>
                  </a:lnTo>
                  <a:lnTo>
                    <a:pt x="160631" y="41504"/>
                  </a:lnTo>
                  <a:lnTo>
                    <a:pt x="168984" y="32641"/>
                  </a:lnTo>
                  <a:lnTo>
                    <a:pt x="173582" y="29092"/>
                  </a:lnTo>
                  <a:lnTo>
                    <a:pt x="176648" y="25879"/>
                  </a:lnTo>
                  <a:lnTo>
                    <a:pt x="178691" y="22891"/>
                  </a:lnTo>
                  <a:lnTo>
                    <a:pt x="180053" y="20052"/>
                  </a:lnTo>
                  <a:lnTo>
                    <a:pt x="181808" y="18159"/>
                  </a:lnTo>
                  <a:lnTo>
                    <a:pt x="183825" y="16897"/>
                  </a:lnTo>
                  <a:lnTo>
                    <a:pt x="186017" y="16056"/>
                  </a:lnTo>
                  <a:lnTo>
                    <a:pt x="187478" y="16342"/>
                  </a:lnTo>
                  <a:lnTo>
                    <a:pt x="188451" y="17380"/>
                  </a:lnTo>
                  <a:lnTo>
                    <a:pt x="189100" y="18918"/>
                  </a:lnTo>
                  <a:lnTo>
                    <a:pt x="188686" y="21636"/>
                  </a:lnTo>
                  <a:lnTo>
                    <a:pt x="185969" y="29173"/>
                  </a:lnTo>
                  <a:lnTo>
                    <a:pt x="181939" y="40425"/>
                  </a:lnTo>
                  <a:lnTo>
                    <a:pt x="157364" y="113489"/>
                  </a:lnTo>
                  <a:lnTo>
                    <a:pt x="155675" y="120244"/>
                  </a:lnTo>
                  <a:lnTo>
                    <a:pt x="154550" y="126441"/>
                  </a:lnTo>
                  <a:lnTo>
                    <a:pt x="153799" y="132265"/>
                  </a:lnTo>
                  <a:lnTo>
                    <a:pt x="154146" y="136995"/>
                  </a:lnTo>
                  <a:lnTo>
                    <a:pt x="155224" y="140995"/>
                  </a:lnTo>
                  <a:lnTo>
                    <a:pt x="156789" y="144508"/>
                  </a:lnTo>
                  <a:lnTo>
                    <a:pt x="159525" y="147696"/>
                  </a:lnTo>
                  <a:lnTo>
                    <a:pt x="167081" y="153497"/>
                  </a:lnTo>
                  <a:lnTo>
                    <a:pt x="173827" y="156640"/>
                  </a:lnTo>
                  <a:lnTo>
                    <a:pt x="176811" y="157478"/>
                  </a:lnTo>
                  <a:lnTo>
                    <a:pt x="180493" y="157190"/>
                  </a:lnTo>
                  <a:lnTo>
                    <a:pt x="189101" y="154612"/>
                  </a:lnTo>
                  <a:lnTo>
                    <a:pt x="207511" y="148401"/>
                  </a:lnTo>
                  <a:lnTo>
                    <a:pt x="219454" y="141393"/>
                  </a:lnTo>
                  <a:lnTo>
                    <a:pt x="225008" y="137153"/>
                  </a:lnTo>
                  <a:lnTo>
                    <a:pt x="232098" y="130940"/>
                  </a:lnTo>
                  <a:lnTo>
                    <a:pt x="240212" y="123411"/>
                  </a:lnTo>
                  <a:lnTo>
                    <a:pt x="265553" y="98892"/>
                  </a:lnTo>
                  <a:lnTo>
                    <a:pt x="273522" y="91040"/>
                  </a:lnTo>
                  <a:lnTo>
                    <a:pt x="280528" y="83264"/>
                  </a:lnTo>
                  <a:lnTo>
                    <a:pt x="286891" y="75541"/>
                  </a:lnTo>
                  <a:lnTo>
                    <a:pt x="292827" y="67852"/>
                  </a:lnTo>
                  <a:lnTo>
                    <a:pt x="298478" y="59339"/>
                  </a:lnTo>
                  <a:lnTo>
                    <a:pt x="303938" y="50278"/>
                  </a:lnTo>
                  <a:lnTo>
                    <a:pt x="309271" y="40850"/>
                  </a:lnTo>
                  <a:lnTo>
                    <a:pt x="314520" y="33718"/>
                  </a:lnTo>
                  <a:lnTo>
                    <a:pt x="319713" y="28116"/>
                  </a:lnTo>
                  <a:lnTo>
                    <a:pt x="329152" y="18788"/>
                  </a:lnTo>
                  <a:lnTo>
                    <a:pt x="336169" y="8998"/>
                  </a:lnTo>
                  <a:lnTo>
                    <a:pt x="340834" y="2057"/>
                  </a:lnTo>
                  <a:lnTo>
                    <a:pt x="342336" y="1082"/>
                  </a:lnTo>
                  <a:lnTo>
                    <a:pt x="346262" y="0"/>
                  </a:lnTo>
                  <a:lnTo>
                    <a:pt x="346801" y="558"/>
                  </a:lnTo>
                  <a:lnTo>
                    <a:pt x="346313" y="1777"/>
                  </a:lnTo>
                  <a:lnTo>
                    <a:pt x="345142" y="3436"/>
                  </a:lnTo>
                  <a:lnTo>
                    <a:pt x="343840" y="9795"/>
                  </a:lnTo>
                  <a:lnTo>
                    <a:pt x="342415" y="19112"/>
                  </a:lnTo>
                  <a:lnTo>
                    <a:pt x="340850" y="25153"/>
                  </a:lnTo>
                  <a:lnTo>
                    <a:pt x="338960" y="31720"/>
                  </a:lnTo>
                  <a:lnTo>
                    <a:pt x="337699" y="39484"/>
                  </a:lnTo>
                  <a:lnTo>
                    <a:pt x="336859" y="48048"/>
                  </a:lnTo>
                  <a:lnTo>
                    <a:pt x="336298" y="57143"/>
                  </a:lnTo>
                  <a:lnTo>
                    <a:pt x="335078" y="66593"/>
                  </a:lnTo>
                  <a:lnTo>
                    <a:pt x="333419" y="76280"/>
                  </a:lnTo>
                  <a:lnTo>
                    <a:pt x="324671" y="120206"/>
                  </a:lnTo>
                  <a:lnTo>
                    <a:pt x="323094" y="132342"/>
                  </a:lnTo>
                  <a:lnTo>
                    <a:pt x="322042" y="144666"/>
                  </a:lnTo>
                  <a:lnTo>
                    <a:pt x="321340" y="157115"/>
                  </a:lnTo>
                  <a:lnTo>
                    <a:pt x="322567" y="168801"/>
                  </a:lnTo>
                  <a:lnTo>
                    <a:pt x="325077" y="179979"/>
                  </a:lnTo>
                  <a:lnTo>
                    <a:pt x="328444" y="190817"/>
                  </a:lnTo>
                  <a:lnTo>
                    <a:pt x="332382" y="201429"/>
                  </a:lnTo>
                  <a:lnTo>
                    <a:pt x="336701" y="211891"/>
                  </a:lnTo>
                  <a:lnTo>
                    <a:pt x="341273" y="222252"/>
                  </a:lnTo>
                  <a:lnTo>
                    <a:pt x="346015" y="231699"/>
                  </a:lnTo>
                  <a:lnTo>
                    <a:pt x="350870" y="240538"/>
                  </a:lnTo>
                  <a:lnTo>
                    <a:pt x="355799" y="248970"/>
                  </a:lnTo>
                  <a:lnTo>
                    <a:pt x="362472" y="256284"/>
                  </a:lnTo>
                  <a:lnTo>
                    <a:pt x="370308" y="262854"/>
                  </a:lnTo>
                  <a:lnTo>
                    <a:pt x="378918" y="268927"/>
                  </a:lnTo>
                  <a:lnTo>
                    <a:pt x="390742" y="277933"/>
                  </a:lnTo>
                  <a:lnTo>
                    <a:pt x="395082" y="281520"/>
                  </a:lnTo>
                  <a:lnTo>
                    <a:pt x="406675" y="287763"/>
                  </a:lnTo>
                  <a:lnTo>
                    <a:pt x="426619" y="2963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SMARTInkAnnotation10"/>
            <p:cNvSpPr/>
            <p:nvPr/>
          </p:nvSpPr>
          <p:spPr>
            <a:xfrm>
              <a:off x="5877000" y="861840"/>
              <a:ext cx="562680" cy="363960"/>
            </a:xfrm>
            <a:custGeom>
              <a:avLst/>
              <a:gdLst>
                <a:gd name="textAreaLeft" fmla="*/ 0 w 562680"/>
                <a:gd name="textAreaRight" fmla="*/ 563040 w 562680"/>
                <a:gd name="textAreaTop" fmla="*/ 0 h 363960"/>
                <a:gd name="textAreaBottom" fmla="*/ 363960 h 363960"/>
              </a:gdLst>
              <a:ahLst/>
              <a:rect l="textAreaLeft" t="textAreaTop" r="textAreaRight" b="textAreaBottom"/>
              <a:pathLst>
                <a:path w="562701" h="363382">
                  <a:moveTo>
                    <a:pt x="21680" y="226911"/>
                  </a:moveTo>
                  <a:lnTo>
                    <a:pt x="11075" y="237517"/>
                  </a:lnTo>
                  <a:lnTo>
                    <a:pt x="9530" y="239908"/>
                  </a:lnTo>
                  <a:lnTo>
                    <a:pt x="4793" y="252088"/>
                  </a:lnTo>
                  <a:lnTo>
                    <a:pt x="2802" y="256395"/>
                  </a:lnTo>
                  <a:lnTo>
                    <a:pt x="1475" y="261807"/>
                  </a:lnTo>
                  <a:lnTo>
                    <a:pt x="591" y="267955"/>
                  </a:lnTo>
                  <a:lnTo>
                    <a:pt x="0" y="274594"/>
                  </a:lnTo>
                  <a:lnTo>
                    <a:pt x="453" y="280713"/>
                  </a:lnTo>
                  <a:lnTo>
                    <a:pt x="3215" y="292027"/>
                  </a:lnTo>
                  <a:lnTo>
                    <a:pt x="9530" y="311962"/>
                  </a:lnTo>
                  <a:lnTo>
                    <a:pt x="12734" y="318325"/>
                  </a:lnTo>
                  <a:lnTo>
                    <a:pt x="16563" y="324261"/>
                  </a:lnTo>
                  <a:lnTo>
                    <a:pt x="20808" y="329911"/>
                  </a:lnTo>
                  <a:lnTo>
                    <a:pt x="32300" y="338446"/>
                  </a:lnTo>
                  <a:lnTo>
                    <a:pt x="46720" y="345062"/>
                  </a:lnTo>
                  <a:lnTo>
                    <a:pt x="55307" y="348012"/>
                  </a:lnTo>
                  <a:lnTo>
                    <a:pt x="81315" y="356208"/>
                  </a:lnTo>
                  <a:lnTo>
                    <a:pt x="97292" y="360576"/>
                  </a:lnTo>
                  <a:lnTo>
                    <a:pt x="112858" y="362518"/>
                  </a:lnTo>
                  <a:lnTo>
                    <a:pt x="128244" y="363381"/>
                  </a:lnTo>
                  <a:lnTo>
                    <a:pt x="143549" y="362918"/>
                  </a:lnTo>
                  <a:lnTo>
                    <a:pt x="158817" y="359890"/>
                  </a:lnTo>
                  <a:lnTo>
                    <a:pt x="171813" y="355721"/>
                  </a:lnTo>
                  <a:lnTo>
                    <a:pt x="177649" y="353425"/>
                  </a:lnTo>
                  <a:lnTo>
                    <a:pt x="188649" y="346357"/>
                  </a:lnTo>
                  <a:lnTo>
                    <a:pt x="193952" y="342102"/>
                  </a:lnTo>
                  <a:lnTo>
                    <a:pt x="198335" y="336725"/>
                  </a:lnTo>
                  <a:lnTo>
                    <a:pt x="202103" y="330600"/>
                  </a:lnTo>
                  <a:lnTo>
                    <a:pt x="205462" y="323977"/>
                  </a:lnTo>
                  <a:lnTo>
                    <a:pt x="207701" y="317022"/>
                  </a:lnTo>
                  <a:lnTo>
                    <a:pt x="209194" y="309845"/>
                  </a:lnTo>
                  <a:lnTo>
                    <a:pt x="210189" y="302520"/>
                  </a:lnTo>
                  <a:lnTo>
                    <a:pt x="210853" y="295097"/>
                  </a:lnTo>
                  <a:lnTo>
                    <a:pt x="211296" y="287608"/>
                  </a:lnTo>
                  <a:lnTo>
                    <a:pt x="211591" y="280076"/>
                  </a:lnTo>
                  <a:lnTo>
                    <a:pt x="210940" y="273361"/>
                  </a:lnTo>
                  <a:lnTo>
                    <a:pt x="209660" y="267191"/>
                  </a:lnTo>
                  <a:lnTo>
                    <a:pt x="207960" y="261384"/>
                  </a:lnTo>
                  <a:lnTo>
                    <a:pt x="203814" y="250417"/>
                  </a:lnTo>
                  <a:lnTo>
                    <a:pt x="201522" y="245122"/>
                  </a:lnTo>
                  <a:lnTo>
                    <a:pt x="199148" y="241591"/>
                  </a:lnTo>
                  <a:lnTo>
                    <a:pt x="196719" y="239238"/>
                  </a:lnTo>
                  <a:lnTo>
                    <a:pt x="194252" y="237669"/>
                  </a:lnTo>
                  <a:lnTo>
                    <a:pt x="189255" y="235926"/>
                  </a:lnTo>
                  <a:lnTo>
                    <a:pt x="183193" y="234806"/>
                  </a:lnTo>
                  <a:lnTo>
                    <a:pt x="183542" y="235561"/>
                  </a:lnTo>
                  <a:lnTo>
                    <a:pt x="192437" y="245161"/>
                  </a:lnTo>
                  <a:lnTo>
                    <a:pt x="207742" y="252450"/>
                  </a:lnTo>
                  <a:lnTo>
                    <a:pt x="221214" y="257453"/>
                  </a:lnTo>
                  <a:lnTo>
                    <a:pt x="236516" y="261652"/>
                  </a:lnTo>
                  <a:lnTo>
                    <a:pt x="245337" y="262772"/>
                  </a:lnTo>
                  <a:lnTo>
                    <a:pt x="254605" y="263518"/>
                  </a:lnTo>
                  <a:lnTo>
                    <a:pt x="264170" y="263169"/>
                  </a:lnTo>
                  <a:lnTo>
                    <a:pt x="273933" y="262090"/>
                  </a:lnTo>
                  <a:lnTo>
                    <a:pt x="283829" y="260524"/>
                  </a:lnTo>
                  <a:lnTo>
                    <a:pt x="306113" y="256526"/>
                  </a:lnTo>
                  <a:lnTo>
                    <a:pt x="317982" y="254274"/>
                  </a:lnTo>
                  <a:lnTo>
                    <a:pt x="328435" y="250233"/>
                  </a:lnTo>
                  <a:lnTo>
                    <a:pt x="337943" y="244999"/>
                  </a:lnTo>
                  <a:lnTo>
                    <a:pt x="371454" y="222394"/>
                  </a:lnTo>
                  <a:lnTo>
                    <a:pt x="379323" y="215433"/>
                  </a:lnTo>
                  <a:lnTo>
                    <a:pt x="387109" y="207406"/>
                  </a:lnTo>
                  <a:lnTo>
                    <a:pt x="394839" y="198668"/>
                  </a:lnTo>
                  <a:lnTo>
                    <a:pt x="400840" y="189455"/>
                  </a:lnTo>
                  <a:lnTo>
                    <a:pt x="405687" y="179927"/>
                  </a:lnTo>
                  <a:lnTo>
                    <a:pt x="409765" y="170189"/>
                  </a:lnTo>
                  <a:lnTo>
                    <a:pt x="413330" y="159463"/>
                  </a:lnTo>
                  <a:lnTo>
                    <a:pt x="416553" y="148079"/>
                  </a:lnTo>
                  <a:lnTo>
                    <a:pt x="419549" y="136256"/>
                  </a:lnTo>
                  <a:lnTo>
                    <a:pt x="421546" y="124988"/>
                  </a:lnTo>
                  <a:lnTo>
                    <a:pt x="422878" y="114089"/>
                  </a:lnTo>
                  <a:lnTo>
                    <a:pt x="423765" y="103436"/>
                  </a:lnTo>
                  <a:lnTo>
                    <a:pt x="424357" y="92948"/>
                  </a:lnTo>
                  <a:lnTo>
                    <a:pt x="425014" y="72263"/>
                  </a:lnTo>
                  <a:lnTo>
                    <a:pt x="424343" y="62852"/>
                  </a:lnTo>
                  <a:lnTo>
                    <a:pt x="423049" y="54039"/>
                  </a:lnTo>
                  <a:lnTo>
                    <a:pt x="421339" y="45623"/>
                  </a:lnTo>
                  <a:lnTo>
                    <a:pt x="419353" y="38319"/>
                  </a:lnTo>
                  <a:lnTo>
                    <a:pt x="417181" y="31756"/>
                  </a:lnTo>
                  <a:lnTo>
                    <a:pt x="414888" y="25688"/>
                  </a:lnTo>
                  <a:lnTo>
                    <a:pt x="411665" y="20796"/>
                  </a:lnTo>
                  <a:lnTo>
                    <a:pt x="399886" y="9865"/>
                  </a:lnTo>
                  <a:lnTo>
                    <a:pt x="393536" y="4011"/>
                  </a:lnTo>
                  <a:lnTo>
                    <a:pt x="390657" y="2111"/>
                  </a:lnTo>
                  <a:lnTo>
                    <a:pt x="385202" y="0"/>
                  </a:lnTo>
                  <a:lnTo>
                    <a:pt x="382561" y="284"/>
                  </a:lnTo>
                  <a:lnTo>
                    <a:pt x="379954" y="1319"/>
                  </a:lnTo>
                  <a:lnTo>
                    <a:pt x="377370" y="2857"/>
                  </a:lnTo>
                  <a:lnTo>
                    <a:pt x="372240" y="9080"/>
                  </a:lnTo>
                  <a:lnTo>
                    <a:pt x="369687" y="13111"/>
                  </a:lnTo>
                  <a:lnTo>
                    <a:pt x="366850" y="24362"/>
                  </a:lnTo>
                  <a:lnTo>
                    <a:pt x="366093" y="30918"/>
                  </a:lnTo>
                  <a:lnTo>
                    <a:pt x="364742" y="38676"/>
                  </a:lnTo>
                  <a:lnTo>
                    <a:pt x="362996" y="47234"/>
                  </a:lnTo>
                  <a:lnTo>
                    <a:pt x="358796" y="65775"/>
                  </a:lnTo>
                  <a:lnTo>
                    <a:pt x="354107" y="85304"/>
                  </a:lnTo>
                  <a:lnTo>
                    <a:pt x="352518" y="96100"/>
                  </a:lnTo>
                  <a:lnTo>
                    <a:pt x="351459" y="107530"/>
                  </a:lnTo>
                  <a:lnTo>
                    <a:pt x="350752" y="119384"/>
                  </a:lnTo>
                  <a:lnTo>
                    <a:pt x="349968" y="143843"/>
                  </a:lnTo>
                  <a:lnTo>
                    <a:pt x="349465" y="194040"/>
                  </a:lnTo>
                  <a:lnTo>
                    <a:pt x="350269" y="205844"/>
                  </a:lnTo>
                  <a:lnTo>
                    <a:pt x="351653" y="217099"/>
                  </a:lnTo>
                  <a:lnTo>
                    <a:pt x="353422" y="227990"/>
                  </a:lnTo>
                  <a:lnTo>
                    <a:pt x="356295" y="239484"/>
                  </a:lnTo>
                  <a:lnTo>
                    <a:pt x="359903" y="251380"/>
                  </a:lnTo>
                  <a:lnTo>
                    <a:pt x="364002" y="263543"/>
                  </a:lnTo>
                  <a:lnTo>
                    <a:pt x="368428" y="274193"/>
                  </a:lnTo>
                  <a:lnTo>
                    <a:pt x="373072" y="283832"/>
                  </a:lnTo>
                  <a:lnTo>
                    <a:pt x="377862" y="292798"/>
                  </a:lnTo>
                  <a:lnTo>
                    <a:pt x="382748" y="301316"/>
                  </a:lnTo>
                  <a:lnTo>
                    <a:pt x="387699" y="309534"/>
                  </a:lnTo>
                  <a:lnTo>
                    <a:pt x="392693" y="317553"/>
                  </a:lnTo>
                  <a:lnTo>
                    <a:pt x="398562" y="324592"/>
                  </a:lnTo>
                  <a:lnTo>
                    <a:pt x="405015" y="330979"/>
                  </a:lnTo>
                  <a:lnTo>
                    <a:pt x="411856" y="336930"/>
                  </a:lnTo>
                  <a:lnTo>
                    <a:pt x="428489" y="348057"/>
                  </a:lnTo>
                  <a:lnTo>
                    <a:pt x="437667" y="353395"/>
                  </a:lnTo>
                  <a:lnTo>
                    <a:pt x="447171" y="356954"/>
                  </a:lnTo>
                  <a:lnTo>
                    <a:pt x="456894" y="359326"/>
                  </a:lnTo>
                  <a:lnTo>
                    <a:pt x="466762" y="360908"/>
                  </a:lnTo>
                  <a:lnTo>
                    <a:pt x="475882" y="361962"/>
                  </a:lnTo>
                  <a:lnTo>
                    <a:pt x="492788" y="363134"/>
                  </a:lnTo>
                  <a:lnTo>
                    <a:pt x="508768" y="361397"/>
                  </a:lnTo>
                  <a:lnTo>
                    <a:pt x="524337" y="357802"/>
                  </a:lnTo>
                  <a:lnTo>
                    <a:pt x="539723" y="353383"/>
                  </a:lnTo>
                  <a:lnTo>
                    <a:pt x="545689" y="350172"/>
                  </a:lnTo>
                  <a:lnTo>
                    <a:pt x="550513" y="346339"/>
                  </a:lnTo>
                  <a:lnTo>
                    <a:pt x="562700" y="33359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SMARTInkAnnotation11"/>
            <p:cNvSpPr/>
            <p:nvPr/>
          </p:nvSpPr>
          <p:spPr>
            <a:xfrm>
              <a:off x="6471000" y="928800"/>
              <a:ext cx="75240" cy="2822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75432" h="281941">
                  <a:moveTo>
                    <a:pt x="75431" y="0"/>
                  </a:moveTo>
                  <a:lnTo>
                    <a:pt x="75431" y="10606"/>
                  </a:lnTo>
                  <a:lnTo>
                    <a:pt x="74585" y="14691"/>
                  </a:lnTo>
                  <a:lnTo>
                    <a:pt x="73173" y="19954"/>
                  </a:lnTo>
                  <a:lnTo>
                    <a:pt x="71386" y="26003"/>
                  </a:lnTo>
                  <a:lnTo>
                    <a:pt x="68502" y="32575"/>
                  </a:lnTo>
                  <a:lnTo>
                    <a:pt x="64884" y="39497"/>
                  </a:lnTo>
                  <a:lnTo>
                    <a:pt x="60780" y="46651"/>
                  </a:lnTo>
                  <a:lnTo>
                    <a:pt x="57197" y="53961"/>
                  </a:lnTo>
                  <a:lnTo>
                    <a:pt x="53962" y="61374"/>
                  </a:lnTo>
                  <a:lnTo>
                    <a:pt x="50958" y="68856"/>
                  </a:lnTo>
                  <a:lnTo>
                    <a:pt x="47262" y="77231"/>
                  </a:lnTo>
                  <a:lnTo>
                    <a:pt x="38641" y="95567"/>
                  </a:lnTo>
                  <a:lnTo>
                    <a:pt x="34818" y="104351"/>
                  </a:lnTo>
                  <a:lnTo>
                    <a:pt x="31422" y="112748"/>
                  </a:lnTo>
                  <a:lnTo>
                    <a:pt x="28312" y="120885"/>
                  </a:lnTo>
                  <a:lnTo>
                    <a:pt x="25392" y="129697"/>
                  </a:lnTo>
                  <a:lnTo>
                    <a:pt x="22598" y="138958"/>
                  </a:lnTo>
                  <a:lnTo>
                    <a:pt x="19889" y="148519"/>
                  </a:lnTo>
                  <a:lnTo>
                    <a:pt x="16390" y="158279"/>
                  </a:lnTo>
                  <a:lnTo>
                    <a:pt x="12364" y="168173"/>
                  </a:lnTo>
                  <a:lnTo>
                    <a:pt x="7986" y="178155"/>
                  </a:lnTo>
                  <a:lnTo>
                    <a:pt x="5069" y="187350"/>
                  </a:lnTo>
                  <a:lnTo>
                    <a:pt x="3123" y="196020"/>
                  </a:lnTo>
                  <a:lnTo>
                    <a:pt x="1825" y="204340"/>
                  </a:lnTo>
                  <a:lnTo>
                    <a:pt x="961" y="212427"/>
                  </a:lnTo>
                  <a:lnTo>
                    <a:pt x="384" y="220358"/>
                  </a:lnTo>
                  <a:lnTo>
                    <a:pt x="0" y="228185"/>
                  </a:lnTo>
                  <a:lnTo>
                    <a:pt x="591" y="235097"/>
                  </a:lnTo>
                  <a:lnTo>
                    <a:pt x="1831" y="241398"/>
                  </a:lnTo>
                  <a:lnTo>
                    <a:pt x="3505" y="247292"/>
                  </a:lnTo>
                  <a:lnTo>
                    <a:pt x="5467" y="252068"/>
                  </a:lnTo>
                  <a:lnTo>
                    <a:pt x="7622" y="256099"/>
                  </a:lnTo>
                  <a:lnTo>
                    <a:pt x="9905" y="259632"/>
                  </a:lnTo>
                  <a:lnTo>
                    <a:pt x="12274" y="263682"/>
                  </a:lnTo>
                  <a:lnTo>
                    <a:pt x="14700" y="268074"/>
                  </a:lnTo>
                  <a:lnTo>
                    <a:pt x="20631" y="279201"/>
                  </a:lnTo>
                  <a:lnTo>
                    <a:pt x="21964" y="280114"/>
                  </a:lnTo>
                  <a:lnTo>
                    <a:pt x="23701" y="280723"/>
                  </a:lnTo>
                  <a:lnTo>
                    <a:pt x="29712" y="2819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SMARTInkAnnotation12"/>
            <p:cNvSpPr/>
            <p:nvPr/>
          </p:nvSpPr>
          <p:spPr>
            <a:xfrm>
              <a:off x="6401520" y="1127160"/>
              <a:ext cx="228600" cy="64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28601" h="6562">
                  <a:moveTo>
                    <a:pt x="0" y="0"/>
                  </a:moveTo>
                  <a:lnTo>
                    <a:pt x="86990" y="0"/>
                  </a:lnTo>
                  <a:lnTo>
                    <a:pt x="96939" y="847"/>
                  </a:lnTo>
                  <a:lnTo>
                    <a:pt x="106960" y="2258"/>
                  </a:lnTo>
                  <a:lnTo>
                    <a:pt x="117026" y="4045"/>
                  </a:lnTo>
                  <a:lnTo>
                    <a:pt x="127125" y="5237"/>
                  </a:lnTo>
                  <a:lnTo>
                    <a:pt x="137243" y="6031"/>
                  </a:lnTo>
                  <a:lnTo>
                    <a:pt x="147376" y="6561"/>
                  </a:lnTo>
                  <a:lnTo>
                    <a:pt x="157517" y="6067"/>
                  </a:lnTo>
                  <a:lnTo>
                    <a:pt x="167665" y="4891"/>
                  </a:lnTo>
                  <a:lnTo>
                    <a:pt x="177816" y="3261"/>
                  </a:lnTo>
                  <a:lnTo>
                    <a:pt x="186278" y="2174"/>
                  </a:lnTo>
                  <a:lnTo>
                    <a:pt x="193612" y="1449"/>
                  </a:lnTo>
                  <a:lnTo>
                    <a:pt x="200196" y="966"/>
                  </a:lnTo>
                  <a:lnTo>
                    <a:pt x="206277" y="644"/>
                  </a:lnTo>
                  <a:lnTo>
                    <a:pt x="22860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SMARTInkAnnotation13"/>
            <p:cNvSpPr/>
            <p:nvPr/>
          </p:nvSpPr>
          <p:spPr>
            <a:xfrm>
              <a:off x="6676200" y="1157760"/>
              <a:ext cx="7560" cy="30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7621" h="30481">
                  <a:moveTo>
                    <a:pt x="0" y="0"/>
                  </a:moveTo>
                  <a:lnTo>
                    <a:pt x="0" y="18133"/>
                  </a:lnTo>
                  <a:lnTo>
                    <a:pt x="847" y="20555"/>
                  </a:lnTo>
                  <a:lnTo>
                    <a:pt x="2258" y="23017"/>
                  </a:lnTo>
                  <a:lnTo>
                    <a:pt x="7620" y="30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SMARTInkAnnotation14"/>
            <p:cNvSpPr/>
            <p:nvPr/>
          </p:nvSpPr>
          <p:spPr>
            <a:xfrm>
              <a:off x="6752160" y="1058400"/>
              <a:ext cx="7560" cy="3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621" h="1">
                  <a:moveTo>
                    <a:pt x="76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d9d9d9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Justify the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2"/>
              <p:cNvSpPr txBox="1"/>
              <p:nvPr/>
            </p:nvSpPr>
            <p:spPr>
              <a:xfrm>
                <a:off x="228600" y="838080"/>
                <a:ext cx="71629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 7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3"/>
              <p:cNvSpPr txBox="1"/>
              <p:nvPr/>
            </p:nvSpPr>
            <p:spPr>
              <a:xfrm>
                <a:off x="3581280" y="2044800"/>
                <a:ext cx="25146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4"/>
              <p:cNvSpPr txBox="1"/>
              <p:nvPr/>
            </p:nvSpPr>
            <p:spPr>
              <a:xfrm>
                <a:off x="3594240" y="2997360"/>
                <a:ext cx="2654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6"/>
              <p:cNvSpPr txBox="1"/>
              <p:nvPr/>
            </p:nvSpPr>
            <p:spPr>
              <a:xfrm>
                <a:off x="3657600" y="3873600"/>
                <a:ext cx="17017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Freeform 3"/>
          <p:cNvSpPr/>
          <p:nvPr/>
        </p:nvSpPr>
        <p:spPr>
          <a:xfrm>
            <a:off x="5692680" y="1782720"/>
            <a:ext cx="1800" cy="360"/>
          </a:xfrm>
          <a:custGeom>
            <a:avLst/>
            <a:gdLst>
              <a:gd name="textAreaLeft" fmla="*/ 0 w 1800"/>
              <a:gd name="textAreaRight" fmla="*/ 2160 w 18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58" h="1">
                <a:moveTo>
                  <a:pt x="0" y="0"/>
                </a:moveTo>
                <a:lnTo>
                  <a:pt x="2257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MARTInkAnnotation126"/>
          <p:cNvSpPr/>
          <p:nvPr/>
        </p:nvSpPr>
        <p:spPr>
          <a:xfrm>
            <a:off x="5435640" y="1592280"/>
            <a:ext cx="339840" cy="342720"/>
          </a:xfrm>
          <a:custGeom>
            <a:avLst/>
            <a:gdLst>
              <a:gd name="textAreaLeft" fmla="*/ 0 w 339840"/>
              <a:gd name="textAreaRight" fmla="*/ 340200 w 33984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340780" h="342726">
                <a:moveTo>
                  <a:pt x="310299" y="0"/>
                </a:moveTo>
                <a:lnTo>
                  <a:pt x="302992" y="0"/>
                </a:lnTo>
                <a:lnTo>
                  <a:pt x="302720" y="10547"/>
                </a:lnTo>
                <a:lnTo>
                  <a:pt x="302706" y="14651"/>
                </a:lnTo>
                <a:lnTo>
                  <a:pt x="300433" y="23727"/>
                </a:lnTo>
                <a:lnTo>
                  <a:pt x="297447" y="33405"/>
                </a:lnTo>
                <a:lnTo>
                  <a:pt x="296121" y="43351"/>
                </a:lnTo>
                <a:lnTo>
                  <a:pt x="295767" y="49221"/>
                </a:lnTo>
                <a:lnTo>
                  <a:pt x="295373" y="62516"/>
                </a:lnTo>
                <a:lnTo>
                  <a:pt x="294422" y="68771"/>
                </a:lnTo>
                <a:lnTo>
                  <a:pt x="292941" y="74634"/>
                </a:lnTo>
                <a:lnTo>
                  <a:pt x="291107" y="80236"/>
                </a:lnTo>
                <a:lnTo>
                  <a:pt x="290731" y="85664"/>
                </a:lnTo>
                <a:lnTo>
                  <a:pt x="292571" y="96211"/>
                </a:lnTo>
                <a:lnTo>
                  <a:pt x="293953" y="104285"/>
                </a:lnTo>
                <a:lnTo>
                  <a:pt x="294731" y="113590"/>
                </a:lnTo>
                <a:lnTo>
                  <a:pt x="294840" y="116367"/>
                </a:lnTo>
                <a:lnTo>
                  <a:pt x="295760" y="119065"/>
                </a:lnTo>
                <a:lnTo>
                  <a:pt x="302359" y="129082"/>
                </a:lnTo>
                <a:lnTo>
                  <a:pt x="302585" y="125359"/>
                </a:lnTo>
                <a:lnTo>
                  <a:pt x="301769" y="124213"/>
                </a:lnTo>
                <a:lnTo>
                  <a:pt x="300379" y="123449"/>
                </a:lnTo>
                <a:lnTo>
                  <a:pt x="298605" y="122939"/>
                </a:lnTo>
                <a:lnTo>
                  <a:pt x="296577" y="120906"/>
                </a:lnTo>
                <a:lnTo>
                  <a:pt x="292065" y="114132"/>
                </a:lnTo>
                <a:lnTo>
                  <a:pt x="287238" y="105476"/>
                </a:lnTo>
                <a:lnTo>
                  <a:pt x="281422" y="95985"/>
                </a:lnTo>
                <a:lnTo>
                  <a:pt x="273194" y="86122"/>
                </a:lnTo>
                <a:lnTo>
                  <a:pt x="267783" y="81968"/>
                </a:lnTo>
                <a:lnTo>
                  <a:pt x="261634" y="78352"/>
                </a:lnTo>
                <a:lnTo>
                  <a:pt x="254996" y="75095"/>
                </a:lnTo>
                <a:lnTo>
                  <a:pt x="248030" y="72077"/>
                </a:lnTo>
                <a:lnTo>
                  <a:pt x="240846" y="69218"/>
                </a:lnTo>
                <a:lnTo>
                  <a:pt x="226091" y="63784"/>
                </a:lnTo>
                <a:lnTo>
                  <a:pt x="211067" y="58546"/>
                </a:lnTo>
                <a:lnTo>
                  <a:pt x="202658" y="56811"/>
                </a:lnTo>
                <a:lnTo>
                  <a:pt x="193664" y="55654"/>
                </a:lnTo>
                <a:lnTo>
                  <a:pt x="184282" y="54883"/>
                </a:lnTo>
                <a:lnTo>
                  <a:pt x="173794" y="55215"/>
                </a:lnTo>
                <a:lnTo>
                  <a:pt x="162569" y="56284"/>
                </a:lnTo>
                <a:lnTo>
                  <a:pt x="150852" y="57842"/>
                </a:lnTo>
                <a:lnTo>
                  <a:pt x="140502" y="59728"/>
                </a:lnTo>
                <a:lnTo>
                  <a:pt x="131061" y="61832"/>
                </a:lnTo>
                <a:lnTo>
                  <a:pt x="122227" y="64081"/>
                </a:lnTo>
                <a:lnTo>
                  <a:pt x="112951" y="68121"/>
                </a:lnTo>
                <a:lnTo>
                  <a:pt x="103380" y="73354"/>
                </a:lnTo>
                <a:lnTo>
                  <a:pt x="93613" y="79383"/>
                </a:lnTo>
                <a:lnTo>
                  <a:pt x="83715" y="85942"/>
                </a:lnTo>
                <a:lnTo>
                  <a:pt x="63686" y="100003"/>
                </a:lnTo>
                <a:lnTo>
                  <a:pt x="54450" y="107309"/>
                </a:lnTo>
                <a:lnTo>
                  <a:pt x="45753" y="114719"/>
                </a:lnTo>
                <a:lnTo>
                  <a:pt x="37415" y="122199"/>
                </a:lnTo>
                <a:lnTo>
                  <a:pt x="30163" y="131420"/>
                </a:lnTo>
                <a:lnTo>
                  <a:pt x="23635" y="141800"/>
                </a:lnTo>
                <a:lnTo>
                  <a:pt x="17589" y="152953"/>
                </a:lnTo>
                <a:lnTo>
                  <a:pt x="12712" y="163775"/>
                </a:lnTo>
                <a:lnTo>
                  <a:pt x="8615" y="174377"/>
                </a:lnTo>
                <a:lnTo>
                  <a:pt x="5036" y="184831"/>
                </a:lnTo>
                <a:lnTo>
                  <a:pt x="2650" y="195187"/>
                </a:lnTo>
                <a:lnTo>
                  <a:pt x="1060" y="205478"/>
                </a:lnTo>
                <a:lnTo>
                  <a:pt x="0" y="215726"/>
                </a:lnTo>
                <a:lnTo>
                  <a:pt x="986" y="225097"/>
                </a:lnTo>
                <a:lnTo>
                  <a:pt x="3337" y="233885"/>
                </a:lnTo>
                <a:lnTo>
                  <a:pt x="6598" y="242283"/>
                </a:lnTo>
                <a:lnTo>
                  <a:pt x="10465" y="250422"/>
                </a:lnTo>
                <a:lnTo>
                  <a:pt x="14736" y="258388"/>
                </a:lnTo>
                <a:lnTo>
                  <a:pt x="19277" y="266239"/>
                </a:lnTo>
                <a:lnTo>
                  <a:pt x="25691" y="274012"/>
                </a:lnTo>
                <a:lnTo>
                  <a:pt x="33354" y="281735"/>
                </a:lnTo>
                <a:lnTo>
                  <a:pt x="41849" y="289423"/>
                </a:lnTo>
                <a:lnTo>
                  <a:pt x="50899" y="296242"/>
                </a:lnTo>
                <a:lnTo>
                  <a:pt x="60319" y="302481"/>
                </a:lnTo>
                <a:lnTo>
                  <a:pt x="69985" y="308334"/>
                </a:lnTo>
                <a:lnTo>
                  <a:pt x="80663" y="313930"/>
                </a:lnTo>
                <a:lnTo>
                  <a:pt x="92015" y="319353"/>
                </a:lnTo>
                <a:lnTo>
                  <a:pt x="103817" y="324662"/>
                </a:lnTo>
                <a:lnTo>
                  <a:pt x="115071" y="329048"/>
                </a:lnTo>
                <a:lnTo>
                  <a:pt x="125960" y="332819"/>
                </a:lnTo>
                <a:lnTo>
                  <a:pt x="136606" y="336179"/>
                </a:lnTo>
                <a:lnTo>
                  <a:pt x="148784" y="338419"/>
                </a:lnTo>
                <a:lnTo>
                  <a:pt x="161982" y="339913"/>
                </a:lnTo>
                <a:lnTo>
                  <a:pt x="175861" y="340909"/>
                </a:lnTo>
                <a:lnTo>
                  <a:pt x="189347" y="341572"/>
                </a:lnTo>
                <a:lnTo>
                  <a:pt x="215620" y="342310"/>
                </a:lnTo>
                <a:lnTo>
                  <a:pt x="254212" y="342725"/>
                </a:lnTo>
                <a:lnTo>
                  <a:pt x="267828" y="341090"/>
                </a:lnTo>
                <a:lnTo>
                  <a:pt x="281985" y="338307"/>
                </a:lnTo>
                <a:lnTo>
                  <a:pt x="296503" y="334758"/>
                </a:lnTo>
                <a:lnTo>
                  <a:pt x="307875" y="331545"/>
                </a:lnTo>
                <a:lnTo>
                  <a:pt x="317150" y="328557"/>
                </a:lnTo>
                <a:lnTo>
                  <a:pt x="340779" y="3200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MARTInkAnnotation127"/>
          <p:cNvSpPr/>
          <p:nvPr/>
        </p:nvSpPr>
        <p:spPr>
          <a:xfrm>
            <a:off x="5815080" y="1790640"/>
            <a:ext cx="158760" cy="114480"/>
          </a:xfrm>
          <a:custGeom>
            <a:avLst/>
            <a:gdLst>
              <a:gd name="textAreaLeft" fmla="*/ 0 w 158760"/>
              <a:gd name="textAreaRight" fmla="*/ 159120 w 15876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159091" h="113844">
                <a:moveTo>
                  <a:pt x="113370" y="0"/>
                </a:moveTo>
                <a:lnTo>
                  <a:pt x="117415" y="0"/>
                </a:lnTo>
                <a:lnTo>
                  <a:pt x="118607" y="847"/>
                </a:lnTo>
                <a:lnTo>
                  <a:pt x="119402" y="2258"/>
                </a:lnTo>
                <a:lnTo>
                  <a:pt x="120897" y="7306"/>
                </a:lnTo>
                <a:lnTo>
                  <a:pt x="116917" y="7527"/>
                </a:lnTo>
                <a:lnTo>
                  <a:pt x="114042" y="8405"/>
                </a:lnTo>
                <a:lnTo>
                  <a:pt x="110431" y="9836"/>
                </a:lnTo>
                <a:lnTo>
                  <a:pt x="106331" y="11638"/>
                </a:lnTo>
                <a:lnTo>
                  <a:pt x="101058" y="13685"/>
                </a:lnTo>
                <a:lnTo>
                  <a:pt x="88424" y="18218"/>
                </a:lnTo>
                <a:lnTo>
                  <a:pt x="67032" y="25530"/>
                </a:lnTo>
                <a:lnTo>
                  <a:pt x="59618" y="28873"/>
                </a:lnTo>
                <a:lnTo>
                  <a:pt x="52136" y="32795"/>
                </a:lnTo>
                <a:lnTo>
                  <a:pt x="44607" y="37104"/>
                </a:lnTo>
                <a:lnTo>
                  <a:pt x="37895" y="41669"/>
                </a:lnTo>
                <a:lnTo>
                  <a:pt x="31727" y="46406"/>
                </a:lnTo>
                <a:lnTo>
                  <a:pt x="25921" y="51257"/>
                </a:lnTo>
                <a:lnTo>
                  <a:pt x="20358" y="56185"/>
                </a:lnTo>
                <a:lnTo>
                  <a:pt x="9661" y="66176"/>
                </a:lnTo>
                <a:lnTo>
                  <a:pt x="6131" y="71210"/>
                </a:lnTo>
                <a:lnTo>
                  <a:pt x="3777" y="76260"/>
                </a:lnTo>
                <a:lnTo>
                  <a:pt x="2209" y="81320"/>
                </a:lnTo>
                <a:lnTo>
                  <a:pt x="1162" y="85540"/>
                </a:lnTo>
                <a:lnTo>
                  <a:pt x="465" y="89200"/>
                </a:lnTo>
                <a:lnTo>
                  <a:pt x="0" y="92487"/>
                </a:lnTo>
                <a:lnTo>
                  <a:pt x="1383" y="95525"/>
                </a:lnTo>
                <a:lnTo>
                  <a:pt x="3999" y="98396"/>
                </a:lnTo>
                <a:lnTo>
                  <a:pt x="7436" y="101158"/>
                </a:lnTo>
                <a:lnTo>
                  <a:pt x="10574" y="103845"/>
                </a:lnTo>
                <a:lnTo>
                  <a:pt x="13513" y="106484"/>
                </a:lnTo>
                <a:lnTo>
                  <a:pt x="16319" y="109089"/>
                </a:lnTo>
                <a:lnTo>
                  <a:pt x="20729" y="110826"/>
                </a:lnTo>
                <a:lnTo>
                  <a:pt x="26210" y="111984"/>
                </a:lnTo>
                <a:lnTo>
                  <a:pt x="32403" y="112756"/>
                </a:lnTo>
                <a:lnTo>
                  <a:pt x="39072" y="113271"/>
                </a:lnTo>
                <a:lnTo>
                  <a:pt x="46058" y="113614"/>
                </a:lnTo>
                <a:lnTo>
                  <a:pt x="53255" y="113843"/>
                </a:lnTo>
                <a:lnTo>
                  <a:pt x="61440" y="113149"/>
                </a:lnTo>
                <a:lnTo>
                  <a:pt x="70284" y="111839"/>
                </a:lnTo>
                <a:lnTo>
                  <a:pt x="79566" y="110119"/>
                </a:lnTo>
                <a:lnTo>
                  <a:pt x="87447" y="108126"/>
                </a:lnTo>
                <a:lnTo>
                  <a:pt x="94395" y="105951"/>
                </a:lnTo>
                <a:lnTo>
                  <a:pt x="100720" y="103654"/>
                </a:lnTo>
                <a:lnTo>
                  <a:pt x="106630" y="101276"/>
                </a:lnTo>
                <a:lnTo>
                  <a:pt x="112263" y="98844"/>
                </a:lnTo>
                <a:lnTo>
                  <a:pt x="117713" y="96376"/>
                </a:lnTo>
                <a:lnTo>
                  <a:pt x="123039" y="93037"/>
                </a:lnTo>
                <a:lnTo>
                  <a:pt x="128282" y="89118"/>
                </a:lnTo>
                <a:lnTo>
                  <a:pt x="133472" y="84812"/>
                </a:lnTo>
                <a:lnTo>
                  <a:pt x="137778" y="80248"/>
                </a:lnTo>
                <a:lnTo>
                  <a:pt x="141495" y="75512"/>
                </a:lnTo>
                <a:lnTo>
                  <a:pt x="144821" y="70662"/>
                </a:lnTo>
                <a:lnTo>
                  <a:pt x="147037" y="65734"/>
                </a:lnTo>
                <a:lnTo>
                  <a:pt x="148515" y="60756"/>
                </a:lnTo>
                <a:lnTo>
                  <a:pt x="149500" y="55744"/>
                </a:lnTo>
                <a:lnTo>
                  <a:pt x="151003" y="51556"/>
                </a:lnTo>
                <a:lnTo>
                  <a:pt x="152853" y="47918"/>
                </a:lnTo>
                <a:lnTo>
                  <a:pt x="154932" y="44645"/>
                </a:lnTo>
                <a:lnTo>
                  <a:pt x="156318" y="40770"/>
                </a:lnTo>
                <a:lnTo>
                  <a:pt x="157242" y="36493"/>
                </a:lnTo>
                <a:lnTo>
                  <a:pt x="159090" y="228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InkAnnotation128"/>
          <p:cNvSpPr/>
          <p:nvPr/>
        </p:nvSpPr>
        <p:spPr>
          <a:xfrm>
            <a:off x="6019920" y="1798560"/>
            <a:ext cx="365040" cy="98640"/>
          </a:xfrm>
          <a:custGeom>
            <a:avLst/>
            <a:gdLst>
              <a:gd name="textAreaLeft" fmla="*/ 0 w 365040"/>
              <a:gd name="textAreaRight" fmla="*/ 365400 w 36504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65761" h="98616">
                <a:moveTo>
                  <a:pt x="0" y="37655"/>
                </a:moveTo>
                <a:lnTo>
                  <a:pt x="32287" y="37655"/>
                </a:lnTo>
                <a:lnTo>
                  <a:pt x="35071" y="36808"/>
                </a:lnTo>
                <a:lnTo>
                  <a:pt x="37775" y="35397"/>
                </a:lnTo>
                <a:lnTo>
                  <a:pt x="40423" y="33610"/>
                </a:lnTo>
                <a:lnTo>
                  <a:pt x="43035" y="31572"/>
                </a:lnTo>
                <a:lnTo>
                  <a:pt x="45623" y="29366"/>
                </a:lnTo>
                <a:lnTo>
                  <a:pt x="48196" y="27049"/>
                </a:lnTo>
                <a:lnTo>
                  <a:pt x="53311" y="22217"/>
                </a:lnTo>
                <a:lnTo>
                  <a:pt x="55861" y="19743"/>
                </a:lnTo>
                <a:lnTo>
                  <a:pt x="59254" y="17247"/>
                </a:lnTo>
                <a:lnTo>
                  <a:pt x="63210" y="14736"/>
                </a:lnTo>
                <a:lnTo>
                  <a:pt x="67540" y="12216"/>
                </a:lnTo>
                <a:lnTo>
                  <a:pt x="71273" y="9689"/>
                </a:lnTo>
                <a:lnTo>
                  <a:pt x="74609" y="7158"/>
                </a:lnTo>
                <a:lnTo>
                  <a:pt x="77679" y="4624"/>
                </a:lnTo>
                <a:lnTo>
                  <a:pt x="83349" y="1808"/>
                </a:lnTo>
                <a:lnTo>
                  <a:pt x="91301" y="222"/>
                </a:lnTo>
                <a:lnTo>
                  <a:pt x="93887" y="0"/>
                </a:lnTo>
                <a:lnTo>
                  <a:pt x="96458" y="698"/>
                </a:lnTo>
                <a:lnTo>
                  <a:pt x="101573" y="3732"/>
                </a:lnTo>
                <a:lnTo>
                  <a:pt x="103275" y="5726"/>
                </a:lnTo>
                <a:lnTo>
                  <a:pt x="104410" y="7903"/>
                </a:lnTo>
                <a:lnTo>
                  <a:pt x="105167" y="10200"/>
                </a:lnTo>
                <a:lnTo>
                  <a:pt x="106518" y="13425"/>
                </a:lnTo>
                <a:lnTo>
                  <a:pt x="108265" y="17269"/>
                </a:lnTo>
                <a:lnTo>
                  <a:pt x="110277" y="21524"/>
                </a:lnTo>
                <a:lnTo>
                  <a:pt x="111618" y="25208"/>
                </a:lnTo>
                <a:lnTo>
                  <a:pt x="112512" y="28510"/>
                </a:lnTo>
                <a:lnTo>
                  <a:pt x="113107" y="31558"/>
                </a:lnTo>
                <a:lnTo>
                  <a:pt x="113505" y="36131"/>
                </a:lnTo>
                <a:lnTo>
                  <a:pt x="113770" y="41719"/>
                </a:lnTo>
                <a:lnTo>
                  <a:pt x="114195" y="60847"/>
                </a:lnTo>
                <a:lnTo>
                  <a:pt x="114300" y="90765"/>
                </a:lnTo>
                <a:lnTo>
                  <a:pt x="116558" y="88635"/>
                </a:lnTo>
                <a:lnTo>
                  <a:pt x="124906" y="80369"/>
                </a:lnTo>
                <a:lnTo>
                  <a:pt x="127297" y="77138"/>
                </a:lnTo>
                <a:lnTo>
                  <a:pt x="129739" y="73290"/>
                </a:lnTo>
                <a:lnTo>
                  <a:pt x="132213" y="69032"/>
                </a:lnTo>
                <a:lnTo>
                  <a:pt x="134708" y="65346"/>
                </a:lnTo>
                <a:lnTo>
                  <a:pt x="137218" y="62042"/>
                </a:lnTo>
                <a:lnTo>
                  <a:pt x="139739" y="58993"/>
                </a:lnTo>
                <a:lnTo>
                  <a:pt x="143113" y="55267"/>
                </a:lnTo>
                <a:lnTo>
                  <a:pt x="151377" y="46612"/>
                </a:lnTo>
                <a:lnTo>
                  <a:pt x="155104" y="41933"/>
                </a:lnTo>
                <a:lnTo>
                  <a:pt x="158437" y="37120"/>
                </a:lnTo>
                <a:lnTo>
                  <a:pt x="161504" y="32218"/>
                </a:lnTo>
                <a:lnTo>
                  <a:pt x="165243" y="28951"/>
                </a:lnTo>
                <a:lnTo>
                  <a:pt x="169428" y="26772"/>
                </a:lnTo>
                <a:lnTo>
                  <a:pt x="173913" y="25320"/>
                </a:lnTo>
                <a:lnTo>
                  <a:pt x="177748" y="23505"/>
                </a:lnTo>
                <a:lnTo>
                  <a:pt x="181152" y="21448"/>
                </a:lnTo>
                <a:lnTo>
                  <a:pt x="184268" y="19231"/>
                </a:lnTo>
                <a:lnTo>
                  <a:pt x="189989" y="16766"/>
                </a:lnTo>
                <a:lnTo>
                  <a:pt x="197969" y="15379"/>
                </a:lnTo>
                <a:lnTo>
                  <a:pt x="200559" y="15185"/>
                </a:lnTo>
                <a:lnTo>
                  <a:pt x="203133" y="15901"/>
                </a:lnTo>
                <a:lnTo>
                  <a:pt x="208250" y="18956"/>
                </a:lnTo>
                <a:lnTo>
                  <a:pt x="209953" y="20956"/>
                </a:lnTo>
                <a:lnTo>
                  <a:pt x="211088" y="23135"/>
                </a:lnTo>
                <a:lnTo>
                  <a:pt x="211846" y="25435"/>
                </a:lnTo>
                <a:lnTo>
                  <a:pt x="213197" y="28662"/>
                </a:lnTo>
                <a:lnTo>
                  <a:pt x="214945" y="32506"/>
                </a:lnTo>
                <a:lnTo>
                  <a:pt x="216957" y="36762"/>
                </a:lnTo>
                <a:lnTo>
                  <a:pt x="218298" y="40447"/>
                </a:lnTo>
                <a:lnTo>
                  <a:pt x="219192" y="43749"/>
                </a:lnTo>
                <a:lnTo>
                  <a:pt x="219787" y="46798"/>
                </a:lnTo>
                <a:lnTo>
                  <a:pt x="220185" y="50524"/>
                </a:lnTo>
                <a:lnTo>
                  <a:pt x="220450" y="54701"/>
                </a:lnTo>
                <a:lnTo>
                  <a:pt x="220745" y="63011"/>
                </a:lnTo>
                <a:lnTo>
                  <a:pt x="220910" y="72449"/>
                </a:lnTo>
                <a:lnTo>
                  <a:pt x="220950" y="77955"/>
                </a:lnTo>
                <a:lnTo>
                  <a:pt x="221806" y="79762"/>
                </a:lnTo>
                <a:lnTo>
                  <a:pt x="223224" y="80966"/>
                </a:lnTo>
                <a:lnTo>
                  <a:pt x="225016" y="81769"/>
                </a:lnTo>
                <a:lnTo>
                  <a:pt x="229265" y="82661"/>
                </a:lnTo>
                <a:lnTo>
                  <a:pt x="238891" y="83234"/>
                </a:lnTo>
                <a:lnTo>
                  <a:pt x="241388" y="82435"/>
                </a:lnTo>
                <a:lnTo>
                  <a:pt x="243899" y="81055"/>
                </a:lnTo>
                <a:lnTo>
                  <a:pt x="246419" y="79288"/>
                </a:lnTo>
                <a:lnTo>
                  <a:pt x="248946" y="77264"/>
                </a:lnTo>
                <a:lnTo>
                  <a:pt x="251477" y="75068"/>
                </a:lnTo>
                <a:lnTo>
                  <a:pt x="254011" y="72757"/>
                </a:lnTo>
                <a:lnTo>
                  <a:pt x="257394" y="70370"/>
                </a:lnTo>
                <a:lnTo>
                  <a:pt x="261343" y="67931"/>
                </a:lnTo>
                <a:lnTo>
                  <a:pt x="265669" y="65459"/>
                </a:lnTo>
                <a:lnTo>
                  <a:pt x="269399" y="62965"/>
                </a:lnTo>
                <a:lnTo>
                  <a:pt x="272733" y="60455"/>
                </a:lnTo>
                <a:lnTo>
                  <a:pt x="275802" y="57935"/>
                </a:lnTo>
                <a:lnTo>
                  <a:pt x="278695" y="54562"/>
                </a:lnTo>
                <a:lnTo>
                  <a:pt x="281469" y="50619"/>
                </a:lnTo>
                <a:lnTo>
                  <a:pt x="284166" y="46298"/>
                </a:lnTo>
                <a:lnTo>
                  <a:pt x="287658" y="42570"/>
                </a:lnTo>
                <a:lnTo>
                  <a:pt x="291679" y="39239"/>
                </a:lnTo>
                <a:lnTo>
                  <a:pt x="296052" y="36171"/>
                </a:lnTo>
                <a:lnTo>
                  <a:pt x="299815" y="33279"/>
                </a:lnTo>
                <a:lnTo>
                  <a:pt x="303169" y="30504"/>
                </a:lnTo>
                <a:lnTo>
                  <a:pt x="306253" y="27808"/>
                </a:lnTo>
                <a:lnTo>
                  <a:pt x="309156" y="26010"/>
                </a:lnTo>
                <a:lnTo>
                  <a:pt x="317639" y="23125"/>
                </a:lnTo>
                <a:lnTo>
                  <a:pt x="319566" y="22555"/>
                </a:lnTo>
                <a:lnTo>
                  <a:pt x="320571" y="24202"/>
                </a:lnTo>
                <a:lnTo>
                  <a:pt x="322088" y="26993"/>
                </a:lnTo>
                <a:lnTo>
                  <a:pt x="323945" y="30547"/>
                </a:lnTo>
                <a:lnTo>
                  <a:pt x="325184" y="33763"/>
                </a:lnTo>
                <a:lnTo>
                  <a:pt x="326009" y="36754"/>
                </a:lnTo>
                <a:lnTo>
                  <a:pt x="326559" y="39594"/>
                </a:lnTo>
                <a:lnTo>
                  <a:pt x="326926" y="42334"/>
                </a:lnTo>
                <a:lnTo>
                  <a:pt x="327171" y="45008"/>
                </a:lnTo>
                <a:lnTo>
                  <a:pt x="327334" y="47637"/>
                </a:lnTo>
                <a:lnTo>
                  <a:pt x="328289" y="50236"/>
                </a:lnTo>
                <a:lnTo>
                  <a:pt x="329772" y="52816"/>
                </a:lnTo>
                <a:lnTo>
                  <a:pt x="331608" y="55382"/>
                </a:lnTo>
                <a:lnTo>
                  <a:pt x="332832" y="58787"/>
                </a:lnTo>
                <a:lnTo>
                  <a:pt x="333648" y="62749"/>
                </a:lnTo>
                <a:lnTo>
                  <a:pt x="334192" y="67085"/>
                </a:lnTo>
                <a:lnTo>
                  <a:pt x="335402" y="70821"/>
                </a:lnTo>
                <a:lnTo>
                  <a:pt x="337054" y="74159"/>
                </a:lnTo>
                <a:lnTo>
                  <a:pt x="339003" y="77231"/>
                </a:lnTo>
                <a:lnTo>
                  <a:pt x="341148" y="80126"/>
                </a:lnTo>
                <a:lnTo>
                  <a:pt x="343426" y="82902"/>
                </a:lnTo>
                <a:lnTo>
                  <a:pt x="345791" y="85600"/>
                </a:lnTo>
                <a:lnTo>
                  <a:pt x="348214" y="87398"/>
                </a:lnTo>
                <a:lnTo>
                  <a:pt x="353163" y="89396"/>
                </a:lnTo>
                <a:lnTo>
                  <a:pt x="355669" y="90776"/>
                </a:lnTo>
                <a:lnTo>
                  <a:pt x="358186" y="92542"/>
                </a:lnTo>
                <a:lnTo>
                  <a:pt x="365760" y="9861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MARTInkAnnotation129"/>
          <p:cNvSpPr/>
          <p:nvPr/>
        </p:nvSpPr>
        <p:spPr>
          <a:xfrm>
            <a:off x="6454800" y="1820880"/>
            <a:ext cx="196920" cy="76320"/>
          </a:xfrm>
          <a:custGeom>
            <a:avLst/>
            <a:gdLst>
              <a:gd name="textAreaLeft" fmla="*/ 0 w 196920"/>
              <a:gd name="textAreaRight" fmla="*/ 197280 w 19692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w="198120" h="76201">
                <a:moveTo>
                  <a:pt x="7619" y="0"/>
                </a:moveTo>
                <a:lnTo>
                  <a:pt x="7619" y="11351"/>
                </a:lnTo>
                <a:lnTo>
                  <a:pt x="6772" y="13494"/>
                </a:lnTo>
                <a:lnTo>
                  <a:pt x="5361" y="15769"/>
                </a:lnTo>
                <a:lnTo>
                  <a:pt x="3573" y="18133"/>
                </a:lnTo>
                <a:lnTo>
                  <a:pt x="2382" y="20555"/>
                </a:lnTo>
                <a:lnTo>
                  <a:pt x="1587" y="23017"/>
                </a:lnTo>
                <a:lnTo>
                  <a:pt x="1058" y="25505"/>
                </a:lnTo>
                <a:lnTo>
                  <a:pt x="705" y="28856"/>
                </a:lnTo>
                <a:lnTo>
                  <a:pt x="470" y="32785"/>
                </a:lnTo>
                <a:lnTo>
                  <a:pt x="208" y="40818"/>
                </a:lnTo>
                <a:lnTo>
                  <a:pt x="27" y="51524"/>
                </a:lnTo>
                <a:lnTo>
                  <a:pt x="0" y="60599"/>
                </a:lnTo>
                <a:lnTo>
                  <a:pt x="2257" y="58542"/>
                </a:lnTo>
                <a:lnTo>
                  <a:pt x="4044" y="56808"/>
                </a:lnTo>
                <a:lnTo>
                  <a:pt x="5236" y="54805"/>
                </a:lnTo>
                <a:lnTo>
                  <a:pt x="6031" y="52624"/>
                </a:lnTo>
                <a:lnTo>
                  <a:pt x="6560" y="50322"/>
                </a:lnTo>
                <a:lnTo>
                  <a:pt x="7760" y="47942"/>
                </a:lnTo>
                <a:lnTo>
                  <a:pt x="9406" y="45508"/>
                </a:lnTo>
                <a:lnTo>
                  <a:pt x="11350" y="43039"/>
                </a:lnTo>
                <a:lnTo>
                  <a:pt x="13493" y="40546"/>
                </a:lnTo>
                <a:lnTo>
                  <a:pt x="15768" y="38037"/>
                </a:lnTo>
                <a:lnTo>
                  <a:pt x="18132" y="35518"/>
                </a:lnTo>
                <a:lnTo>
                  <a:pt x="20554" y="32145"/>
                </a:lnTo>
                <a:lnTo>
                  <a:pt x="23016" y="28203"/>
                </a:lnTo>
                <a:lnTo>
                  <a:pt x="25504" y="23883"/>
                </a:lnTo>
                <a:lnTo>
                  <a:pt x="28009" y="20155"/>
                </a:lnTo>
                <a:lnTo>
                  <a:pt x="30525" y="16824"/>
                </a:lnTo>
                <a:lnTo>
                  <a:pt x="33050" y="13755"/>
                </a:lnTo>
                <a:lnTo>
                  <a:pt x="35580" y="10864"/>
                </a:lnTo>
                <a:lnTo>
                  <a:pt x="38113" y="8089"/>
                </a:lnTo>
                <a:lnTo>
                  <a:pt x="40648" y="5393"/>
                </a:lnTo>
                <a:lnTo>
                  <a:pt x="43185" y="3595"/>
                </a:lnTo>
                <a:lnTo>
                  <a:pt x="48261" y="1598"/>
                </a:lnTo>
                <a:lnTo>
                  <a:pt x="51835" y="474"/>
                </a:lnTo>
                <a:lnTo>
                  <a:pt x="56938" y="140"/>
                </a:lnTo>
                <a:lnTo>
                  <a:pt x="58279" y="940"/>
                </a:lnTo>
                <a:lnTo>
                  <a:pt x="59172" y="2320"/>
                </a:lnTo>
                <a:lnTo>
                  <a:pt x="59768" y="4087"/>
                </a:lnTo>
                <a:lnTo>
                  <a:pt x="60165" y="6111"/>
                </a:lnTo>
                <a:lnTo>
                  <a:pt x="60430" y="8308"/>
                </a:lnTo>
                <a:lnTo>
                  <a:pt x="60606" y="10618"/>
                </a:lnTo>
                <a:lnTo>
                  <a:pt x="60723" y="13852"/>
                </a:lnTo>
                <a:lnTo>
                  <a:pt x="60854" y="21961"/>
                </a:lnTo>
                <a:lnTo>
                  <a:pt x="61736" y="25647"/>
                </a:lnTo>
                <a:lnTo>
                  <a:pt x="63170" y="28952"/>
                </a:lnTo>
                <a:lnTo>
                  <a:pt x="64973" y="32001"/>
                </a:lnTo>
                <a:lnTo>
                  <a:pt x="66175" y="34881"/>
                </a:lnTo>
                <a:lnTo>
                  <a:pt x="66976" y="37647"/>
                </a:lnTo>
                <a:lnTo>
                  <a:pt x="67511" y="40338"/>
                </a:lnTo>
                <a:lnTo>
                  <a:pt x="68714" y="42979"/>
                </a:lnTo>
                <a:lnTo>
                  <a:pt x="70362" y="45586"/>
                </a:lnTo>
                <a:lnTo>
                  <a:pt x="72307" y="48171"/>
                </a:lnTo>
                <a:lnTo>
                  <a:pt x="74451" y="50740"/>
                </a:lnTo>
                <a:lnTo>
                  <a:pt x="76727" y="53301"/>
                </a:lnTo>
                <a:lnTo>
                  <a:pt x="79092" y="55854"/>
                </a:lnTo>
                <a:lnTo>
                  <a:pt x="80667" y="58403"/>
                </a:lnTo>
                <a:lnTo>
                  <a:pt x="81718" y="60948"/>
                </a:lnTo>
                <a:lnTo>
                  <a:pt x="82418" y="63492"/>
                </a:lnTo>
                <a:lnTo>
                  <a:pt x="83732" y="65188"/>
                </a:lnTo>
                <a:lnTo>
                  <a:pt x="85454" y="66319"/>
                </a:lnTo>
                <a:lnTo>
                  <a:pt x="89626" y="67575"/>
                </a:lnTo>
                <a:lnTo>
                  <a:pt x="94302" y="68134"/>
                </a:lnTo>
                <a:lnTo>
                  <a:pt x="96734" y="67436"/>
                </a:lnTo>
                <a:lnTo>
                  <a:pt x="99202" y="66124"/>
                </a:lnTo>
                <a:lnTo>
                  <a:pt x="101695" y="64403"/>
                </a:lnTo>
                <a:lnTo>
                  <a:pt x="104203" y="62408"/>
                </a:lnTo>
                <a:lnTo>
                  <a:pt x="106722" y="60232"/>
                </a:lnTo>
                <a:lnTo>
                  <a:pt x="109248" y="57935"/>
                </a:lnTo>
                <a:lnTo>
                  <a:pt x="112625" y="55557"/>
                </a:lnTo>
                <a:lnTo>
                  <a:pt x="116570" y="53125"/>
                </a:lnTo>
                <a:lnTo>
                  <a:pt x="120893" y="50657"/>
                </a:lnTo>
                <a:lnTo>
                  <a:pt x="124622" y="48164"/>
                </a:lnTo>
                <a:lnTo>
                  <a:pt x="127954" y="45656"/>
                </a:lnTo>
                <a:lnTo>
                  <a:pt x="131022" y="43137"/>
                </a:lnTo>
                <a:lnTo>
                  <a:pt x="133914" y="40612"/>
                </a:lnTo>
                <a:lnTo>
                  <a:pt x="136689" y="38081"/>
                </a:lnTo>
                <a:lnTo>
                  <a:pt x="142030" y="33012"/>
                </a:lnTo>
                <a:lnTo>
                  <a:pt x="147227" y="27936"/>
                </a:lnTo>
                <a:lnTo>
                  <a:pt x="149797" y="26244"/>
                </a:lnTo>
                <a:lnTo>
                  <a:pt x="154911" y="24364"/>
                </a:lnTo>
                <a:lnTo>
                  <a:pt x="160006" y="23529"/>
                </a:lnTo>
                <a:lnTo>
                  <a:pt x="165094" y="23157"/>
                </a:lnTo>
                <a:lnTo>
                  <a:pt x="170177" y="22992"/>
                </a:lnTo>
                <a:lnTo>
                  <a:pt x="171871" y="23795"/>
                </a:lnTo>
                <a:lnTo>
                  <a:pt x="173000" y="25177"/>
                </a:lnTo>
                <a:lnTo>
                  <a:pt x="174813" y="29432"/>
                </a:lnTo>
                <a:lnTo>
                  <a:pt x="179172" y="38260"/>
                </a:lnTo>
                <a:lnTo>
                  <a:pt x="180408" y="41593"/>
                </a:lnTo>
                <a:lnTo>
                  <a:pt x="181231" y="44662"/>
                </a:lnTo>
                <a:lnTo>
                  <a:pt x="181780" y="47555"/>
                </a:lnTo>
                <a:lnTo>
                  <a:pt x="182146" y="50330"/>
                </a:lnTo>
                <a:lnTo>
                  <a:pt x="182390" y="53027"/>
                </a:lnTo>
                <a:lnTo>
                  <a:pt x="182553" y="55671"/>
                </a:lnTo>
                <a:lnTo>
                  <a:pt x="183509" y="58281"/>
                </a:lnTo>
                <a:lnTo>
                  <a:pt x="184993" y="60867"/>
                </a:lnTo>
                <a:lnTo>
                  <a:pt x="186828" y="63438"/>
                </a:lnTo>
                <a:lnTo>
                  <a:pt x="188898" y="65999"/>
                </a:lnTo>
                <a:lnTo>
                  <a:pt x="191125" y="68553"/>
                </a:lnTo>
                <a:lnTo>
                  <a:pt x="198119" y="762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600" bIns="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MARTInkAnnotation130"/>
          <p:cNvSpPr/>
          <p:nvPr/>
        </p:nvSpPr>
        <p:spPr>
          <a:xfrm>
            <a:off x="7010280" y="1623960"/>
            <a:ext cx="225720" cy="297000"/>
          </a:xfrm>
          <a:custGeom>
            <a:avLst/>
            <a:gdLst>
              <a:gd name="textAreaLeft" fmla="*/ 0 w 225720"/>
              <a:gd name="textAreaRight" fmla="*/ 226080 w 225720"/>
              <a:gd name="textAreaTop" fmla="*/ 0 h 297000"/>
              <a:gd name="textAreaBottom" fmla="*/ 297000 h 297000"/>
            </a:gdLst>
            <a:ahLst/>
            <a:rect l="textAreaLeft" t="textAreaTop" r="textAreaRight" b="textAreaBottom"/>
            <a:pathLst>
              <a:path w="224650" h="296548">
                <a:moveTo>
                  <a:pt x="45689" y="174773"/>
                </a:moveTo>
                <a:lnTo>
                  <a:pt x="45689" y="219469"/>
                </a:lnTo>
                <a:lnTo>
                  <a:pt x="44843" y="224044"/>
                </a:lnTo>
                <a:lnTo>
                  <a:pt x="43430" y="228787"/>
                </a:lnTo>
                <a:lnTo>
                  <a:pt x="39606" y="239419"/>
                </a:lnTo>
                <a:lnTo>
                  <a:pt x="35083" y="252612"/>
                </a:lnTo>
                <a:lnTo>
                  <a:pt x="33537" y="258839"/>
                </a:lnTo>
                <a:lnTo>
                  <a:pt x="32509" y="264683"/>
                </a:lnTo>
                <a:lnTo>
                  <a:pt x="31821" y="270273"/>
                </a:lnTo>
                <a:lnTo>
                  <a:pt x="31058" y="278742"/>
                </a:lnTo>
                <a:lnTo>
                  <a:pt x="30720" y="285328"/>
                </a:lnTo>
                <a:lnTo>
                  <a:pt x="30454" y="296474"/>
                </a:lnTo>
                <a:lnTo>
                  <a:pt x="30453" y="296547"/>
                </a:lnTo>
                <a:lnTo>
                  <a:pt x="30449" y="286074"/>
                </a:lnTo>
                <a:lnTo>
                  <a:pt x="29603" y="281994"/>
                </a:lnTo>
                <a:lnTo>
                  <a:pt x="28191" y="276734"/>
                </a:lnTo>
                <a:lnTo>
                  <a:pt x="26404" y="270687"/>
                </a:lnTo>
                <a:lnTo>
                  <a:pt x="25212" y="264115"/>
                </a:lnTo>
                <a:lnTo>
                  <a:pt x="24417" y="257195"/>
                </a:lnTo>
                <a:lnTo>
                  <a:pt x="23888" y="250041"/>
                </a:lnTo>
                <a:lnTo>
                  <a:pt x="22688" y="242732"/>
                </a:lnTo>
                <a:lnTo>
                  <a:pt x="21042" y="235319"/>
                </a:lnTo>
                <a:lnTo>
                  <a:pt x="12315" y="201126"/>
                </a:lnTo>
                <a:lnTo>
                  <a:pt x="10740" y="190648"/>
                </a:lnTo>
                <a:lnTo>
                  <a:pt x="9690" y="179430"/>
                </a:lnTo>
                <a:lnTo>
                  <a:pt x="8990" y="167718"/>
                </a:lnTo>
                <a:lnTo>
                  <a:pt x="7676" y="156523"/>
                </a:lnTo>
                <a:lnTo>
                  <a:pt x="5953" y="145673"/>
                </a:lnTo>
                <a:lnTo>
                  <a:pt x="3958" y="135053"/>
                </a:lnTo>
                <a:lnTo>
                  <a:pt x="2628" y="125433"/>
                </a:lnTo>
                <a:lnTo>
                  <a:pt x="1743" y="116479"/>
                </a:lnTo>
                <a:lnTo>
                  <a:pt x="1151" y="107971"/>
                </a:lnTo>
                <a:lnTo>
                  <a:pt x="757" y="98912"/>
                </a:lnTo>
                <a:lnTo>
                  <a:pt x="202" y="71674"/>
                </a:lnTo>
                <a:lnTo>
                  <a:pt x="0" y="40959"/>
                </a:lnTo>
                <a:lnTo>
                  <a:pt x="1683" y="35610"/>
                </a:lnTo>
                <a:lnTo>
                  <a:pt x="4497" y="30351"/>
                </a:lnTo>
                <a:lnTo>
                  <a:pt x="8069" y="25152"/>
                </a:lnTo>
                <a:lnTo>
                  <a:pt x="12142" y="20839"/>
                </a:lnTo>
                <a:lnTo>
                  <a:pt x="16551" y="17117"/>
                </a:lnTo>
                <a:lnTo>
                  <a:pt x="21184" y="13789"/>
                </a:lnTo>
                <a:lnTo>
                  <a:pt x="26812" y="10724"/>
                </a:lnTo>
                <a:lnTo>
                  <a:pt x="33105" y="7833"/>
                </a:lnTo>
                <a:lnTo>
                  <a:pt x="39839" y="5060"/>
                </a:lnTo>
                <a:lnTo>
                  <a:pt x="46869" y="3211"/>
                </a:lnTo>
                <a:lnTo>
                  <a:pt x="54096" y="1978"/>
                </a:lnTo>
                <a:lnTo>
                  <a:pt x="61453" y="1157"/>
                </a:lnTo>
                <a:lnTo>
                  <a:pt x="68898" y="609"/>
                </a:lnTo>
                <a:lnTo>
                  <a:pt x="76402" y="244"/>
                </a:lnTo>
                <a:lnTo>
                  <a:pt x="83943" y="0"/>
                </a:lnTo>
                <a:lnTo>
                  <a:pt x="92359" y="684"/>
                </a:lnTo>
                <a:lnTo>
                  <a:pt x="101356" y="1987"/>
                </a:lnTo>
                <a:lnTo>
                  <a:pt x="110740" y="3703"/>
                </a:lnTo>
                <a:lnTo>
                  <a:pt x="120383" y="5693"/>
                </a:lnTo>
                <a:lnTo>
                  <a:pt x="140128" y="10162"/>
                </a:lnTo>
                <a:lnTo>
                  <a:pt x="149288" y="12539"/>
                </a:lnTo>
                <a:lnTo>
                  <a:pt x="157934" y="14970"/>
                </a:lnTo>
                <a:lnTo>
                  <a:pt x="166239" y="17438"/>
                </a:lnTo>
                <a:lnTo>
                  <a:pt x="174316" y="20776"/>
                </a:lnTo>
                <a:lnTo>
                  <a:pt x="182240" y="24695"/>
                </a:lnTo>
                <a:lnTo>
                  <a:pt x="190063" y="29001"/>
                </a:lnTo>
                <a:lnTo>
                  <a:pt x="196971" y="33565"/>
                </a:lnTo>
                <a:lnTo>
                  <a:pt x="203271" y="38301"/>
                </a:lnTo>
                <a:lnTo>
                  <a:pt x="209164" y="43152"/>
                </a:lnTo>
                <a:lnTo>
                  <a:pt x="213091" y="48079"/>
                </a:lnTo>
                <a:lnTo>
                  <a:pt x="215711" y="53057"/>
                </a:lnTo>
                <a:lnTo>
                  <a:pt x="217456" y="58069"/>
                </a:lnTo>
                <a:lnTo>
                  <a:pt x="219468" y="63104"/>
                </a:lnTo>
                <a:lnTo>
                  <a:pt x="221654" y="68153"/>
                </a:lnTo>
                <a:lnTo>
                  <a:pt x="223960" y="73213"/>
                </a:lnTo>
                <a:lnTo>
                  <a:pt x="224649" y="78280"/>
                </a:lnTo>
                <a:lnTo>
                  <a:pt x="224263" y="83351"/>
                </a:lnTo>
                <a:lnTo>
                  <a:pt x="223158" y="88425"/>
                </a:lnTo>
                <a:lnTo>
                  <a:pt x="221575" y="93501"/>
                </a:lnTo>
                <a:lnTo>
                  <a:pt x="219672" y="98578"/>
                </a:lnTo>
                <a:lnTo>
                  <a:pt x="217559" y="103657"/>
                </a:lnTo>
                <a:lnTo>
                  <a:pt x="213608" y="108735"/>
                </a:lnTo>
                <a:lnTo>
                  <a:pt x="208435" y="113815"/>
                </a:lnTo>
                <a:lnTo>
                  <a:pt x="202446" y="118894"/>
                </a:lnTo>
                <a:lnTo>
                  <a:pt x="195913" y="123974"/>
                </a:lnTo>
                <a:lnTo>
                  <a:pt x="189018" y="129054"/>
                </a:lnTo>
                <a:lnTo>
                  <a:pt x="181882" y="134133"/>
                </a:lnTo>
                <a:lnTo>
                  <a:pt x="173738" y="138366"/>
                </a:lnTo>
                <a:lnTo>
                  <a:pt x="164921" y="142035"/>
                </a:lnTo>
                <a:lnTo>
                  <a:pt x="130483" y="154007"/>
                </a:lnTo>
                <a:lnTo>
                  <a:pt x="122538" y="155849"/>
                </a:lnTo>
                <a:lnTo>
                  <a:pt x="114702" y="157077"/>
                </a:lnTo>
                <a:lnTo>
                  <a:pt x="106937" y="157896"/>
                </a:lnTo>
                <a:lnTo>
                  <a:pt x="99222" y="159288"/>
                </a:lnTo>
                <a:lnTo>
                  <a:pt x="91538" y="161063"/>
                </a:lnTo>
                <a:lnTo>
                  <a:pt x="83874" y="163093"/>
                </a:lnTo>
                <a:lnTo>
                  <a:pt x="77072" y="164446"/>
                </a:lnTo>
                <a:lnTo>
                  <a:pt x="70844" y="165349"/>
                </a:lnTo>
                <a:lnTo>
                  <a:pt x="65000" y="165950"/>
                </a:lnTo>
                <a:lnTo>
                  <a:pt x="60257" y="166351"/>
                </a:lnTo>
                <a:lnTo>
                  <a:pt x="56247" y="166619"/>
                </a:lnTo>
                <a:lnTo>
                  <a:pt x="49534" y="166916"/>
                </a:lnTo>
                <a:lnTo>
                  <a:pt x="38069" y="167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MARTInkAnnotation131"/>
          <p:cNvSpPr/>
          <p:nvPr/>
        </p:nvSpPr>
        <p:spPr>
          <a:xfrm>
            <a:off x="7201080" y="1812960"/>
            <a:ext cx="106200" cy="92160"/>
          </a:xfrm>
          <a:custGeom>
            <a:avLst/>
            <a:gdLst>
              <a:gd name="textAreaLeft" fmla="*/ 0 w 106200"/>
              <a:gd name="textAreaRight" fmla="*/ 106560 w 10620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06681" h="91438">
                <a:moveTo>
                  <a:pt x="0" y="38100"/>
                </a:moveTo>
                <a:lnTo>
                  <a:pt x="0" y="56978"/>
                </a:lnTo>
                <a:lnTo>
                  <a:pt x="846" y="59152"/>
                </a:lnTo>
                <a:lnTo>
                  <a:pt x="2259" y="61448"/>
                </a:lnTo>
                <a:lnTo>
                  <a:pt x="4045" y="63825"/>
                </a:lnTo>
                <a:lnTo>
                  <a:pt x="6083" y="66257"/>
                </a:lnTo>
                <a:lnTo>
                  <a:pt x="8288" y="68725"/>
                </a:lnTo>
                <a:lnTo>
                  <a:pt x="10606" y="71217"/>
                </a:lnTo>
                <a:lnTo>
                  <a:pt x="12151" y="73724"/>
                </a:lnTo>
                <a:lnTo>
                  <a:pt x="13180" y="76243"/>
                </a:lnTo>
                <a:lnTo>
                  <a:pt x="13867" y="78768"/>
                </a:lnTo>
                <a:lnTo>
                  <a:pt x="15171" y="81299"/>
                </a:lnTo>
                <a:lnTo>
                  <a:pt x="16888" y="83833"/>
                </a:lnTo>
                <a:lnTo>
                  <a:pt x="22813" y="91381"/>
                </a:lnTo>
                <a:lnTo>
                  <a:pt x="22853" y="91432"/>
                </a:lnTo>
                <a:lnTo>
                  <a:pt x="22857" y="91435"/>
                </a:lnTo>
                <a:lnTo>
                  <a:pt x="22857" y="91437"/>
                </a:lnTo>
                <a:lnTo>
                  <a:pt x="22860" y="40496"/>
                </a:lnTo>
                <a:lnTo>
                  <a:pt x="23706" y="36311"/>
                </a:lnTo>
                <a:lnTo>
                  <a:pt x="25118" y="32674"/>
                </a:lnTo>
                <a:lnTo>
                  <a:pt x="26905" y="29403"/>
                </a:lnTo>
                <a:lnTo>
                  <a:pt x="33466" y="16708"/>
                </a:lnTo>
                <a:lnTo>
                  <a:pt x="36704" y="13679"/>
                </a:lnTo>
                <a:lnTo>
                  <a:pt x="40555" y="11659"/>
                </a:lnTo>
                <a:lnTo>
                  <a:pt x="44816" y="10313"/>
                </a:lnTo>
                <a:lnTo>
                  <a:pt x="48505" y="8569"/>
                </a:lnTo>
                <a:lnTo>
                  <a:pt x="51810" y="6559"/>
                </a:lnTo>
                <a:lnTo>
                  <a:pt x="54860" y="4373"/>
                </a:lnTo>
                <a:lnTo>
                  <a:pt x="58585" y="2915"/>
                </a:lnTo>
                <a:lnTo>
                  <a:pt x="62764" y="1944"/>
                </a:lnTo>
                <a:lnTo>
                  <a:pt x="67242" y="1296"/>
                </a:lnTo>
                <a:lnTo>
                  <a:pt x="71075" y="864"/>
                </a:lnTo>
                <a:lnTo>
                  <a:pt x="74477" y="576"/>
                </a:lnTo>
                <a:lnTo>
                  <a:pt x="77591" y="384"/>
                </a:lnTo>
                <a:lnTo>
                  <a:pt x="83309" y="171"/>
                </a:lnTo>
                <a:lnTo>
                  <a:pt x="91288" y="51"/>
                </a:lnTo>
                <a:lnTo>
                  <a:pt x="10668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MARTInkAnnotation132"/>
          <p:cNvSpPr/>
          <p:nvPr/>
        </p:nvSpPr>
        <p:spPr>
          <a:xfrm>
            <a:off x="7369200" y="1820880"/>
            <a:ext cx="98280" cy="92160"/>
          </a:xfrm>
          <a:custGeom>
            <a:avLst/>
            <a:gdLst>
              <a:gd name="textAreaLeft" fmla="*/ 0 w 98280"/>
              <a:gd name="textAreaRight" fmla="*/ 98640 w 9828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98587" h="91177">
                <a:moveTo>
                  <a:pt x="52867" y="22739"/>
                </a:moveTo>
                <a:lnTo>
                  <a:pt x="60173" y="15433"/>
                </a:lnTo>
                <a:lnTo>
                  <a:pt x="60347" y="13001"/>
                </a:lnTo>
                <a:lnTo>
                  <a:pt x="60393" y="11167"/>
                </a:lnTo>
                <a:lnTo>
                  <a:pt x="59578" y="9098"/>
                </a:lnTo>
                <a:lnTo>
                  <a:pt x="58187" y="6872"/>
                </a:lnTo>
                <a:lnTo>
                  <a:pt x="56413" y="4541"/>
                </a:lnTo>
                <a:lnTo>
                  <a:pt x="54384" y="2987"/>
                </a:lnTo>
                <a:lnTo>
                  <a:pt x="52185" y="1951"/>
                </a:lnTo>
                <a:lnTo>
                  <a:pt x="49873" y="1260"/>
                </a:lnTo>
                <a:lnTo>
                  <a:pt x="47483" y="800"/>
                </a:lnTo>
                <a:lnTo>
                  <a:pt x="45045" y="493"/>
                </a:lnTo>
                <a:lnTo>
                  <a:pt x="42572" y="288"/>
                </a:lnTo>
                <a:lnTo>
                  <a:pt x="40077" y="152"/>
                </a:lnTo>
                <a:lnTo>
                  <a:pt x="35047" y="0"/>
                </a:lnTo>
                <a:lnTo>
                  <a:pt x="31673" y="1653"/>
                </a:lnTo>
                <a:lnTo>
                  <a:pt x="27731" y="4449"/>
                </a:lnTo>
                <a:lnTo>
                  <a:pt x="23409" y="8005"/>
                </a:lnTo>
                <a:lnTo>
                  <a:pt x="19682" y="11223"/>
                </a:lnTo>
                <a:lnTo>
                  <a:pt x="16349" y="14215"/>
                </a:lnTo>
                <a:lnTo>
                  <a:pt x="10390" y="19797"/>
                </a:lnTo>
                <a:lnTo>
                  <a:pt x="4918" y="25100"/>
                </a:lnTo>
                <a:lnTo>
                  <a:pt x="3122" y="28547"/>
                </a:lnTo>
                <a:lnTo>
                  <a:pt x="1923" y="32538"/>
                </a:lnTo>
                <a:lnTo>
                  <a:pt x="1125" y="36891"/>
                </a:lnTo>
                <a:lnTo>
                  <a:pt x="591" y="41487"/>
                </a:lnTo>
                <a:lnTo>
                  <a:pt x="237" y="46245"/>
                </a:lnTo>
                <a:lnTo>
                  <a:pt x="0" y="51110"/>
                </a:lnTo>
                <a:lnTo>
                  <a:pt x="689" y="56046"/>
                </a:lnTo>
                <a:lnTo>
                  <a:pt x="1994" y="61030"/>
                </a:lnTo>
                <a:lnTo>
                  <a:pt x="3712" y="66047"/>
                </a:lnTo>
                <a:lnTo>
                  <a:pt x="6550" y="70237"/>
                </a:lnTo>
                <a:lnTo>
                  <a:pt x="10135" y="73878"/>
                </a:lnTo>
                <a:lnTo>
                  <a:pt x="14219" y="77152"/>
                </a:lnTo>
                <a:lnTo>
                  <a:pt x="18635" y="80181"/>
                </a:lnTo>
                <a:lnTo>
                  <a:pt x="23272" y="83047"/>
                </a:lnTo>
                <a:lnTo>
                  <a:pt x="28056" y="85804"/>
                </a:lnTo>
                <a:lnTo>
                  <a:pt x="32940" y="87643"/>
                </a:lnTo>
                <a:lnTo>
                  <a:pt x="37888" y="88868"/>
                </a:lnTo>
                <a:lnTo>
                  <a:pt x="42881" y="89685"/>
                </a:lnTo>
                <a:lnTo>
                  <a:pt x="47057" y="90230"/>
                </a:lnTo>
                <a:lnTo>
                  <a:pt x="50686" y="90593"/>
                </a:lnTo>
                <a:lnTo>
                  <a:pt x="53953" y="90835"/>
                </a:lnTo>
                <a:lnTo>
                  <a:pt x="57824" y="90996"/>
                </a:lnTo>
                <a:lnTo>
                  <a:pt x="66640" y="91176"/>
                </a:lnTo>
                <a:lnTo>
                  <a:pt x="70516" y="90377"/>
                </a:lnTo>
                <a:lnTo>
                  <a:pt x="73946" y="88998"/>
                </a:lnTo>
                <a:lnTo>
                  <a:pt x="77081" y="87232"/>
                </a:lnTo>
                <a:lnTo>
                  <a:pt x="80862" y="84361"/>
                </a:lnTo>
                <a:lnTo>
                  <a:pt x="85076" y="80754"/>
                </a:lnTo>
                <a:lnTo>
                  <a:pt x="89581" y="76655"/>
                </a:lnTo>
                <a:lnTo>
                  <a:pt x="92582" y="72230"/>
                </a:lnTo>
                <a:lnTo>
                  <a:pt x="94584" y="67586"/>
                </a:lnTo>
                <a:lnTo>
                  <a:pt x="95917" y="62797"/>
                </a:lnTo>
                <a:lnTo>
                  <a:pt x="96808" y="57911"/>
                </a:lnTo>
                <a:lnTo>
                  <a:pt x="97400" y="52961"/>
                </a:lnTo>
                <a:lnTo>
                  <a:pt x="97796" y="47967"/>
                </a:lnTo>
                <a:lnTo>
                  <a:pt x="98059" y="43791"/>
                </a:lnTo>
                <a:lnTo>
                  <a:pt x="98352" y="36893"/>
                </a:lnTo>
                <a:lnTo>
                  <a:pt x="98516" y="28250"/>
                </a:lnTo>
                <a:lnTo>
                  <a:pt x="98586" y="151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MARTInkAnnotation133"/>
          <p:cNvSpPr/>
          <p:nvPr/>
        </p:nvSpPr>
        <p:spPr>
          <a:xfrm>
            <a:off x="7559640" y="1866960"/>
            <a:ext cx="44640" cy="152280"/>
          </a:xfrm>
          <a:custGeom>
            <a:avLst/>
            <a:gdLst>
              <a:gd name="textAreaLeft" fmla="*/ 0 w 44640"/>
              <a:gd name="textAreaRight" fmla="*/ 44640 w 446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45720" h="151821">
                <a:moveTo>
                  <a:pt x="0" y="0"/>
                </a:moveTo>
                <a:lnTo>
                  <a:pt x="13121" y="0"/>
                </a:lnTo>
                <a:lnTo>
                  <a:pt x="13828" y="847"/>
                </a:lnTo>
                <a:lnTo>
                  <a:pt x="14298" y="2258"/>
                </a:lnTo>
                <a:lnTo>
                  <a:pt x="14821" y="6084"/>
                </a:lnTo>
                <a:lnTo>
                  <a:pt x="15053" y="10606"/>
                </a:lnTo>
                <a:lnTo>
                  <a:pt x="15962" y="12997"/>
                </a:lnTo>
                <a:lnTo>
                  <a:pt x="17416" y="15438"/>
                </a:lnTo>
                <a:lnTo>
                  <a:pt x="19230" y="17912"/>
                </a:lnTo>
                <a:lnTo>
                  <a:pt x="20440" y="20408"/>
                </a:lnTo>
                <a:lnTo>
                  <a:pt x="21246" y="22919"/>
                </a:lnTo>
                <a:lnTo>
                  <a:pt x="21784" y="25439"/>
                </a:lnTo>
                <a:lnTo>
                  <a:pt x="22988" y="28813"/>
                </a:lnTo>
                <a:lnTo>
                  <a:pt x="24639" y="32755"/>
                </a:lnTo>
                <a:lnTo>
                  <a:pt x="26586" y="37077"/>
                </a:lnTo>
                <a:lnTo>
                  <a:pt x="27037" y="41651"/>
                </a:lnTo>
                <a:lnTo>
                  <a:pt x="26491" y="46394"/>
                </a:lnTo>
                <a:lnTo>
                  <a:pt x="25280" y="51250"/>
                </a:lnTo>
                <a:lnTo>
                  <a:pt x="24474" y="56180"/>
                </a:lnTo>
                <a:lnTo>
                  <a:pt x="23935" y="61160"/>
                </a:lnTo>
                <a:lnTo>
                  <a:pt x="23577" y="66173"/>
                </a:lnTo>
                <a:lnTo>
                  <a:pt x="23337" y="72055"/>
                </a:lnTo>
                <a:lnTo>
                  <a:pt x="23001" y="91623"/>
                </a:lnTo>
                <a:lnTo>
                  <a:pt x="22861" y="145788"/>
                </a:lnTo>
                <a:lnTo>
                  <a:pt x="23707" y="147992"/>
                </a:lnTo>
                <a:lnTo>
                  <a:pt x="25118" y="149462"/>
                </a:lnTo>
                <a:lnTo>
                  <a:pt x="29420" y="151820"/>
                </a:lnTo>
                <a:lnTo>
                  <a:pt x="30620" y="151166"/>
                </a:lnTo>
                <a:lnTo>
                  <a:pt x="32266" y="149884"/>
                </a:lnTo>
                <a:lnTo>
                  <a:pt x="34210" y="148183"/>
                </a:lnTo>
                <a:lnTo>
                  <a:pt x="35507" y="146202"/>
                </a:lnTo>
                <a:lnTo>
                  <a:pt x="36370" y="144035"/>
                </a:lnTo>
                <a:lnTo>
                  <a:pt x="36946" y="141743"/>
                </a:lnTo>
                <a:lnTo>
                  <a:pt x="37331" y="138522"/>
                </a:lnTo>
                <a:lnTo>
                  <a:pt x="37587" y="134681"/>
                </a:lnTo>
                <a:lnTo>
                  <a:pt x="37758" y="130428"/>
                </a:lnTo>
                <a:lnTo>
                  <a:pt x="37998" y="112305"/>
                </a:lnTo>
                <a:lnTo>
                  <a:pt x="38879" y="105350"/>
                </a:lnTo>
                <a:lnTo>
                  <a:pt x="40312" y="98174"/>
                </a:lnTo>
                <a:lnTo>
                  <a:pt x="42113" y="90849"/>
                </a:lnTo>
                <a:lnTo>
                  <a:pt x="43315" y="84273"/>
                </a:lnTo>
                <a:lnTo>
                  <a:pt x="44116" y="78195"/>
                </a:lnTo>
                <a:lnTo>
                  <a:pt x="45719" y="609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MARTInkAnnotation134"/>
          <p:cNvSpPr/>
          <p:nvPr/>
        </p:nvSpPr>
        <p:spPr>
          <a:xfrm>
            <a:off x="7589880" y="1820880"/>
            <a:ext cx="120600" cy="92160"/>
          </a:xfrm>
          <a:custGeom>
            <a:avLst/>
            <a:gdLst>
              <a:gd name="textAreaLeft" fmla="*/ 0 w 120600"/>
              <a:gd name="textAreaRight" fmla="*/ 120960 w 12060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1592" h="91089">
                <a:moveTo>
                  <a:pt x="0" y="37883"/>
                </a:moveTo>
                <a:lnTo>
                  <a:pt x="0" y="33838"/>
                </a:lnTo>
                <a:lnTo>
                  <a:pt x="846" y="31800"/>
                </a:lnTo>
                <a:lnTo>
                  <a:pt x="2258" y="29594"/>
                </a:lnTo>
                <a:lnTo>
                  <a:pt x="6561" y="24016"/>
                </a:lnTo>
                <a:lnTo>
                  <a:pt x="6913" y="22712"/>
                </a:lnTo>
                <a:lnTo>
                  <a:pt x="7150" y="20996"/>
                </a:lnTo>
                <a:lnTo>
                  <a:pt x="7306" y="19005"/>
                </a:lnTo>
                <a:lnTo>
                  <a:pt x="8257" y="15984"/>
                </a:lnTo>
                <a:lnTo>
                  <a:pt x="9738" y="12277"/>
                </a:lnTo>
                <a:lnTo>
                  <a:pt x="11573" y="8112"/>
                </a:lnTo>
                <a:lnTo>
                  <a:pt x="13641" y="5336"/>
                </a:lnTo>
                <a:lnTo>
                  <a:pt x="15868" y="3485"/>
                </a:lnTo>
                <a:lnTo>
                  <a:pt x="18198" y="2251"/>
                </a:lnTo>
                <a:lnTo>
                  <a:pt x="20598" y="1428"/>
                </a:lnTo>
                <a:lnTo>
                  <a:pt x="23046" y="880"/>
                </a:lnTo>
                <a:lnTo>
                  <a:pt x="25524" y="514"/>
                </a:lnTo>
                <a:lnTo>
                  <a:pt x="28869" y="270"/>
                </a:lnTo>
                <a:lnTo>
                  <a:pt x="32792" y="108"/>
                </a:lnTo>
                <a:lnTo>
                  <a:pt x="37102" y="0"/>
                </a:lnTo>
                <a:lnTo>
                  <a:pt x="41668" y="774"/>
                </a:lnTo>
                <a:lnTo>
                  <a:pt x="46405" y="2137"/>
                </a:lnTo>
                <a:lnTo>
                  <a:pt x="51258" y="3892"/>
                </a:lnTo>
                <a:lnTo>
                  <a:pt x="56185" y="5909"/>
                </a:lnTo>
                <a:lnTo>
                  <a:pt x="61164" y="8100"/>
                </a:lnTo>
                <a:lnTo>
                  <a:pt x="66175" y="10408"/>
                </a:lnTo>
                <a:lnTo>
                  <a:pt x="71211" y="13640"/>
                </a:lnTo>
                <a:lnTo>
                  <a:pt x="76261" y="17487"/>
                </a:lnTo>
                <a:lnTo>
                  <a:pt x="81321" y="21746"/>
                </a:lnTo>
                <a:lnTo>
                  <a:pt x="85541" y="25432"/>
                </a:lnTo>
                <a:lnTo>
                  <a:pt x="92487" y="31785"/>
                </a:lnTo>
                <a:lnTo>
                  <a:pt x="97219" y="35511"/>
                </a:lnTo>
                <a:lnTo>
                  <a:pt x="102912" y="39688"/>
                </a:lnTo>
                <a:lnTo>
                  <a:pt x="109249" y="44167"/>
                </a:lnTo>
                <a:lnTo>
                  <a:pt x="113473" y="48845"/>
                </a:lnTo>
                <a:lnTo>
                  <a:pt x="116289" y="53658"/>
                </a:lnTo>
                <a:lnTo>
                  <a:pt x="118166" y="58560"/>
                </a:lnTo>
                <a:lnTo>
                  <a:pt x="119418" y="62674"/>
                </a:lnTo>
                <a:lnTo>
                  <a:pt x="120252" y="66264"/>
                </a:lnTo>
                <a:lnTo>
                  <a:pt x="120809" y="69504"/>
                </a:lnTo>
                <a:lnTo>
                  <a:pt x="121180" y="72510"/>
                </a:lnTo>
                <a:lnTo>
                  <a:pt x="121426" y="75361"/>
                </a:lnTo>
                <a:lnTo>
                  <a:pt x="121591" y="78109"/>
                </a:lnTo>
                <a:lnTo>
                  <a:pt x="120008" y="80787"/>
                </a:lnTo>
                <a:lnTo>
                  <a:pt x="117259" y="83419"/>
                </a:lnTo>
                <a:lnTo>
                  <a:pt x="113732" y="86020"/>
                </a:lnTo>
                <a:lnTo>
                  <a:pt x="109688" y="87754"/>
                </a:lnTo>
                <a:lnTo>
                  <a:pt x="105299" y="88911"/>
                </a:lnTo>
                <a:lnTo>
                  <a:pt x="100680" y="89682"/>
                </a:lnTo>
                <a:lnTo>
                  <a:pt x="96753" y="90195"/>
                </a:lnTo>
                <a:lnTo>
                  <a:pt x="93289" y="90538"/>
                </a:lnTo>
                <a:lnTo>
                  <a:pt x="90133" y="90766"/>
                </a:lnTo>
                <a:lnTo>
                  <a:pt x="87183" y="90919"/>
                </a:lnTo>
                <a:lnTo>
                  <a:pt x="81646" y="91088"/>
                </a:lnTo>
                <a:lnTo>
                  <a:pt x="78137" y="90286"/>
                </a:lnTo>
                <a:lnTo>
                  <a:pt x="74105" y="88905"/>
                </a:lnTo>
                <a:lnTo>
                  <a:pt x="69723" y="87138"/>
                </a:lnTo>
                <a:lnTo>
                  <a:pt x="65109" y="85960"/>
                </a:lnTo>
                <a:lnTo>
                  <a:pt x="60339" y="85174"/>
                </a:lnTo>
                <a:lnTo>
                  <a:pt x="48608" y="83913"/>
                </a:lnTo>
                <a:lnTo>
                  <a:pt x="46799" y="83810"/>
                </a:lnTo>
                <a:lnTo>
                  <a:pt x="38100" y="8360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MARTInkAnnotation135"/>
          <p:cNvSpPr/>
          <p:nvPr/>
        </p:nvSpPr>
        <p:spPr>
          <a:xfrm>
            <a:off x="8229600" y="1646280"/>
            <a:ext cx="54000" cy="243000"/>
          </a:xfrm>
          <a:custGeom>
            <a:avLst/>
            <a:gdLst>
              <a:gd name="textAreaLeft" fmla="*/ 0 w 54000"/>
              <a:gd name="textAreaRight" fmla="*/ 54360 w 5400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53340" h="243841">
                <a:moveTo>
                  <a:pt x="53339" y="0"/>
                </a:moveTo>
                <a:lnTo>
                  <a:pt x="53339" y="4045"/>
                </a:lnTo>
                <a:lnTo>
                  <a:pt x="52493" y="5237"/>
                </a:lnTo>
                <a:lnTo>
                  <a:pt x="51081" y="6031"/>
                </a:lnTo>
                <a:lnTo>
                  <a:pt x="49295" y="6561"/>
                </a:lnTo>
                <a:lnTo>
                  <a:pt x="48102" y="8607"/>
                </a:lnTo>
                <a:lnTo>
                  <a:pt x="46779" y="15397"/>
                </a:lnTo>
                <a:lnTo>
                  <a:pt x="46425" y="19578"/>
                </a:lnTo>
                <a:lnTo>
                  <a:pt x="46190" y="24058"/>
                </a:lnTo>
                <a:lnTo>
                  <a:pt x="46033" y="28739"/>
                </a:lnTo>
                <a:lnTo>
                  <a:pt x="45083" y="33553"/>
                </a:lnTo>
                <a:lnTo>
                  <a:pt x="43602" y="38455"/>
                </a:lnTo>
                <a:lnTo>
                  <a:pt x="41767" y="43417"/>
                </a:lnTo>
                <a:lnTo>
                  <a:pt x="40545" y="49265"/>
                </a:lnTo>
                <a:lnTo>
                  <a:pt x="39730" y="55703"/>
                </a:lnTo>
                <a:lnTo>
                  <a:pt x="39187" y="62535"/>
                </a:lnTo>
                <a:lnTo>
                  <a:pt x="37978" y="68784"/>
                </a:lnTo>
                <a:lnTo>
                  <a:pt x="36325" y="74642"/>
                </a:lnTo>
                <a:lnTo>
                  <a:pt x="34377" y="80242"/>
                </a:lnTo>
                <a:lnTo>
                  <a:pt x="33077" y="86515"/>
                </a:lnTo>
                <a:lnTo>
                  <a:pt x="32212" y="93236"/>
                </a:lnTo>
                <a:lnTo>
                  <a:pt x="31634" y="100258"/>
                </a:lnTo>
                <a:lnTo>
                  <a:pt x="30403" y="107478"/>
                </a:lnTo>
                <a:lnTo>
                  <a:pt x="28735" y="114832"/>
                </a:lnTo>
                <a:lnTo>
                  <a:pt x="26777" y="122275"/>
                </a:lnTo>
                <a:lnTo>
                  <a:pt x="24624" y="129777"/>
                </a:lnTo>
                <a:lnTo>
                  <a:pt x="19976" y="144885"/>
                </a:lnTo>
                <a:lnTo>
                  <a:pt x="17550" y="151624"/>
                </a:lnTo>
                <a:lnTo>
                  <a:pt x="15087" y="157809"/>
                </a:lnTo>
                <a:lnTo>
                  <a:pt x="12598" y="163626"/>
                </a:lnTo>
                <a:lnTo>
                  <a:pt x="10939" y="170044"/>
                </a:lnTo>
                <a:lnTo>
                  <a:pt x="9832" y="176863"/>
                </a:lnTo>
                <a:lnTo>
                  <a:pt x="9095" y="183948"/>
                </a:lnTo>
                <a:lnTo>
                  <a:pt x="8603" y="190366"/>
                </a:lnTo>
                <a:lnTo>
                  <a:pt x="8275" y="196337"/>
                </a:lnTo>
                <a:lnTo>
                  <a:pt x="8057" y="202011"/>
                </a:lnTo>
                <a:lnTo>
                  <a:pt x="7065" y="206641"/>
                </a:lnTo>
                <a:lnTo>
                  <a:pt x="5555" y="210574"/>
                </a:lnTo>
                <a:lnTo>
                  <a:pt x="3704" y="214043"/>
                </a:lnTo>
                <a:lnTo>
                  <a:pt x="2470" y="218049"/>
                </a:lnTo>
                <a:lnTo>
                  <a:pt x="1646" y="222412"/>
                </a:lnTo>
                <a:lnTo>
                  <a:pt x="1098" y="227015"/>
                </a:lnTo>
                <a:lnTo>
                  <a:pt x="488" y="234387"/>
                </a:lnTo>
                <a:lnTo>
                  <a:pt x="0" y="2438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MARTInkAnnotation136"/>
          <p:cNvSpPr/>
          <p:nvPr/>
        </p:nvSpPr>
        <p:spPr>
          <a:xfrm>
            <a:off x="8169120" y="1782720"/>
            <a:ext cx="266760" cy="30240"/>
          </a:xfrm>
          <a:custGeom>
            <a:avLst/>
            <a:gdLst>
              <a:gd name="textAreaLeft" fmla="*/ 0 w 266760"/>
              <a:gd name="textAreaRight" fmla="*/ 267120 w 2667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66701" h="30481">
                <a:moveTo>
                  <a:pt x="0" y="30480"/>
                </a:moveTo>
                <a:lnTo>
                  <a:pt x="4045" y="26435"/>
                </a:lnTo>
                <a:lnTo>
                  <a:pt x="6083" y="25243"/>
                </a:lnTo>
                <a:lnTo>
                  <a:pt x="8288" y="24449"/>
                </a:lnTo>
                <a:lnTo>
                  <a:pt x="14690" y="23566"/>
                </a:lnTo>
                <a:lnTo>
                  <a:pt x="19954" y="23331"/>
                </a:lnTo>
                <a:lnTo>
                  <a:pt x="26002" y="23174"/>
                </a:lnTo>
                <a:lnTo>
                  <a:pt x="32575" y="22222"/>
                </a:lnTo>
                <a:lnTo>
                  <a:pt x="39495" y="20742"/>
                </a:lnTo>
                <a:lnTo>
                  <a:pt x="46651" y="18908"/>
                </a:lnTo>
                <a:lnTo>
                  <a:pt x="54806" y="17685"/>
                </a:lnTo>
                <a:lnTo>
                  <a:pt x="63631" y="16870"/>
                </a:lnTo>
                <a:lnTo>
                  <a:pt x="72900" y="16327"/>
                </a:lnTo>
                <a:lnTo>
                  <a:pt x="89974" y="15723"/>
                </a:lnTo>
                <a:lnTo>
                  <a:pt x="98082" y="15562"/>
                </a:lnTo>
                <a:lnTo>
                  <a:pt x="106875" y="14608"/>
                </a:lnTo>
                <a:lnTo>
                  <a:pt x="116123" y="13125"/>
                </a:lnTo>
                <a:lnTo>
                  <a:pt x="125675" y="11290"/>
                </a:lnTo>
                <a:lnTo>
                  <a:pt x="135429" y="10067"/>
                </a:lnTo>
                <a:lnTo>
                  <a:pt x="145319" y="9251"/>
                </a:lnTo>
                <a:lnTo>
                  <a:pt x="155300" y="8708"/>
                </a:lnTo>
                <a:lnTo>
                  <a:pt x="173161" y="8103"/>
                </a:lnTo>
                <a:lnTo>
                  <a:pt x="181482" y="7942"/>
                </a:lnTo>
                <a:lnTo>
                  <a:pt x="188721" y="6988"/>
                </a:lnTo>
                <a:lnTo>
                  <a:pt x="195241" y="5505"/>
                </a:lnTo>
                <a:lnTo>
                  <a:pt x="201281" y="3670"/>
                </a:lnTo>
                <a:lnTo>
                  <a:pt x="207847" y="2447"/>
                </a:lnTo>
                <a:lnTo>
                  <a:pt x="214764" y="1631"/>
                </a:lnTo>
                <a:lnTo>
                  <a:pt x="227530" y="725"/>
                </a:lnTo>
                <a:lnTo>
                  <a:pt x="236027" y="322"/>
                </a:lnTo>
                <a:lnTo>
                  <a:pt x="244883" y="143"/>
                </a:lnTo>
                <a:lnTo>
                  <a:pt x="2667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MARTInkAnnotation137"/>
          <p:cNvSpPr/>
          <p:nvPr/>
        </p:nvSpPr>
        <p:spPr>
          <a:xfrm>
            <a:off x="6118200" y="2232000"/>
            <a:ext cx="617400" cy="946080"/>
          </a:xfrm>
          <a:custGeom>
            <a:avLst/>
            <a:gdLst>
              <a:gd name="textAreaLeft" fmla="*/ 0 w 617400"/>
              <a:gd name="textAreaRight" fmla="*/ 617760 w 61740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616902" h="944880">
                <a:moveTo>
                  <a:pt x="0" y="30479"/>
                </a:moveTo>
                <a:lnTo>
                  <a:pt x="0" y="19128"/>
                </a:lnTo>
                <a:lnTo>
                  <a:pt x="846" y="17831"/>
                </a:lnTo>
                <a:lnTo>
                  <a:pt x="2258" y="16967"/>
                </a:lnTo>
                <a:lnTo>
                  <a:pt x="4046" y="16391"/>
                </a:lnTo>
                <a:lnTo>
                  <a:pt x="8288" y="13493"/>
                </a:lnTo>
                <a:lnTo>
                  <a:pt x="10606" y="11535"/>
                </a:lnTo>
                <a:lnTo>
                  <a:pt x="12997" y="10230"/>
                </a:lnTo>
                <a:lnTo>
                  <a:pt x="21394" y="7963"/>
                </a:lnTo>
                <a:lnTo>
                  <a:pt x="28654" y="2450"/>
                </a:lnTo>
                <a:lnTo>
                  <a:pt x="33337" y="1088"/>
                </a:lnTo>
                <a:lnTo>
                  <a:pt x="51793" y="143"/>
                </a:lnTo>
                <a:lnTo>
                  <a:pt x="77157" y="18"/>
                </a:lnTo>
                <a:lnTo>
                  <a:pt x="123364" y="0"/>
                </a:lnTo>
                <a:lnTo>
                  <a:pt x="135543" y="2257"/>
                </a:lnTo>
                <a:lnTo>
                  <a:pt x="147448" y="5236"/>
                </a:lnTo>
                <a:lnTo>
                  <a:pt x="161206" y="6560"/>
                </a:lnTo>
                <a:lnTo>
                  <a:pt x="175786" y="9406"/>
                </a:lnTo>
                <a:lnTo>
                  <a:pt x="190734" y="12647"/>
                </a:lnTo>
                <a:lnTo>
                  <a:pt x="205845" y="14087"/>
                </a:lnTo>
                <a:lnTo>
                  <a:pt x="224586" y="18943"/>
                </a:lnTo>
                <a:lnTo>
                  <a:pt x="289653" y="40669"/>
                </a:lnTo>
                <a:lnTo>
                  <a:pt x="304841" y="47990"/>
                </a:lnTo>
                <a:lnTo>
                  <a:pt x="319212" y="56042"/>
                </a:lnTo>
                <a:lnTo>
                  <a:pt x="337669" y="65335"/>
                </a:lnTo>
                <a:lnTo>
                  <a:pt x="351582" y="70806"/>
                </a:lnTo>
                <a:lnTo>
                  <a:pt x="363975" y="78318"/>
                </a:lnTo>
                <a:lnTo>
                  <a:pt x="375973" y="86454"/>
                </a:lnTo>
                <a:lnTo>
                  <a:pt x="389773" y="92892"/>
                </a:lnTo>
                <a:lnTo>
                  <a:pt x="407777" y="105322"/>
                </a:lnTo>
                <a:lnTo>
                  <a:pt x="423836" y="119730"/>
                </a:lnTo>
                <a:lnTo>
                  <a:pt x="439318" y="134723"/>
                </a:lnTo>
                <a:lnTo>
                  <a:pt x="451792" y="144825"/>
                </a:lnTo>
                <a:lnTo>
                  <a:pt x="470838" y="160033"/>
                </a:lnTo>
                <a:lnTo>
                  <a:pt x="481888" y="171032"/>
                </a:lnTo>
                <a:lnTo>
                  <a:pt x="497629" y="190658"/>
                </a:lnTo>
                <a:lnTo>
                  <a:pt x="513018" y="207573"/>
                </a:lnTo>
                <a:lnTo>
                  <a:pt x="528302" y="224156"/>
                </a:lnTo>
                <a:lnTo>
                  <a:pt x="546379" y="249829"/>
                </a:lnTo>
                <a:lnTo>
                  <a:pt x="562398" y="275502"/>
                </a:lnTo>
                <a:lnTo>
                  <a:pt x="575786" y="299796"/>
                </a:lnTo>
                <a:lnTo>
                  <a:pt x="586583" y="325918"/>
                </a:lnTo>
                <a:lnTo>
                  <a:pt x="589176" y="331579"/>
                </a:lnTo>
                <a:lnTo>
                  <a:pt x="592055" y="344641"/>
                </a:lnTo>
                <a:lnTo>
                  <a:pt x="592824" y="351680"/>
                </a:lnTo>
                <a:lnTo>
                  <a:pt x="595029" y="358066"/>
                </a:lnTo>
                <a:lnTo>
                  <a:pt x="604530" y="375991"/>
                </a:lnTo>
                <a:lnTo>
                  <a:pt x="608098" y="396166"/>
                </a:lnTo>
                <a:lnTo>
                  <a:pt x="609403" y="423835"/>
                </a:lnTo>
                <a:lnTo>
                  <a:pt x="615606" y="455565"/>
                </a:lnTo>
                <a:lnTo>
                  <a:pt x="616901" y="477196"/>
                </a:lnTo>
                <a:lnTo>
                  <a:pt x="611147" y="508908"/>
                </a:lnTo>
                <a:lnTo>
                  <a:pt x="608956" y="535724"/>
                </a:lnTo>
                <a:lnTo>
                  <a:pt x="601351" y="556217"/>
                </a:lnTo>
                <a:lnTo>
                  <a:pt x="597467" y="566400"/>
                </a:lnTo>
                <a:lnTo>
                  <a:pt x="590725" y="595862"/>
                </a:lnTo>
                <a:lnTo>
                  <a:pt x="581233" y="624368"/>
                </a:lnTo>
                <a:lnTo>
                  <a:pt x="579213" y="634789"/>
                </a:lnTo>
                <a:lnTo>
                  <a:pt x="568638" y="660371"/>
                </a:lnTo>
                <a:lnTo>
                  <a:pt x="557890" y="680713"/>
                </a:lnTo>
                <a:lnTo>
                  <a:pt x="539531" y="706118"/>
                </a:lnTo>
                <a:lnTo>
                  <a:pt x="525918" y="731519"/>
                </a:lnTo>
                <a:lnTo>
                  <a:pt x="519915" y="741679"/>
                </a:lnTo>
                <a:lnTo>
                  <a:pt x="502264" y="761999"/>
                </a:lnTo>
                <a:lnTo>
                  <a:pt x="493315" y="772159"/>
                </a:lnTo>
                <a:lnTo>
                  <a:pt x="478414" y="792479"/>
                </a:lnTo>
                <a:lnTo>
                  <a:pt x="469169" y="801792"/>
                </a:lnTo>
                <a:lnTo>
                  <a:pt x="454443" y="812642"/>
                </a:lnTo>
                <a:lnTo>
                  <a:pt x="439356" y="825358"/>
                </a:lnTo>
                <a:lnTo>
                  <a:pt x="423314" y="834865"/>
                </a:lnTo>
                <a:lnTo>
                  <a:pt x="409966" y="840386"/>
                </a:lnTo>
                <a:lnTo>
                  <a:pt x="397825" y="847920"/>
                </a:lnTo>
                <a:lnTo>
                  <a:pt x="381470" y="859424"/>
                </a:lnTo>
                <a:lnTo>
                  <a:pt x="365899" y="868194"/>
                </a:lnTo>
                <a:lnTo>
                  <a:pt x="352818" y="876155"/>
                </a:lnTo>
                <a:lnTo>
                  <a:pt x="341323" y="883876"/>
                </a:lnTo>
                <a:lnTo>
                  <a:pt x="329451" y="891526"/>
                </a:lnTo>
                <a:lnTo>
                  <a:pt x="318313" y="899155"/>
                </a:lnTo>
                <a:lnTo>
                  <a:pt x="299379" y="909318"/>
                </a:lnTo>
                <a:lnTo>
                  <a:pt x="285417" y="918632"/>
                </a:lnTo>
                <a:lnTo>
                  <a:pt x="277138" y="921862"/>
                </a:lnTo>
                <a:lnTo>
                  <a:pt x="268242" y="928447"/>
                </a:lnTo>
                <a:lnTo>
                  <a:pt x="260274" y="936095"/>
                </a:lnTo>
                <a:lnTo>
                  <a:pt x="259877" y="937330"/>
                </a:lnTo>
                <a:lnTo>
                  <a:pt x="259080" y="94487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MARTInkAnnotation138"/>
          <p:cNvSpPr/>
          <p:nvPr/>
        </p:nvSpPr>
        <p:spPr>
          <a:xfrm>
            <a:off x="4541760" y="1927080"/>
            <a:ext cx="792360" cy="312840"/>
          </a:xfrm>
          <a:custGeom>
            <a:avLst/>
            <a:gdLst>
              <a:gd name="textAreaLeft" fmla="*/ 0 w 792360"/>
              <a:gd name="textAreaRight" fmla="*/ 792720 w 79236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792481" h="312420">
                <a:moveTo>
                  <a:pt x="0" y="312419"/>
                </a:moveTo>
                <a:lnTo>
                  <a:pt x="13867" y="298552"/>
                </a:lnTo>
                <a:lnTo>
                  <a:pt x="18879" y="289496"/>
                </a:lnTo>
                <a:lnTo>
                  <a:pt x="25726" y="280133"/>
                </a:lnTo>
                <a:lnTo>
                  <a:pt x="28367" y="274645"/>
                </a:lnTo>
                <a:lnTo>
                  <a:pt x="29072" y="271997"/>
                </a:lnTo>
                <a:lnTo>
                  <a:pt x="32112" y="266796"/>
                </a:lnTo>
                <a:lnTo>
                  <a:pt x="38583" y="259108"/>
                </a:lnTo>
                <a:lnTo>
                  <a:pt x="40963" y="256558"/>
                </a:lnTo>
                <a:lnTo>
                  <a:pt x="42549" y="254012"/>
                </a:lnTo>
                <a:lnTo>
                  <a:pt x="44311" y="248925"/>
                </a:lnTo>
                <a:lnTo>
                  <a:pt x="49609" y="241584"/>
                </a:lnTo>
                <a:lnTo>
                  <a:pt x="56762" y="233523"/>
                </a:lnTo>
                <a:lnTo>
                  <a:pt x="62763" y="227119"/>
                </a:lnTo>
                <a:lnTo>
                  <a:pt x="64703" y="224226"/>
                </a:lnTo>
                <a:lnTo>
                  <a:pt x="69124" y="215262"/>
                </a:lnTo>
                <a:lnTo>
                  <a:pt x="76160" y="206867"/>
                </a:lnTo>
                <a:lnTo>
                  <a:pt x="82674" y="199749"/>
                </a:lnTo>
                <a:lnTo>
                  <a:pt x="91100" y="190982"/>
                </a:lnTo>
                <a:lnTo>
                  <a:pt x="96369" y="184787"/>
                </a:lnTo>
                <a:lnTo>
                  <a:pt x="101533" y="176389"/>
                </a:lnTo>
                <a:lnTo>
                  <a:pt x="106650" y="167013"/>
                </a:lnTo>
                <a:lnTo>
                  <a:pt x="109200" y="162142"/>
                </a:lnTo>
                <a:lnTo>
                  <a:pt x="116549" y="154471"/>
                </a:lnTo>
                <a:lnTo>
                  <a:pt x="130207" y="145393"/>
                </a:lnTo>
                <a:lnTo>
                  <a:pt x="135064" y="142648"/>
                </a:lnTo>
                <a:lnTo>
                  <a:pt x="142720" y="135083"/>
                </a:lnTo>
                <a:lnTo>
                  <a:pt x="145947" y="130695"/>
                </a:lnTo>
                <a:lnTo>
                  <a:pt x="154047" y="123562"/>
                </a:lnTo>
                <a:lnTo>
                  <a:pt x="163293" y="116722"/>
                </a:lnTo>
                <a:lnTo>
                  <a:pt x="173046" y="108038"/>
                </a:lnTo>
                <a:lnTo>
                  <a:pt x="183025" y="100792"/>
                </a:lnTo>
                <a:lnTo>
                  <a:pt x="198163" y="91953"/>
                </a:lnTo>
                <a:lnTo>
                  <a:pt x="213373" y="83971"/>
                </a:lnTo>
                <a:lnTo>
                  <a:pt x="223526" y="77960"/>
                </a:lnTo>
                <a:lnTo>
                  <a:pt x="233683" y="69644"/>
                </a:lnTo>
                <a:lnTo>
                  <a:pt x="243842" y="62561"/>
                </a:lnTo>
                <a:lnTo>
                  <a:pt x="261338" y="53814"/>
                </a:lnTo>
                <a:lnTo>
                  <a:pt x="280351" y="45860"/>
                </a:lnTo>
                <a:lnTo>
                  <a:pt x="296710" y="38141"/>
                </a:lnTo>
                <a:lnTo>
                  <a:pt x="317407" y="27947"/>
                </a:lnTo>
                <a:lnTo>
                  <a:pt x="336758" y="20322"/>
                </a:lnTo>
                <a:lnTo>
                  <a:pt x="359968" y="15397"/>
                </a:lnTo>
                <a:lnTo>
                  <a:pt x="376556" y="10300"/>
                </a:lnTo>
                <a:lnTo>
                  <a:pt x="397181" y="7567"/>
                </a:lnTo>
                <a:lnTo>
                  <a:pt x="419379" y="2618"/>
                </a:lnTo>
                <a:lnTo>
                  <a:pt x="441196" y="775"/>
                </a:lnTo>
                <a:lnTo>
                  <a:pt x="459608" y="229"/>
                </a:lnTo>
                <a:lnTo>
                  <a:pt x="545755" y="0"/>
                </a:lnTo>
                <a:lnTo>
                  <a:pt x="565283" y="4044"/>
                </a:lnTo>
                <a:lnTo>
                  <a:pt x="587845" y="9406"/>
                </a:lnTo>
                <a:lnTo>
                  <a:pt x="592557" y="11350"/>
                </a:lnTo>
                <a:lnTo>
                  <a:pt x="616676" y="15318"/>
                </a:lnTo>
                <a:lnTo>
                  <a:pt x="633607" y="23376"/>
                </a:lnTo>
                <a:lnTo>
                  <a:pt x="657052" y="33121"/>
                </a:lnTo>
                <a:lnTo>
                  <a:pt x="666814" y="38145"/>
                </a:lnTo>
                <a:lnTo>
                  <a:pt x="670603" y="40669"/>
                </a:lnTo>
                <a:lnTo>
                  <a:pt x="677070" y="47990"/>
                </a:lnTo>
                <a:lnTo>
                  <a:pt x="679980" y="52313"/>
                </a:lnTo>
                <a:lnTo>
                  <a:pt x="687729" y="59374"/>
                </a:lnTo>
                <a:lnTo>
                  <a:pt x="699354" y="68109"/>
                </a:lnTo>
                <a:lnTo>
                  <a:pt x="706218" y="73450"/>
                </a:lnTo>
                <a:lnTo>
                  <a:pt x="714912" y="78647"/>
                </a:lnTo>
                <a:lnTo>
                  <a:pt x="722163" y="86036"/>
                </a:lnTo>
                <a:lnTo>
                  <a:pt x="727362" y="94118"/>
                </a:lnTo>
                <a:lnTo>
                  <a:pt x="729672" y="100532"/>
                </a:lnTo>
                <a:lnTo>
                  <a:pt x="731981" y="103428"/>
                </a:lnTo>
                <a:lnTo>
                  <a:pt x="739063" y="108903"/>
                </a:lnTo>
                <a:lnTo>
                  <a:pt x="741629" y="112395"/>
                </a:lnTo>
                <a:lnTo>
                  <a:pt x="746086" y="124553"/>
                </a:lnTo>
                <a:lnTo>
                  <a:pt x="751546" y="133895"/>
                </a:lnTo>
                <a:lnTo>
                  <a:pt x="754387" y="142024"/>
                </a:lnTo>
                <a:lnTo>
                  <a:pt x="760215" y="149796"/>
                </a:lnTo>
                <a:lnTo>
                  <a:pt x="764876" y="154911"/>
                </a:lnTo>
                <a:lnTo>
                  <a:pt x="766457" y="157460"/>
                </a:lnTo>
                <a:lnTo>
                  <a:pt x="769529" y="165093"/>
                </a:lnTo>
                <a:lnTo>
                  <a:pt x="774580" y="172717"/>
                </a:lnTo>
                <a:lnTo>
                  <a:pt x="777298" y="180339"/>
                </a:lnTo>
                <a:lnTo>
                  <a:pt x="783697" y="188994"/>
                </a:lnTo>
                <a:lnTo>
                  <a:pt x="784344" y="192088"/>
                </a:lnTo>
                <a:lnTo>
                  <a:pt x="784758" y="196928"/>
                </a:lnTo>
                <a:lnTo>
                  <a:pt x="785639" y="197325"/>
                </a:lnTo>
                <a:lnTo>
                  <a:pt x="792480" y="1981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MARTInkAnnotation139"/>
          <p:cNvSpPr/>
          <p:nvPr/>
        </p:nvSpPr>
        <p:spPr>
          <a:xfrm>
            <a:off x="5418000" y="3390840"/>
            <a:ext cx="236520" cy="731880"/>
          </a:xfrm>
          <a:custGeom>
            <a:avLst/>
            <a:gdLst>
              <a:gd name="textAreaLeft" fmla="*/ 0 w 236520"/>
              <a:gd name="textAreaRight" fmla="*/ 236880 w 236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w="236221" h="731521">
                <a:moveTo>
                  <a:pt x="0" y="0"/>
                </a:moveTo>
                <a:lnTo>
                  <a:pt x="0" y="4045"/>
                </a:lnTo>
                <a:lnTo>
                  <a:pt x="847" y="5237"/>
                </a:lnTo>
                <a:lnTo>
                  <a:pt x="2258" y="6031"/>
                </a:lnTo>
                <a:lnTo>
                  <a:pt x="6561" y="7306"/>
                </a:lnTo>
                <a:lnTo>
                  <a:pt x="11352" y="7527"/>
                </a:lnTo>
                <a:lnTo>
                  <a:pt x="13495" y="8405"/>
                </a:lnTo>
                <a:lnTo>
                  <a:pt x="20759" y="13639"/>
                </a:lnTo>
                <a:lnTo>
                  <a:pt x="23620" y="15375"/>
                </a:lnTo>
                <a:lnTo>
                  <a:pt x="30535" y="18969"/>
                </a:lnTo>
                <a:lnTo>
                  <a:pt x="36996" y="21131"/>
                </a:lnTo>
                <a:lnTo>
                  <a:pt x="39904" y="21707"/>
                </a:lnTo>
                <a:lnTo>
                  <a:pt x="45393" y="24605"/>
                </a:lnTo>
                <a:lnTo>
                  <a:pt x="50655" y="28716"/>
                </a:lnTo>
                <a:lnTo>
                  <a:pt x="55816" y="33365"/>
                </a:lnTo>
                <a:lnTo>
                  <a:pt x="58378" y="34944"/>
                </a:lnTo>
                <a:lnTo>
                  <a:pt x="63481" y="36697"/>
                </a:lnTo>
                <a:lnTo>
                  <a:pt x="68572" y="39734"/>
                </a:lnTo>
                <a:lnTo>
                  <a:pt x="74503" y="43906"/>
                </a:lnTo>
                <a:lnTo>
                  <a:pt x="78455" y="46205"/>
                </a:lnTo>
                <a:lnTo>
                  <a:pt x="82783" y="48583"/>
                </a:lnTo>
                <a:lnTo>
                  <a:pt x="89851" y="53484"/>
                </a:lnTo>
                <a:lnTo>
                  <a:pt x="92921" y="55976"/>
                </a:lnTo>
                <a:lnTo>
                  <a:pt x="98590" y="63260"/>
                </a:lnTo>
                <a:lnTo>
                  <a:pt x="101287" y="67574"/>
                </a:lnTo>
                <a:lnTo>
                  <a:pt x="104777" y="71296"/>
                </a:lnTo>
                <a:lnTo>
                  <a:pt x="108799" y="74624"/>
                </a:lnTo>
                <a:lnTo>
                  <a:pt x="113172" y="77689"/>
                </a:lnTo>
                <a:lnTo>
                  <a:pt x="120290" y="85611"/>
                </a:lnTo>
                <a:lnTo>
                  <a:pt x="126276" y="93930"/>
                </a:lnTo>
                <a:lnTo>
                  <a:pt x="131758" y="100449"/>
                </a:lnTo>
                <a:lnTo>
                  <a:pt x="137017" y="106168"/>
                </a:lnTo>
                <a:lnTo>
                  <a:pt x="143024" y="112379"/>
                </a:lnTo>
                <a:lnTo>
                  <a:pt x="151337" y="120784"/>
                </a:lnTo>
                <a:lnTo>
                  <a:pt x="158419" y="130164"/>
                </a:lnTo>
                <a:lnTo>
                  <a:pt x="164389" y="139978"/>
                </a:lnTo>
                <a:lnTo>
                  <a:pt x="169864" y="149983"/>
                </a:lnTo>
                <a:lnTo>
                  <a:pt x="173357" y="155022"/>
                </a:lnTo>
                <a:lnTo>
                  <a:pt x="177378" y="160075"/>
                </a:lnTo>
                <a:lnTo>
                  <a:pt x="181751" y="165136"/>
                </a:lnTo>
                <a:lnTo>
                  <a:pt x="188870" y="173019"/>
                </a:lnTo>
                <a:lnTo>
                  <a:pt x="191953" y="176306"/>
                </a:lnTo>
                <a:lnTo>
                  <a:pt x="197637" y="186732"/>
                </a:lnTo>
                <a:lnTo>
                  <a:pt x="202139" y="198985"/>
                </a:lnTo>
                <a:lnTo>
                  <a:pt x="207286" y="220649"/>
                </a:lnTo>
                <a:lnTo>
                  <a:pt x="213818" y="236122"/>
                </a:lnTo>
                <a:lnTo>
                  <a:pt x="217797" y="246337"/>
                </a:lnTo>
                <a:lnTo>
                  <a:pt x="222609" y="268949"/>
                </a:lnTo>
                <a:lnTo>
                  <a:pt x="229083" y="287969"/>
                </a:lnTo>
                <a:lnTo>
                  <a:pt x="231462" y="293579"/>
                </a:lnTo>
                <a:lnTo>
                  <a:pt x="234105" y="306587"/>
                </a:lnTo>
                <a:lnTo>
                  <a:pt x="235593" y="325932"/>
                </a:lnTo>
                <a:lnTo>
                  <a:pt x="236035" y="344646"/>
                </a:lnTo>
                <a:lnTo>
                  <a:pt x="236220" y="438352"/>
                </a:lnTo>
                <a:lnTo>
                  <a:pt x="233962" y="449106"/>
                </a:lnTo>
                <a:lnTo>
                  <a:pt x="227931" y="464680"/>
                </a:lnTo>
                <a:lnTo>
                  <a:pt x="225615" y="469806"/>
                </a:lnTo>
                <a:lnTo>
                  <a:pt x="223040" y="482277"/>
                </a:lnTo>
                <a:lnTo>
                  <a:pt x="221049" y="495439"/>
                </a:lnTo>
                <a:lnTo>
                  <a:pt x="215130" y="517686"/>
                </a:lnTo>
                <a:lnTo>
                  <a:pt x="213710" y="538387"/>
                </a:lnTo>
                <a:lnTo>
                  <a:pt x="211258" y="548599"/>
                </a:lnTo>
                <a:lnTo>
                  <a:pt x="205117" y="563868"/>
                </a:lnTo>
                <a:lnTo>
                  <a:pt x="201230" y="574034"/>
                </a:lnTo>
                <a:lnTo>
                  <a:pt x="198195" y="588432"/>
                </a:lnTo>
                <a:lnTo>
                  <a:pt x="193157" y="599283"/>
                </a:lnTo>
                <a:lnTo>
                  <a:pt x="188768" y="617691"/>
                </a:lnTo>
                <a:lnTo>
                  <a:pt x="186805" y="622614"/>
                </a:lnTo>
                <a:lnTo>
                  <a:pt x="183804" y="626743"/>
                </a:lnTo>
                <a:lnTo>
                  <a:pt x="180110" y="630342"/>
                </a:lnTo>
                <a:lnTo>
                  <a:pt x="175953" y="633588"/>
                </a:lnTo>
                <a:lnTo>
                  <a:pt x="173182" y="637446"/>
                </a:lnTo>
                <a:lnTo>
                  <a:pt x="166478" y="653546"/>
                </a:lnTo>
                <a:lnTo>
                  <a:pt x="159676" y="662414"/>
                </a:lnTo>
                <a:lnTo>
                  <a:pt x="152298" y="670404"/>
                </a:lnTo>
                <a:lnTo>
                  <a:pt x="139687" y="683240"/>
                </a:lnTo>
                <a:lnTo>
                  <a:pt x="134615" y="688331"/>
                </a:lnTo>
                <a:lnTo>
                  <a:pt x="132077" y="690028"/>
                </a:lnTo>
                <a:lnTo>
                  <a:pt x="126999" y="691912"/>
                </a:lnTo>
                <a:lnTo>
                  <a:pt x="121919" y="695008"/>
                </a:lnTo>
                <a:lnTo>
                  <a:pt x="115805" y="699849"/>
                </a:lnTo>
                <a:lnTo>
                  <a:pt x="110701" y="704732"/>
                </a:lnTo>
                <a:lnTo>
                  <a:pt x="108514" y="706042"/>
                </a:lnTo>
                <a:lnTo>
                  <a:pt x="101179" y="708143"/>
                </a:lnTo>
                <a:lnTo>
                  <a:pt x="100473" y="708316"/>
                </a:lnTo>
                <a:lnTo>
                  <a:pt x="93215" y="714646"/>
                </a:lnTo>
                <a:lnTo>
                  <a:pt x="92623" y="715190"/>
                </a:lnTo>
                <a:lnTo>
                  <a:pt x="92229" y="716401"/>
                </a:lnTo>
                <a:lnTo>
                  <a:pt x="91544" y="722745"/>
                </a:lnTo>
                <a:lnTo>
                  <a:pt x="90662" y="723131"/>
                </a:lnTo>
                <a:lnTo>
                  <a:pt x="84889" y="723799"/>
                </a:lnTo>
                <a:lnTo>
                  <a:pt x="77930" y="729918"/>
                </a:lnTo>
                <a:lnTo>
                  <a:pt x="76200" y="7315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MARTInkAnnotation140"/>
          <p:cNvSpPr/>
          <p:nvPr/>
        </p:nvSpPr>
        <p:spPr>
          <a:xfrm>
            <a:off x="7010280" y="2583000"/>
            <a:ext cx="30240" cy="176040"/>
          </a:xfrm>
          <a:custGeom>
            <a:avLst/>
            <a:gdLst>
              <a:gd name="textAreaLeft" fmla="*/ 0 w 30240"/>
              <a:gd name="textAreaRight" fmla="*/ 30600 w 302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30481" h="175261">
                <a:moveTo>
                  <a:pt x="30480" y="0"/>
                </a:moveTo>
                <a:lnTo>
                  <a:pt x="30480" y="6561"/>
                </a:lnTo>
                <a:lnTo>
                  <a:pt x="29634" y="7761"/>
                </a:lnTo>
                <a:lnTo>
                  <a:pt x="28221" y="9407"/>
                </a:lnTo>
                <a:lnTo>
                  <a:pt x="26435" y="11352"/>
                </a:lnTo>
                <a:lnTo>
                  <a:pt x="25243" y="14341"/>
                </a:lnTo>
                <a:lnTo>
                  <a:pt x="24449" y="18028"/>
                </a:lnTo>
                <a:lnTo>
                  <a:pt x="23918" y="22178"/>
                </a:lnTo>
                <a:lnTo>
                  <a:pt x="22719" y="26639"/>
                </a:lnTo>
                <a:lnTo>
                  <a:pt x="21073" y="31306"/>
                </a:lnTo>
                <a:lnTo>
                  <a:pt x="19129" y="36111"/>
                </a:lnTo>
                <a:lnTo>
                  <a:pt x="16986" y="41007"/>
                </a:lnTo>
                <a:lnTo>
                  <a:pt x="12347" y="50963"/>
                </a:lnTo>
                <a:lnTo>
                  <a:pt x="10771" y="56835"/>
                </a:lnTo>
                <a:lnTo>
                  <a:pt x="9721" y="63290"/>
                </a:lnTo>
                <a:lnTo>
                  <a:pt x="9021" y="70134"/>
                </a:lnTo>
                <a:lnTo>
                  <a:pt x="8554" y="77236"/>
                </a:lnTo>
                <a:lnTo>
                  <a:pt x="8242" y="84510"/>
                </a:lnTo>
                <a:lnTo>
                  <a:pt x="8035" y="91900"/>
                </a:lnTo>
                <a:lnTo>
                  <a:pt x="7050" y="99367"/>
                </a:lnTo>
                <a:lnTo>
                  <a:pt x="5547" y="106885"/>
                </a:lnTo>
                <a:lnTo>
                  <a:pt x="3697" y="114437"/>
                </a:lnTo>
                <a:lnTo>
                  <a:pt x="2465" y="122011"/>
                </a:lnTo>
                <a:lnTo>
                  <a:pt x="1644" y="129600"/>
                </a:lnTo>
                <a:lnTo>
                  <a:pt x="1096" y="137200"/>
                </a:lnTo>
                <a:lnTo>
                  <a:pt x="730" y="143960"/>
                </a:lnTo>
                <a:lnTo>
                  <a:pt x="325" y="155987"/>
                </a:lnTo>
                <a:lnTo>
                  <a:pt x="0" y="1752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MARTInkAnnotation141"/>
          <p:cNvSpPr/>
          <p:nvPr/>
        </p:nvSpPr>
        <p:spPr>
          <a:xfrm>
            <a:off x="6942240" y="2408400"/>
            <a:ext cx="399960" cy="350640"/>
          </a:xfrm>
          <a:custGeom>
            <a:avLst/>
            <a:gdLst>
              <a:gd name="textAreaLeft" fmla="*/ 0 w 399960"/>
              <a:gd name="textAreaRight" fmla="*/ 400320 w 399960"/>
              <a:gd name="textAreaTop" fmla="*/ 0 h 350640"/>
              <a:gd name="textAreaBottom" fmla="*/ 351000 h 350640"/>
            </a:gdLst>
            <a:ahLst/>
            <a:rect l="textAreaLeft" t="textAreaTop" r="textAreaRight" b="textAreaBottom"/>
            <a:pathLst>
              <a:path w="400576" h="349932">
                <a:moveTo>
                  <a:pt x="45720" y="37655"/>
                </a:moveTo>
                <a:lnTo>
                  <a:pt x="45720" y="27049"/>
                </a:lnTo>
                <a:lnTo>
                  <a:pt x="46567" y="24658"/>
                </a:lnTo>
                <a:lnTo>
                  <a:pt x="49766" y="19743"/>
                </a:lnTo>
                <a:lnTo>
                  <a:pt x="56326" y="12216"/>
                </a:lnTo>
                <a:lnTo>
                  <a:pt x="67677" y="4624"/>
                </a:lnTo>
                <a:lnTo>
                  <a:pt x="79186" y="1808"/>
                </a:lnTo>
                <a:lnTo>
                  <a:pt x="85811" y="1057"/>
                </a:lnTo>
                <a:lnTo>
                  <a:pt x="93614" y="556"/>
                </a:lnTo>
                <a:lnTo>
                  <a:pt x="102204" y="222"/>
                </a:lnTo>
                <a:lnTo>
                  <a:pt x="111316" y="0"/>
                </a:lnTo>
                <a:lnTo>
                  <a:pt x="120777" y="698"/>
                </a:lnTo>
                <a:lnTo>
                  <a:pt x="130472" y="2010"/>
                </a:lnTo>
                <a:lnTo>
                  <a:pt x="140321" y="3732"/>
                </a:lnTo>
                <a:lnTo>
                  <a:pt x="151968" y="6573"/>
                </a:lnTo>
                <a:lnTo>
                  <a:pt x="164811" y="10160"/>
                </a:lnTo>
                <a:lnTo>
                  <a:pt x="178455" y="14245"/>
                </a:lnTo>
                <a:lnTo>
                  <a:pt x="192630" y="19509"/>
                </a:lnTo>
                <a:lnTo>
                  <a:pt x="207160" y="25557"/>
                </a:lnTo>
                <a:lnTo>
                  <a:pt x="221926" y="32130"/>
                </a:lnTo>
                <a:lnTo>
                  <a:pt x="236005" y="39052"/>
                </a:lnTo>
                <a:lnTo>
                  <a:pt x="249624" y="46206"/>
                </a:lnTo>
                <a:lnTo>
                  <a:pt x="262936" y="53516"/>
                </a:lnTo>
                <a:lnTo>
                  <a:pt x="276891" y="62622"/>
                </a:lnTo>
                <a:lnTo>
                  <a:pt x="291273" y="72926"/>
                </a:lnTo>
                <a:lnTo>
                  <a:pt x="305942" y="84029"/>
                </a:lnTo>
                <a:lnTo>
                  <a:pt x="319108" y="94818"/>
                </a:lnTo>
                <a:lnTo>
                  <a:pt x="331273" y="105397"/>
                </a:lnTo>
                <a:lnTo>
                  <a:pt x="342769" y="115836"/>
                </a:lnTo>
                <a:lnTo>
                  <a:pt x="352973" y="127029"/>
                </a:lnTo>
                <a:lnTo>
                  <a:pt x="362315" y="138724"/>
                </a:lnTo>
                <a:lnTo>
                  <a:pt x="371084" y="150754"/>
                </a:lnTo>
                <a:lnTo>
                  <a:pt x="378623" y="162161"/>
                </a:lnTo>
                <a:lnTo>
                  <a:pt x="385343" y="173153"/>
                </a:lnTo>
                <a:lnTo>
                  <a:pt x="391515" y="183867"/>
                </a:lnTo>
                <a:lnTo>
                  <a:pt x="395631" y="194396"/>
                </a:lnTo>
                <a:lnTo>
                  <a:pt x="398373" y="204802"/>
                </a:lnTo>
                <a:lnTo>
                  <a:pt x="400203" y="215127"/>
                </a:lnTo>
                <a:lnTo>
                  <a:pt x="400575" y="225396"/>
                </a:lnTo>
                <a:lnTo>
                  <a:pt x="399978" y="235629"/>
                </a:lnTo>
                <a:lnTo>
                  <a:pt x="398731" y="245838"/>
                </a:lnTo>
                <a:lnTo>
                  <a:pt x="395362" y="255183"/>
                </a:lnTo>
                <a:lnTo>
                  <a:pt x="390574" y="263954"/>
                </a:lnTo>
                <a:lnTo>
                  <a:pt x="384844" y="272341"/>
                </a:lnTo>
                <a:lnTo>
                  <a:pt x="378483" y="279625"/>
                </a:lnTo>
                <a:lnTo>
                  <a:pt x="371702" y="286175"/>
                </a:lnTo>
                <a:lnTo>
                  <a:pt x="364640" y="292235"/>
                </a:lnTo>
                <a:lnTo>
                  <a:pt x="355701" y="297968"/>
                </a:lnTo>
                <a:lnTo>
                  <a:pt x="345508" y="303483"/>
                </a:lnTo>
                <a:lnTo>
                  <a:pt x="334479" y="308854"/>
                </a:lnTo>
                <a:lnTo>
                  <a:pt x="322892" y="314128"/>
                </a:lnTo>
                <a:lnTo>
                  <a:pt x="298730" y="324502"/>
                </a:lnTo>
                <a:lnTo>
                  <a:pt x="285515" y="328793"/>
                </a:lnTo>
                <a:lnTo>
                  <a:pt x="271623" y="332500"/>
                </a:lnTo>
                <a:lnTo>
                  <a:pt x="257282" y="335819"/>
                </a:lnTo>
                <a:lnTo>
                  <a:pt x="227801" y="341763"/>
                </a:lnTo>
                <a:lnTo>
                  <a:pt x="212827" y="344533"/>
                </a:lnTo>
                <a:lnTo>
                  <a:pt x="198612" y="346381"/>
                </a:lnTo>
                <a:lnTo>
                  <a:pt x="184901" y="347612"/>
                </a:lnTo>
                <a:lnTo>
                  <a:pt x="171527" y="348433"/>
                </a:lnTo>
                <a:lnTo>
                  <a:pt x="143121" y="349345"/>
                </a:lnTo>
                <a:lnTo>
                  <a:pt x="87537" y="349931"/>
                </a:lnTo>
                <a:lnTo>
                  <a:pt x="75291" y="349132"/>
                </a:lnTo>
                <a:lnTo>
                  <a:pt x="63742" y="347753"/>
                </a:lnTo>
                <a:lnTo>
                  <a:pt x="52655" y="345987"/>
                </a:lnTo>
                <a:lnTo>
                  <a:pt x="42723" y="344810"/>
                </a:lnTo>
                <a:lnTo>
                  <a:pt x="33562" y="344024"/>
                </a:lnTo>
                <a:lnTo>
                  <a:pt x="18303" y="343152"/>
                </a:lnTo>
                <a:lnTo>
                  <a:pt x="0" y="34245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MARTInkAnnotation142"/>
          <p:cNvSpPr/>
          <p:nvPr/>
        </p:nvSpPr>
        <p:spPr>
          <a:xfrm>
            <a:off x="7421400" y="2682720"/>
            <a:ext cx="61920" cy="128880"/>
          </a:xfrm>
          <a:custGeom>
            <a:avLst/>
            <a:gdLst>
              <a:gd name="textAreaLeft" fmla="*/ 0 w 61920"/>
              <a:gd name="textAreaRight" fmla="*/ 62280 w 6192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60960" h="129541">
                <a:moveTo>
                  <a:pt x="60959" y="0"/>
                </a:moveTo>
                <a:lnTo>
                  <a:pt x="60959" y="10606"/>
                </a:lnTo>
                <a:lnTo>
                  <a:pt x="60113" y="13844"/>
                </a:lnTo>
                <a:lnTo>
                  <a:pt x="58701" y="17696"/>
                </a:lnTo>
                <a:lnTo>
                  <a:pt x="56914" y="21957"/>
                </a:lnTo>
                <a:lnTo>
                  <a:pt x="54876" y="26491"/>
                </a:lnTo>
                <a:lnTo>
                  <a:pt x="50353" y="36045"/>
                </a:lnTo>
                <a:lnTo>
                  <a:pt x="47962" y="41810"/>
                </a:lnTo>
                <a:lnTo>
                  <a:pt x="45521" y="48193"/>
                </a:lnTo>
                <a:lnTo>
                  <a:pt x="43047" y="54989"/>
                </a:lnTo>
                <a:lnTo>
                  <a:pt x="39705" y="62059"/>
                </a:lnTo>
                <a:lnTo>
                  <a:pt x="35782" y="69313"/>
                </a:lnTo>
                <a:lnTo>
                  <a:pt x="31474" y="76689"/>
                </a:lnTo>
                <a:lnTo>
                  <a:pt x="26910" y="83299"/>
                </a:lnTo>
                <a:lnTo>
                  <a:pt x="22173" y="89400"/>
                </a:lnTo>
                <a:lnTo>
                  <a:pt x="17322" y="95160"/>
                </a:lnTo>
                <a:lnTo>
                  <a:pt x="13241" y="100693"/>
                </a:lnTo>
                <a:lnTo>
                  <a:pt x="9674" y="106075"/>
                </a:lnTo>
                <a:lnTo>
                  <a:pt x="6450" y="111357"/>
                </a:lnTo>
                <a:lnTo>
                  <a:pt x="4299" y="115724"/>
                </a:lnTo>
                <a:lnTo>
                  <a:pt x="2866" y="119483"/>
                </a:lnTo>
                <a:lnTo>
                  <a:pt x="0" y="1295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MARTInkAnnotation143"/>
          <p:cNvSpPr/>
          <p:nvPr/>
        </p:nvSpPr>
        <p:spPr>
          <a:xfrm>
            <a:off x="7543800" y="2606760"/>
            <a:ext cx="7920" cy="6120"/>
          </a:xfrm>
          <a:custGeom>
            <a:avLst/>
            <a:gdLst>
              <a:gd name="textAreaLeft" fmla="*/ 0 w 7920"/>
              <a:gd name="textAreaRight" fmla="*/ 8280 w 79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7620" h="7621">
                <a:moveTo>
                  <a:pt x="0" y="7620"/>
                </a:moveTo>
                <a:lnTo>
                  <a:pt x="0" y="1059"/>
                </a:lnTo>
                <a:lnTo>
                  <a:pt x="846" y="706"/>
                </a:lnTo>
                <a:lnTo>
                  <a:pt x="2259" y="471"/>
                </a:lnTo>
                <a:lnTo>
                  <a:pt x="761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9240" bIns="-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MARTInkAnnotation144"/>
          <p:cNvSpPr/>
          <p:nvPr/>
        </p:nvSpPr>
        <p:spPr>
          <a:xfrm>
            <a:off x="7594560" y="2590920"/>
            <a:ext cx="198360" cy="242640"/>
          </a:xfrm>
          <a:custGeom>
            <a:avLst/>
            <a:gdLst>
              <a:gd name="textAreaLeft" fmla="*/ 0 w 198360"/>
              <a:gd name="textAreaRight" fmla="*/ 198720 w 19836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99412" h="243381">
                <a:moveTo>
                  <a:pt x="124927" y="0"/>
                </a:moveTo>
                <a:lnTo>
                  <a:pt x="132454" y="0"/>
                </a:lnTo>
                <a:lnTo>
                  <a:pt x="128474" y="4045"/>
                </a:lnTo>
                <a:lnTo>
                  <a:pt x="126445" y="5237"/>
                </a:lnTo>
                <a:lnTo>
                  <a:pt x="121932" y="6561"/>
                </a:lnTo>
                <a:lnTo>
                  <a:pt x="102496" y="11352"/>
                </a:lnTo>
                <a:lnTo>
                  <a:pt x="95580" y="13495"/>
                </a:lnTo>
                <a:lnTo>
                  <a:pt x="89276" y="15769"/>
                </a:lnTo>
                <a:lnTo>
                  <a:pt x="83379" y="18133"/>
                </a:lnTo>
                <a:lnTo>
                  <a:pt x="70054" y="23017"/>
                </a:lnTo>
                <a:lnTo>
                  <a:pt x="40805" y="33051"/>
                </a:lnTo>
                <a:lnTo>
                  <a:pt x="34131" y="35581"/>
                </a:lnTo>
                <a:lnTo>
                  <a:pt x="27990" y="38114"/>
                </a:lnTo>
                <a:lnTo>
                  <a:pt x="22201" y="40649"/>
                </a:lnTo>
                <a:lnTo>
                  <a:pt x="17497" y="42339"/>
                </a:lnTo>
                <a:lnTo>
                  <a:pt x="13513" y="43466"/>
                </a:lnTo>
                <a:lnTo>
                  <a:pt x="10011" y="44218"/>
                </a:lnTo>
                <a:lnTo>
                  <a:pt x="3863" y="47310"/>
                </a:lnTo>
                <a:lnTo>
                  <a:pt x="1038" y="49320"/>
                </a:lnTo>
                <a:lnTo>
                  <a:pt x="0" y="51507"/>
                </a:lnTo>
                <a:lnTo>
                  <a:pt x="156" y="53811"/>
                </a:lnTo>
                <a:lnTo>
                  <a:pt x="1106" y="56194"/>
                </a:lnTo>
                <a:lnTo>
                  <a:pt x="6488" y="63593"/>
                </a:lnTo>
                <a:lnTo>
                  <a:pt x="9562" y="66102"/>
                </a:lnTo>
                <a:lnTo>
                  <a:pt x="13303" y="68621"/>
                </a:lnTo>
                <a:lnTo>
                  <a:pt x="17492" y="71148"/>
                </a:lnTo>
                <a:lnTo>
                  <a:pt x="22823" y="73678"/>
                </a:lnTo>
                <a:lnTo>
                  <a:pt x="28917" y="76212"/>
                </a:lnTo>
                <a:lnTo>
                  <a:pt x="35521" y="78748"/>
                </a:lnTo>
                <a:lnTo>
                  <a:pt x="43309" y="81286"/>
                </a:lnTo>
                <a:lnTo>
                  <a:pt x="51888" y="83824"/>
                </a:lnTo>
                <a:lnTo>
                  <a:pt x="60994" y="86363"/>
                </a:lnTo>
                <a:lnTo>
                  <a:pt x="70452" y="89748"/>
                </a:lnTo>
                <a:lnTo>
                  <a:pt x="80144" y="93699"/>
                </a:lnTo>
                <a:lnTo>
                  <a:pt x="89991" y="98026"/>
                </a:lnTo>
                <a:lnTo>
                  <a:pt x="109965" y="107349"/>
                </a:lnTo>
                <a:lnTo>
                  <a:pt x="150382" y="127132"/>
                </a:lnTo>
                <a:lnTo>
                  <a:pt x="158830" y="133015"/>
                </a:lnTo>
                <a:lnTo>
                  <a:pt x="166155" y="139477"/>
                </a:lnTo>
                <a:lnTo>
                  <a:pt x="186035" y="160007"/>
                </a:lnTo>
                <a:lnTo>
                  <a:pt x="189373" y="164245"/>
                </a:lnTo>
                <a:lnTo>
                  <a:pt x="192444" y="168763"/>
                </a:lnTo>
                <a:lnTo>
                  <a:pt x="195338" y="173468"/>
                </a:lnTo>
                <a:lnTo>
                  <a:pt x="197267" y="179146"/>
                </a:lnTo>
                <a:lnTo>
                  <a:pt x="198553" y="185470"/>
                </a:lnTo>
                <a:lnTo>
                  <a:pt x="199411" y="192227"/>
                </a:lnTo>
                <a:lnTo>
                  <a:pt x="199136" y="198425"/>
                </a:lnTo>
                <a:lnTo>
                  <a:pt x="198107" y="204250"/>
                </a:lnTo>
                <a:lnTo>
                  <a:pt x="196574" y="209827"/>
                </a:lnTo>
                <a:lnTo>
                  <a:pt x="193858" y="214391"/>
                </a:lnTo>
                <a:lnTo>
                  <a:pt x="190354" y="218280"/>
                </a:lnTo>
                <a:lnTo>
                  <a:pt x="186325" y="221720"/>
                </a:lnTo>
                <a:lnTo>
                  <a:pt x="181945" y="224860"/>
                </a:lnTo>
                <a:lnTo>
                  <a:pt x="177333" y="227800"/>
                </a:lnTo>
                <a:lnTo>
                  <a:pt x="172564" y="230607"/>
                </a:lnTo>
                <a:lnTo>
                  <a:pt x="167692" y="233325"/>
                </a:lnTo>
                <a:lnTo>
                  <a:pt x="157762" y="238602"/>
                </a:lnTo>
                <a:lnTo>
                  <a:pt x="152744" y="240348"/>
                </a:lnTo>
                <a:lnTo>
                  <a:pt x="147705" y="241512"/>
                </a:lnTo>
                <a:lnTo>
                  <a:pt x="142652" y="242288"/>
                </a:lnTo>
                <a:lnTo>
                  <a:pt x="136743" y="242806"/>
                </a:lnTo>
                <a:lnTo>
                  <a:pt x="130265" y="243150"/>
                </a:lnTo>
                <a:lnTo>
                  <a:pt x="123404" y="243380"/>
                </a:lnTo>
                <a:lnTo>
                  <a:pt x="116293" y="242687"/>
                </a:lnTo>
                <a:lnTo>
                  <a:pt x="109010" y="241378"/>
                </a:lnTo>
                <a:lnTo>
                  <a:pt x="101615" y="239659"/>
                </a:lnTo>
                <a:lnTo>
                  <a:pt x="94992" y="237666"/>
                </a:lnTo>
                <a:lnTo>
                  <a:pt x="88884" y="235490"/>
                </a:lnTo>
                <a:lnTo>
                  <a:pt x="83119" y="233194"/>
                </a:lnTo>
                <a:lnTo>
                  <a:pt x="78427" y="230816"/>
                </a:lnTo>
                <a:lnTo>
                  <a:pt x="74454" y="228384"/>
                </a:lnTo>
                <a:lnTo>
                  <a:pt x="70958" y="225916"/>
                </a:lnTo>
                <a:lnTo>
                  <a:pt x="66935" y="223424"/>
                </a:lnTo>
                <a:lnTo>
                  <a:pt x="62559" y="220916"/>
                </a:lnTo>
                <a:lnTo>
                  <a:pt x="48727" y="2133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MARTInkAnnotation145"/>
          <p:cNvSpPr/>
          <p:nvPr/>
        </p:nvSpPr>
        <p:spPr>
          <a:xfrm>
            <a:off x="7864560" y="2498760"/>
            <a:ext cx="75960" cy="298440"/>
          </a:xfrm>
          <a:custGeom>
            <a:avLst/>
            <a:gdLst>
              <a:gd name="textAreaLeft" fmla="*/ 0 w 75960"/>
              <a:gd name="textAreaRight" fmla="*/ 76320 w 759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76200" h="297181">
                <a:moveTo>
                  <a:pt x="76199" y="0"/>
                </a:moveTo>
                <a:lnTo>
                  <a:pt x="76199" y="36045"/>
                </a:lnTo>
                <a:lnTo>
                  <a:pt x="75353" y="42657"/>
                </a:lnTo>
                <a:lnTo>
                  <a:pt x="73941" y="50451"/>
                </a:lnTo>
                <a:lnTo>
                  <a:pt x="72154" y="59034"/>
                </a:lnTo>
                <a:lnTo>
                  <a:pt x="70116" y="67296"/>
                </a:lnTo>
                <a:lnTo>
                  <a:pt x="67911" y="75344"/>
                </a:lnTo>
                <a:lnTo>
                  <a:pt x="65594" y="83249"/>
                </a:lnTo>
                <a:lnTo>
                  <a:pt x="60762" y="101064"/>
                </a:lnTo>
                <a:lnTo>
                  <a:pt x="58287" y="110556"/>
                </a:lnTo>
                <a:lnTo>
                  <a:pt x="53281" y="132392"/>
                </a:lnTo>
                <a:lnTo>
                  <a:pt x="50760" y="144141"/>
                </a:lnTo>
                <a:lnTo>
                  <a:pt x="47387" y="155361"/>
                </a:lnTo>
                <a:lnTo>
                  <a:pt x="43444" y="166227"/>
                </a:lnTo>
                <a:lnTo>
                  <a:pt x="39123" y="176858"/>
                </a:lnTo>
                <a:lnTo>
                  <a:pt x="32063" y="195443"/>
                </a:lnTo>
                <a:lnTo>
                  <a:pt x="28995" y="203955"/>
                </a:lnTo>
                <a:lnTo>
                  <a:pt x="26104" y="213017"/>
                </a:lnTo>
                <a:lnTo>
                  <a:pt x="23329" y="222445"/>
                </a:lnTo>
                <a:lnTo>
                  <a:pt x="20632" y="232116"/>
                </a:lnTo>
                <a:lnTo>
                  <a:pt x="17989" y="240258"/>
                </a:lnTo>
                <a:lnTo>
                  <a:pt x="15379" y="247378"/>
                </a:lnTo>
                <a:lnTo>
                  <a:pt x="12793" y="253818"/>
                </a:lnTo>
                <a:lnTo>
                  <a:pt x="10222" y="259806"/>
                </a:lnTo>
                <a:lnTo>
                  <a:pt x="5108" y="270973"/>
                </a:lnTo>
                <a:lnTo>
                  <a:pt x="3405" y="275475"/>
                </a:lnTo>
                <a:lnTo>
                  <a:pt x="1514" y="282736"/>
                </a:lnTo>
                <a:lnTo>
                  <a:pt x="449" y="291583"/>
                </a:lnTo>
                <a:lnTo>
                  <a:pt x="0" y="2971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MARTInkAnnotation146"/>
          <p:cNvSpPr/>
          <p:nvPr/>
        </p:nvSpPr>
        <p:spPr>
          <a:xfrm>
            <a:off x="7856640" y="2614680"/>
            <a:ext cx="204840" cy="30240"/>
          </a:xfrm>
          <a:custGeom>
            <a:avLst/>
            <a:gdLst>
              <a:gd name="textAreaLeft" fmla="*/ 0 w 204840"/>
              <a:gd name="textAreaRight" fmla="*/ 205200 w 2048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05741" h="30131">
                <a:moveTo>
                  <a:pt x="0" y="30130"/>
                </a:moveTo>
                <a:lnTo>
                  <a:pt x="11350" y="18779"/>
                </a:lnTo>
                <a:lnTo>
                  <a:pt x="14341" y="16636"/>
                </a:lnTo>
                <a:lnTo>
                  <a:pt x="18026" y="14361"/>
                </a:lnTo>
                <a:lnTo>
                  <a:pt x="22177" y="11997"/>
                </a:lnTo>
                <a:lnTo>
                  <a:pt x="27486" y="10422"/>
                </a:lnTo>
                <a:lnTo>
                  <a:pt x="33563" y="9371"/>
                </a:lnTo>
                <a:lnTo>
                  <a:pt x="40155" y="8671"/>
                </a:lnTo>
                <a:lnTo>
                  <a:pt x="47090" y="7357"/>
                </a:lnTo>
                <a:lnTo>
                  <a:pt x="54254" y="5635"/>
                </a:lnTo>
                <a:lnTo>
                  <a:pt x="61570" y="3640"/>
                </a:lnTo>
                <a:lnTo>
                  <a:pt x="70679" y="2310"/>
                </a:lnTo>
                <a:lnTo>
                  <a:pt x="80987" y="1423"/>
                </a:lnTo>
                <a:lnTo>
                  <a:pt x="92091" y="832"/>
                </a:lnTo>
                <a:lnTo>
                  <a:pt x="115717" y="176"/>
                </a:lnTo>
                <a:lnTo>
                  <a:pt x="127945" y="0"/>
                </a:lnTo>
                <a:lnTo>
                  <a:pt x="140330" y="730"/>
                </a:lnTo>
                <a:lnTo>
                  <a:pt x="152821" y="2064"/>
                </a:lnTo>
                <a:lnTo>
                  <a:pt x="165380" y="3799"/>
                </a:lnTo>
                <a:lnTo>
                  <a:pt x="175447" y="4956"/>
                </a:lnTo>
                <a:lnTo>
                  <a:pt x="183851" y="5727"/>
                </a:lnTo>
                <a:lnTo>
                  <a:pt x="205740" y="727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MARTInkAnnotation147"/>
          <p:cNvSpPr/>
          <p:nvPr/>
        </p:nvSpPr>
        <p:spPr>
          <a:xfrm>
            <a:off x="6316560" y="3063960"/>
            <a:ext cx="236520" cy="174600"/>
          </a:xfrm>
          <a:custGeom>
            <a:avLst/>
            <a:gdLst>
              <a:gd name="textAreaLeft" fmla="*/ 0 w 236520"/>
              <a:gd name="textAreaRight" fmla="*/ 236880 w 2365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236217" h="175230">
                <a:moveTo>
                  <a:pt x="45717" y="0"/>
                </a:moveTo>
                <a:lnTo>
                  <a:pt x="39156" y="6561"/>
                </a:lnTo>
                <a:lnTo>
                  <a:pt x="38568" y="9407"/>
                </a:lnTo>
                <a:lnTo>
                  <a:pt x="38306" y="13494"/>
                </a:lnTo>
                <a:lnTo>
                  <a:pt x="38190" y="18133"/>
                </a:lnTo>
                <a:lnTo>
                  <a:pt x="37312" y="21402"/>
                </a:lnTo>
                <a:lnTo>
                  <a:pt x="35881" y="25275"/>
                </a:lnTo>
                <a:lnTo>
                  <a:pt x="34079" y="29550"/>
                </a:lnTo>
                <a:lnTo>
                  <a:pt x="32879" y="33247"/>
                </a:lnTo>
                <a:lnTo>
                  <a:pt x="32078" y="36558"/>
                </a:lnTo>
                <a:lnTo>
                  <a:pt x="31545" y="39612"/>
                </a:lnTo>
                <a:lnTo>
                  <a:pt x="30342" y="42494"/>
                </a:lnTo>
                <a:lnTo>
                  <a:pt x="26748" y="47955"/>
                </a:lnTo>
                <a:lnTo>
                  <a:pt x="24587" y="53205"/>
                </a:lnTo>
                <a:lnTo>
                  <a:pt x="23626" y="58360"/>
                </a:lnTo>
                <a:lnTo>
                  <a:pt x="23199" y="63474"/>
                </a:lnTo>
                <a:lnTo>
                  <a:pt x="22238" y="66869"/>
                </a:lnTo>
                <a:lnTo>
                  <a:pt x="20751" y="70826"/>
                </a:lnTo>
                <a:lnTo>
                  <a:pt x="18914" y="75157"/>
                </a:lnTo>
                <a:lnTo>
                  <a:pt x="17688" y="78892"/>
                </a:lnTo>
                <a:lnTo>
                  <a:pt x="16871" y="82228"/>
                </a:lnTo>
                <a:lnTo>
                  <a:pt x="16326" y="85298"/>
                </a:lnTo>
                <a:lnTo>
                  <a:pt x="15117" y="89039"/>
                </a:lnTo>
                <a:lnTo>
                  <a:pt x="13464" y="93226"/>
                </a:lnTo>
                <a:lnTo>
                  <a:pt x="11515" y="97711"/>
                </a:lnTo>
                <a:lnTo>
                  <a:pt x="10216" y="101547"/>
                </a:lnTo>
                <a:lnTo>
                  <a:pt x="9349" y="104952"/>
                </a:lnTo>
                <a:lnTo>
                  <a:pt x="8772" y="108068"/>
                </a:lnTo>
                <a:lnTo>
                  <a:pt x="8387" y="111838"/>
                </a:lnTo>
                <a:lnTo>
                  <a:pt x="8131" y="116046"/>
                </a:lnTo>
                <a:lnTo>
                  <a:pt x="7959" y="120544"/>
                </a:lnTo>
                <a:lnTo>
                  <a:pt x="6999" y="124389"/>
                </a:lnTo>
                <a:lnTo>
                  <a:pt x="5512" y="127800"/>
                </a:lnTo>
                <a:lnTo>
                  <a:pt x="3673" y="130920"/>
                </a:lnTo>
                <a:lnTo>
                  <a:pt x="2448" y="133847"/>
                </a:lnTo>
                <a:lnTo>
                  <a:pt x="1632" y="136644"/>
                </a:lnTo>
                <a:lnTo>
                  <a:pt x="723" y="142011"/>
                </a:lnTo>
                <a:lnTo>
                  <a:pt x="320" y="147218"/>
                </a:lnTo>
                <a:lnTo>
                  <a:pt x="141" y="152355"/>
                </a:lnTo>
                <a:lnTo>
                  <a:pt x="6" y="166132"/>
                </a:lnTo>
                <a:lnTo>
                  <a:pt x="0" y="171238"/>
                </a:lnTo>
                <a:lnTo>
                  <a:pt x="846" y="172579"/>
                </a:lnTo>
                <a:lnTo>
                  <a:pt x="2256" y="173473"/>
                </a:lnTo>
                <a:lnTo>
                  <a:pt x="7303" y="175156"/>
                </a:lnTo>
                <a:lnTo>
                  <a:pt x="11994" y="175214"/>
                </a:lnTo>
                <a:lnTo>
                  <a:pt x="15615" y="175229"/>
                </a:lnTo>
                <a:lnTo>
                  <a:pt x="18876" y="174393"/>
                </a:lnTo>
                <a:lnTo>
                  <a:pt x="24757" y="171206"/>
                </a:lnTo>
                <a:lnTo>
                  <a:pt x="30193" y="169225"/>
                </a:lnTo>
                <a:lnTo>
                  <a:pt x="36277" y="168345"/>
                </a:lnTo>
                <a:lnTo>
                  <a:pt x="40271" y="168110"/>
                </a:lnTo>
                <a:lnTo>
                  <a:pt x="49223" y="167849"/>
                </a:lnTo>
                <a:lnTo>
                  <a:pt x="58847" y="167733"/>
                </a:lnTo>
                <a:lnTo>
                  <a:pt x="62937" y="166855"/>
                </a:lnTo>
                <a:lnTo>
                  <a:pt x="69739" y="163623"/>
                </a:lnTo>
                <a:lnTo>
                  <a:pt x="73585" y="162422"/>
                </a:lnTo>
                <a:lnTo>
                  <a:pt x="77843" y="161621"/>
                </a:lnTo>
                <a:lnTo>
                  <a:pt x="82374" y="161088"/>
                </a:lnTo>
                <a:lnTo>
                  <a:pt x="89667" y="158237"/>
                </a:lnTo>
                <a:lnTo>
                  <a:pt x="92797" y="156291"/>
                </a:lnTo>
                <a:lnTo>
                  <a:pt x="96577" y="154994"/>
                </a:lnTo>
                <a:lnTo>
                  <a:pt x="100790" y="154129"/>
                </a:lnTo>
                <a:lnTo>
                  <a:pt x="105292" y="153553"/>
                </a:lnTo>
                <a:lnTo>
                  <a:pt x="109987" y="153169"/>
                </a:lnTo>
                <a:lnTo>
                  <a:pt x="114811" y="152913"/>
                </a:lnTo>
                <a:lnTo>
                  <a:pt x="119719" y="152742"/>
                </a:lnTo>
                <a:lnTo>
                  <a:pt x="123839" y="151781"/>
                </a:lnTo>
                <a:lnTo>
                  <a:pt x="130673" y="148456"/>
                </a:lnTo>
                <a:lnTo>
                  <a:pt x="134528" y="147231"/>
                </a:lnTo>
                <a:lnTo>
                  <a:pt x="138791" y="146414"/>
                </a:lnTo>
                <a:lnTo>
                  <a:pt x="143327" y="145869"/>
                </a:lnTo>
                <a:lnTo>
                  <a:pt x="148043" y="145506"/>
                </a:lnTo>
                <a:lnTo>
                  <a:pt x="152881" y="145264"/>
                </a:lnTo>
                <a:lnTo>
                  <a:pt x="165522" y="144924"/>
                </a:lnTo>
                <a:lnTo>
                  <a:pt x="168768" y="144876"/>
                </a:lnTo>
                <a:lnTo>
                  <a:pt x="171777" y="145690"/>
                </a:lnTo>
                <a:lnTo>
                  <a:pt x="177379" y="148854"/>
                </a:lnTo>
                <a:lnTo>
                  <a:pt x="182691" y="150824"/>
                </a:lnTo>
                <a:lnTo>
                  <a:pt x="187874" y="151700"/>
                </a:lnTo>
                <a:lnTo>
                  <a:pt x="193000" y="152089"/>
                </a:lnTo>
                <a:lnTo>
                  <a:pt x="198100" y="152262"/>
                </a:lnTo>
                <a:lnTo>
                  <a:pt x="200646" y="152308"/>
                </a:lnTo>
                <a:lnTo>
                  <a:pt x="203190" y="153185"/>
                </a:lnTo>
                <a:lnTo>
                  <a:pt x="208274" y="156418"/>
                </a:lnTo>
                <a:lnTo>
                  <a:pt x="213355" y="158419"/>
                </a:lnTo>
                <a:lnTo>
                  <a:pt x="215896" y="158953"/>
                </a:lnTo>
                <a:lnTo>
                  <a:pt x="220975" y="161803"/>
                </a:lnTo>
                <a:lnTo>
                  <a:pt x="223516" y="163749"/>
                </a:lnTo>
                <a:lnTo>
                  <a:pt x="228597" y="165911"/>
                </a:lnTo>
                <a:lnTo>
                  <a:pt x="236200" y="167636"/>
                </a:lnTo>
                <a:lnTo>
                  <a:pt x="236213" y="167639"/>
                </a:lnTo>
                <a:lnTo>
                  <a:pt x="236216" y="163595"/>
                </a:lnTo>
                <a:lnTo>
                  <a:pt x="234523" y="161557"/>
                </a:lnTo>
                <a:lnTo>
                  <a:pt x="228126" y="157034"/>
                </a:lnTo>
                <a:lnTo>
                  <a:pt x="221896" y="152202"/>
                </a:lnTo>
                <a:lnTo>
                  <a:pt x="219050" y="149728"/>
                </a:lnTo>
                <a:lnTo>
                  <a:pt x="215459" y="146385"/>
                </a:lnTo>
                <a:lnTo>
                  <a:pt x="202315" y="133591"/>
                </a:lnTo>
                <a:lnTo>
                  <a:pt x="192645" y="124002"/>
                </a:lnTo>
                <a:lnTo>
                  <a:pt x="187696" y="119922"/>
                </a:lnTo>
                <a:lnTo>
                  <a:pt x="182703" y="116355"/>
                </a:lnTo>
                <a:lnTo>
                  <a:pt x="158478" y="100501"/>
                </a:lnTo>
                <a:lnTo>
                  <a:pt x="152218" y="95787"/>
                </a:lnTo>
                <a:lnTo>
                  <a:pt x="146350" y="90952"/>
                </a:lnTo>
                <a:lnTo>
                  <a:pt x="140746" y="86034"/>
                </a:lnTo>
                <a:lnTo>
                  <a:pt x="135317" y="81910"/>
                </a:lnTo>
                <a:lnTo>
                  <a:pt x="130004" y="78313"/>
                </a:lnTo>
                <a:lnTo>
                  <a:pt x="124768" y="75069"/>
                </a:lnTo>
                <a:lnTo>
                  <a:pt x="119585" y="71213"/>
                </a:lnTo>
                <a:lnTo>
                  <a:pt x="114435" y="66948"/>
                </a:lnTo>
                <a:lnTo>
                  <a:pt x="109309" y="62412"/>
                </a:lnTo>
                <a:lnTo>
                  <a:pt x="104199" y="58542"/>
                </a:lnTo>
                <a:lnTo>
                  <a:pt x="99097" y="55114"/>
                </a:lnTo>
                <a:lnTo>
                  <a:pt x="94004" y="51983"/>
                </a:lnTo>
                <a:lnTo>
                  <a:pt x="88915" y="49049"/>
                </a:lnTo>
                <a:lnTo>
                  <a:pt x="78745" y="43530"/>
                </a:lnTo>
                <a:lnTo>
                  <a:pt x="74509" y="41720"/>
                </a:lnTo>
                <a:lnTo>
                  <a:pt x="67544" y="39709"/>
                </a:lnTo>
                <a:lnTo>
                  <a:pt x="61627" y="36557"/>
                </a:lnTo>
                <a:lnTo>
                  <a:pt x="54975" y="31681"/>
                </a:lnTo>
                <a:lnTo>
                  <a:pt x="51808" y="31013"/>
                </a:lnTo>
                <a:lnTo>
                  <a:pt x="45717" y="304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MARTInkAnnotation148"/>
          <p:cNvSpPr/>
          <p:nvPr/>
        </p:nvSpPr>
        <p:spPr>
          <a:xfrm>
            <a:off x="8381880" y="2465280"/>
            <a:ext cx="258840" cy="422280"/>
          </a:xfrm>
          <a:custGeom>
            <a:avLst/>
            <a:gdLst>
              <a:gd name="textAreaLeft" fmla="*/ 0 w 258840"/>
              <a:gd name="textAreaRight" fmla="*/ 259200 w 25884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258119" h="421571">
                <a:moveTo>
                  <a:pt x="30479" y="147841"/>
                </a:moveTo>
                <a:lnTo>
                  <a:pt x="30479" y="176580"/>
                </a:lnTo>
                <a:lnTo>
                  <a:pt x="28220" y="186296"/>
                </a:lnTo>
                <a:lnTo>
                  <a:pt x="24396" y="197106"/>
                </a:lnTo>
                <a:lnTo>
                  <a:pt x="19873" y="210377"/>
                </a:lnTo>
                <a:lnTo>
                  <a:pt x="18328" y="218318"/>
                </a:lnTo>
                <a:lnTo>
                  <a:pt x="17298" y="226999"/>
                </a:lnTo>
                <a:lnTo>
                  <a:pt x="16612" y="236173"/>
                </a:lnTo>
                <a:lnTo>
                  <a:pt x="16154" y="244829"/>
                </a:lnTo>
                <a:lnTo>
                  <a:pt x="15645" y="261220"/>
                </a:lnTo>
                <a:lnTo>
                  <a:pt x="14663" y="269994"/>
                </a:lnTo>
                <a:lnTo>
                  <a:pt x="13162" y="279230"/>
                </a:lnTo>
                <a:lnTo>
                  <a:pt x="11314" y="288773"/>
                </a:lnTo>
                <a:lnTo>
                  <a:pt x="7004" y="308409"/>
                </a:lnTo>
                <a:lnTo>
                  <a:pt x="4668" y="318386"/>
                </a:lnTo>
                <a:lnTo>
                  <a:pt x="3112" y="327578"/>
                </a:lnTo>
                <a:lnTo>
                  <a:pt x="2074" y="336246"/>
                </a:lnTo>
                <a:lnTo>
                  <a:pt x="1382" y="344564"/>
                </a:lnTo>
                <a:lnTo>
                  <a:pt x="921" y="352650"/>
                </a:lnTo>
                <a:lnTo>
                  <a:pt x="409" y="368407"/>
                </a:lnTo>
                <a:lnTo>
                  <a:pt x="79" y="393136"/>
                </a:lnTo>
                <a:lnTo>
                  <a:pt x="0" y="421570"/>
                </a:lnTo>
                <a:lnTo>
                  <a:pt x="0" y="417941"/>
                </a:lnTo>
                <a:lnTo>
                  <a:pt x="4044" y="407458"/>
                </a:lnTo>
                <a:lnTo>
                  <a:pt x="6030" y="396153"/>
                </a:lnTo>
                <a:lnTo>
                  <a:pt x="6560" y="389582"/>
                </a:lnTo>
                <a:lnTo>
                  <a:pt x="6913" y="381815"/>
                </a:lnTo>
                <a:lnTo>
                  <a:pt x="7305" y="364154"/>
                </a:lnTo>
                <a:lnTo>
                  <a:pt x="7525" y="335170"/>
                </a:lnTo>
                <a:lnTo>
                  <a:pt x="6710" y="324374"/>
                </a:lnTo>
                <a:lnTo>
                  <a:pt x="5319" y="312943"/>
                </a:lnTo>
                <a:lnTo>
                  <a:pt x="3546" y="301089"/>
                </a:lnTo>
                <a:lnTo>
                  <a:pt x="3209" y="289800"/>
                </a:lnTo>
                <a:lnTo>
                  <a:pt x="3833" y="278887"/>
                </a:lnTo>
                <a:lnTo>
                  <a:pt x="5095" y="268225"/>
                </a:lnTo>
                <a:lnTo>
                  <a:pt x="5936" y="256884"/>
                </a:lnTo>
                <a:lnTo>
                  <a:pt x="6497" y="245089"/>
                </a:lnTo>
                <a:lnTo>
                  <a:pt x="7120" y="221543"/>
                </a:lnTo>
                <a:lnTo>
                  <a:pt x="7599" y="135266"/>
                </a:lnTo>
                <a:lnTo>
                  <a:pt x="8453" y="125911"/>
                </a:lnTo>
                <a:lnTo>
                  <a:pt x="9868" y="116288"/>
                </a:lnTo>
                <a:lnTo>
                  <a:pt x="11659" y="106486"/>
                </a:lnTo>
                <a:lnTo>
                  <a:pt x="13699" y="97411"/>
                </a:lnTo>
                <a:lnTo>
                  <a:pt x="15905" y="88821"/>
                </a:lnTo>
                <a:lnTo>
                  <a:pt x="18222" y="80554"/>
                </a:lnTo>
                <a:lnTo>
                  <a:pt x="23056" y="64596"/>
                </a:lnTo>
                <a:lnTo>
                  <a:pt x="25531" y="56784"/>
                </a:lnTo>
                <a:lnTo>
                  <a:pt x="28873" y="49883"/>
                </a:lnTo>
                <a:lnTo>
                  <a:pt x="32795" y="43589"/>
                </a:lnTo>
                <a:lnTo>
                  <a:pt x="37103" y="37700"/>
                </a:lnTo>
                <a:lnTo>
                  <a:pt x="42514" y="32080"/>
                </a:lnTo>
                <a:lnTo>
                  <a:pt x="48662" y="26640"/>
                </a:lnTo>
                <a:lnTo>
                  <a:pt x="55302" y="21321"/>
                </a:lnTo>
                <a:lnTo>
                  <a:pt x="62268" y="16927"/>
                </a:lnTo>
                <a:lnTo>
                  <a:pt x="69451" y="13152"/>
                </a:lnTo>
                <a:lnTo>
                  <a:pt x="76780" y="9788"/>
                </a:lnTo>
                <a:lnTo>
                  <a:pt x="85053" y="6699"/>
                </a:lnTo>
                <a:lnTo>
                  <a:pt x="93955" y="3793"/>
                </a:lnTo>
                <a:lnTo>
                  <a:pt x="103276" y="1009"/>
                </a:lnTo>
                <a:lnTo>
                  <a:pt x="112030" y="0"/>
                </a:lnTo>
                <a:lnTo>
                  <a:pt x="120406" y="174"/>
                </a:lnTo>
                <a:lnTo>
                  <a:pt x="128530" y="1136"/>
                </a:lnTo>
                <a:lnTo>
                  <a:pt x="137334" y="1778"/>
                </a:lnTo>
                <a:lnTo>
                  <a:pt x="146589" y="2206"/>
                </a:lnTo>
                <a:lnTo>
                  <a:pt x="156146" y="2491"/>
                </a:lnTo>
                <a:lnTo>
                  <a:pt x="165057" y="4374"/>
                </a:lnTo>
                <a:lnTo>
                  <a:pt x="173537" y="7323"/>
                </a:lnTo>
                <a:lnTo>
                  <a:pt x="181731" y="10982"/>
                </a:lnTo>
                <a:lnTo>
                  <a:pt x="199866" y="19564"/>
                </a:lnTo>
                <a:lnTo>
                  <a:pt x="209444" y="24223"/>
                </a:lnTo>
                <a:lnTo>
                  <a:pt x="217523" y="29022"/>
                </a:lnTo>
                <a:lnTo>
                  <a:pt x="224601" y="33915"/>
                </a:lnTo>
                <a:lnTo>
                  <a:pt x="231013" y="38871"/>
                </a:lnTo>
                <a:lnTo>
                  <a:pt x="236983" y="44714"/>
                </a:lnTo>
                <a:lnTo>
                  <a:pt x="242654" y="51150"/>
                </a:lnTo>
                <a:lnTo>
                  <a:pt x="248129" y="57980"/>
                </a:lnTo>
                <a:lnTo>
                  <a:pt x="251779" y="65074"/>
                </a:lnTo>
                <a:lnTo>
                  <a:pt x="254212" y="72343"/>
                </a:lnTo>
                <a:lnTo>
                  <a:pt x="255834" y="79729"/>
                </a:lnTo>
                <a:lnTo>
                  <a:pt x="256916" y="87193"/>
                </a:lnTo>
                <a:lnTo>
                  <a:pt x="257637" y="94709"/>
                </a:lnTo>
                <a:lnTo>
                  <a:pt x="258118" y="102260"/>
                </a:lnTo>
                <a:lnTo>
                  <a:pt x="256395" y="115165"/>
                </a:lnTo>
                <a:lnTo>
                  <a:pt x="251959" y="127392"/>
                </a:lnTo>
                <a:lnTo>
                  <a:pt x="248405" y="134208"/>
                </a:lnTo>
                <a:lnTo>
                  <a:pt x="244343" y="141292"/>
                </a:lnTo>
                <a:lnTo>
                  <a:pt x="239095" y="147709"/>
                </a:lnTo>
                <a:lnTo>
                  <a:pt x="233057" y="153679"/>
                </a:lnTo>
                <a:lnTo>
                  <a:pt x="226490" y="159353"/>
                </a:lnTo>
                <a:lnTo>
                  <a:pt x="218727" y="164829"/>
                </a:lnTo>
                <a:lnTo>
                  <a:pt x="210163" y="170173"/>
                </a:lnTo>
                <a:lnTo>
                  <a:pt x="201069" y="175429"/>
                </a:lnTo>
                <a:lnTo>
                  <a:pt x="181932" y="185784"/>
                </a:lnTo>
                <a:lnTo>
                  <a:pt x="172088" y="190917"/>
                </a:lnTo>
                <a:lnTo>
                  <a:pt x="162985" y="195185"/>
                </a:lnTo>
                <a:lnTo>
                  <a:pt x="154375" y="198877"/>
                </a:lnTo>
                <a:lnTo>
                  <a:pt x="146097" y="202185"/>
                </a:lnTo>
                <a:lnTo>
                  <a:pt x="137190" y="205237"/>
                </a:lnTo>
                <a:lnTo>
                  <a:pt x="127868" y="208118"/>
                </a:lnTo>
                <a:lnTo>
                  <a:pt x="118264" y="210886"/>
                </a:lnTo>
                <a:lnTo>
                  <a:pt x="110169" y="213577"/>
                </a:lnTo>
                <a:lnTo>
                  <a:pt x="103079" y="216219"/>
                </a:lnTo>
                <a:lnTo>
                  <a:pt x="96659" y="218826"/>
                </a:lnTo>
                <a:lnTo>
                  <a:pt x="90685" y="220565"/>
                </a:lnTo>
                <a:lnTo>
                  <a:pt x="85011" y="221723"/>
                </a:lnTo>
                <a:lnTo>
                  <a:pt x="68579" y="2240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MARTInkAnnotation149"/>
          <p:cNvSpPr/>
          <p:nvPr/>
        </p:nvSpPr>
        <p:spPr>
          <a:xfrm>
            <a:off x="8626320" y="2746440"/>
            <a:ext cx="128880" cy="155520"/>
          </a:xfrm>
          <a:custGeom>
            <a:avLst/>
            <a:gdLst>
              <a:gd name="textAreaLeft" fmla="*/ 0 w 128880"/>
              <a:gd name="textAreaRight" fmla="*/ 129240 w 1288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29541" h="155446">
                <a:moveTo>
                  <a:pt x="0" y="19515"/>
                </a:moveTo>
                <a:lnTo>
                  <a:pt x="0" y="33382"/>
                </a:lnTo>
                <a:lnTo>
                  <a:pt x="846" y="35533"/>
                </a:lnTo>
                <a:lnTo>
                  <a:pt x="2258" y="38661"/>
                </a:lnTo>
                <a:lnTo>
                  <a:pt x="4045" y="42439"/>
                </a:lnTo>
                <a:lnTo>
                  <a:pt x="5237" y="46651"/>
                </a:lnTo>
                <a:lnTo>
                  <a:pt x="6031" y="51152"/>
                </a:lnTo>
                <a:lnTo>
                  <a:pt x="6562" y="55847"/>
                </a:lnTo>
                <a:lnTo>
                  <a:pt x="6913" y="60670"/>
                </a:lnTo>
                <a:lnTo>
                  <a:pt x="7148" y="65578"/>
                </a:lnTo>
                <a:lnTo>
                  <a:pt x="7410" y="75548"/>
                </a:lnTo>
                <a:lnTo>
                  <a:pt x="7527" y="85623"/>
                </a:lnTo>
                <a:lnTo>
                  <a:pt x="8404" y="90680"/>
                </a:lnTo>
                <a:lnTo>
                  <a:pt x="9837" y="95745"/>
                </a:lnTo>
                <a:lnTo>
                  <a:pt x="11636" y="100815"/>
                </a:lnTo>
                <a:lnTo>
                  <a:pt x="12838" y="105888"/>
                </a:lnTo>
                <a:lnTo>
                  <a:pt x="13639" y="110964"/>
                </a:lnTo>
                <a:lnTo>
                  <a:pt x="14173" y="116041"/>
                </a:lnTo>
                <a:lnTo>
                  <a:pt x="14529" y="121119"/>
                </a:lnTo>
                <a:lnTo>
                  <a:pt x="14766" y="126198"/>
                </a:lnTo>
                <a:lnTo>
                  <a:pt x="15099" y="139178"/>
                </a:lnTo>
                <a:lnTo>
                  <a:pt x="15238" y="155445"/>
                </a:lnTo>
                <a:lnTo>
                  <a:pt x="14391" y="155008"/>
                </a:lnTo>
                <a:lnTo>
                  <a:pt x="11194" y="152265"/>
                </a:lnTo>
                <a:lnTo>
                  <a:pt x="6951" y="148224"/>
                </a:lnTo>
                <a:lnTo>
                  <a:pt x="4634" y="145961"/>
                </a:lnTo>
                <a:lnTo>
                  <a:pt x="3088" y="143606"/>
                </a:lnTo>
                <a:lnTo>
                  <a:pt x="2059" y="141189"/>
                </a:lnTo>
                <a:lnTo>
                  <a:pt x="1372" y="138731"/>
                </a:lnTo>
                <a:lnTo>
                  <a:pt x="915" y="135399"/>
                </a:lnTo>
                <a:lnTo>
                  <a:pt x="609" y="131484"/>
                </a:lnTo>
                <a:lnTo>
                  <a:pt x="406" y="127181"/>
                </a:lnTo>
                <a:lnTo>
                  <a:pt x="181" y="115627"/>
                </a:lnTo>
                <a:lnTo>
                  <a:pt x="4" y="53675"/>
                </a:lnTo>
                <a:lnTo>
                  <a:pt x="1695" y="48215"/>
                </a:lnTo>
                <a:lnTo>
                  <a:pt x="4516" y="42882"/>
                </a:lnTo>
                <a:lnTo>
                  <a:pt x="8092" y="37633"/>
                </a:lnTo>
                <a:lnTo>
                  <a:pt x="11320" y="32440"/>
                </a:lnTo>
                <a:lnTo>
                  <a:pt x="14320" y="27285"/>
                </a:lnTo>
                <a:lnTo>
                  <a:pt x="17166" y="22155"/>
                </a:lnTo>
                <a:lnTo>
                  <a:pt x="19910" y="17888"/>
                </a:lnTo>
                <a:lnTo>
                  <a:pt x="22588" y="14197"/>
                </a:lnTo>
                <a:lnTo>
                  <a:pt x="25219" y="10890"/>
                </a:lnTo>
                <a:lnTo>
                  <a:pt x="28666" y="8685"/>
                </a:lnTo>
                <a:lnTo>
                  <a:pt x="32656" y="7215"/>
                </a:lnTo>
                <a:lnTo>
                  <a:pt x="37012" y="6235"/>
                </a:lnTo>
                <a:lnTo>
                  <a:pt x="42454" y="5582"/>
                </a:lnTo>
                <a:lnTo>
                  <a:pt x="48623" y="5146"/>
                </a:lnTo>
                <a:lnTo>
                  <a:pt x="55276" y="4856"/>
                </a:lnTo>
                <a:lnTo>
                  <a:pt x="61403" y="3815"/>
                </a:lnTo>
                <a:lnTo>
                  <a:pt x="67183" y="2275"/>
                </a:lnTo>
                <a:lnTo>
                  <a:pt x="72728" y="402"/>
                </a:lnTo>
                <a:lnTo>
                  <a:pt x="78965" y="0"/>
                </a:lnTo>
                <a:lnTo>
                  <a:pt x="85664" y="578"/>
                </a:lnTo>
                <a:lnTo>
                  <a:pt x="92669" y="1810"/>
                </a:lnTo>
                <a:lnTo>
                  <a:pt x="98186" y="2632"/>
                </a:lnTo>
                <a:lnTo>
                  <a:pt x="102710" y="3180"/>
                </a:lnTo>
                <a:lnTo>
                  <a:pt x="106574" y="3545"/>
                </a:lnTo>
                <a:lnTo>
                  <a:pt x="110843" y="3788"/>
                </a:lnTo>
                <a:lnTo>
                  <a:pt x="129540" y="427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MARTInkAnnotation150"/>
          <p:cNvSpPr/>
          <p:nvPr/>
        </p:nvSpPr>
        <p:spPr>
          <a:xfrm>
            <a:off x="8782200" y="2797200"/>
            <a:ext cx="155520" cy="95400"/>
          </a:xfrm>
          <a:custGeom>
            <a:avLst/>
            <a:gdLst>
              <a:gd name="textAreaLeft" fmla="*/ 0 w 155520"/>
              <a:gd name="textAreaRight" fmla="*/ 155880 w 1555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156172" h="94218">
                <a:moveTo>
                  <a:pt x="102831" y="6534"/>
                </a:moveTo>
                <a:lnTo>
                  <a:pt x="110138" y="6534"/>
                </a:lnTo>
                <a:lnTo>
                  <a:pt x="112569" y="8791"/>
                </a:lnTo>
                <a:lnTo>
                  <a:pt x="117749" y="13840"/>
                </a:lnTo>
                <a:lnTo>
                  <a:pt x="117928" y="11757"/>
                </a:lnTo>
                <a:lnTo>
                  <a:pt x="117976" y="10016"/>
                </a:lnTo>
                <a:lnTo>
                  <a:pt x="117161" y="8855"/>
                </a:lnTo>
                <a:lnTo>
                  <a:pt x="115771" y="8081"/>
                </a:lnTo>
                <a:lnTo>
                  <a:pt x="111501" y="6839"/>
                </a:lnTo>
                <a:lnTo>
                  <a:pt x="109459" y="5891"/>
                </a:lnTo>
                <a:lnTo>
                  <a:pt x="102672" y="2579"/>
                </a:lnTo>
                <a:lnTo>
                  <a:pt x="98492" y="1357"/>
                </a:lnTo>
                <a:lnTo>
                  <a:pt x="94011" y="543"/>
                </a:lnTo>
                <a:lnTo>
                  <a:pt x="89332" y="0"/>
                </a:lnTo>
                <a:lnTo>
                  <a:pt x="83672" y="484"/>
                </a:lnTo>
                <a:lnTo>
                  <a:pt x="77358" y="1654"/>
                </a:lnTo>
                <a:lnTo>
                  <a:pt x="70609" y="3281"/>
                </a:lnTo>
                <a:lnTo>
                  <a:pt x="63570" y="5212"/>
                </a:lnTo>
                <a:lnTo>
                  <a:pt x="48975" y="9615"/>
                </a:lnTo>
                <a:lnTo>
                  <a:pt x="42374" y="11975"/>
                </a:lnTo>
                <a:lnTo>
                  <a:pt x="36280" y="14394"/>
                </a:lnTo>
                <a:lnTo>
                  <a:pt x="30523" y="16854"/>
                </a:lnTo>
                <a:lnTo>
                  <a:pt x="19613" y="21845"/>
                </a:lnTo>
                <a:lnTo>
                  <a:pt x="14332" y="24361"/>
                </a:lnTo>
                <a:lnTo>
                  <a:pt x="10812" y="27732"/>
                </a:lnTo>
                <a:lnTo>
                  <a:pt x="8465" y="31672"/>
                </a:lnTo>
                <a:lnTo>
                  <a:pt x="6901" y="35993"/>
                </a:lnTo>
                <a:lnTo>
                  <a:pt x="5012" y="39720"/>
                </a:lnTo>
                <a:lnTo>
                  <a:pt x="2905" y="43051"/>
                </a:lnTo>
                <a:lnTo>
                  <a:pt x="654" y="46119"/>
                </a:lnTo>
                <a:lnTo>
                  <a:pt x="0" y="49857"/>
                </a:lnTo>
                <a:lnTo>
                  <a:pt x="411" y="54043"/>
                </a:lnTo>
                <a:lnTo>
                  <a:pt x="1531" y="58526"/>
                </a:lnTo>
                <a:lnTo>
                  <a:pt x="3124" y="62362"/>
                </a:lnTo>
                <a:lnTo>
                  <a:pt x="5033" y="65766"/>
                </a:lnTo>
                <a:lnTo>
                  <a:pt x="7153" y="68882"/>
                </a:lnTo>
                <a:lnTo>
                  <a:pt x="9412" y="72652"/>
                </a:lnTo>
                <a:lnTo>
                  <a:pt x="11766" y="76860"/>
                </a:lnTo>
                <a:lnTo>
                  <a:pt x="14181" y="81358"/>
                </a:lnTo>
                <a:lnTo>
                  <a:pt x="17485" y="84356"/>
                </a:lnTo>
                <a:lnTo>
                  <a:pt x="21381" y="86355"/>
                </a:lnTo>
                <a:lnTo>
                  <a:pt x="31071" y="89423"/>
                </a:lnTo>
                <a:lnTo>
                  <a:pt x="43844" y="93609"/>
                </a:lnTo>
                <a:lnTo>
                  <a:pt x="49960" y="94217"/>
                </a:lnTo>
                <a:lnTo>
                  <a:pt x="55731" y="93776"/>
                </a:lnTo>
                <a:lnTo>
                  <a:pt x="61271" y="92636"/>
                </a:lnTo>
                <a:lnTo>
                  <a:pt x="67504" y="91875"/>
                </a:lnTo>
                <a:lnTo>
                  <a:pt x="74201" y="91368"/>
                </a:lnTo>
                <a:lnTo>
                  <a:pt x="81203" y="91030"/>
                </a:lnTo>
                <a:lnTo>
                  <a:pt x="87566" y="89958"/>
                </a:lnTo>
                <a:lnTo>
                  <a:pt x="93502" y="88396"/>
                </a:lnTo>
                <a:lnTo>
                  <a:pt x="99151" y="86509"/>
                </a:lnTo>
                <a:lnTo>
                  <a:pt x="104611" y="83557"/>
                </a:lnTo>
                <a:lnTo>
                  <a:pt x="109944" y="79896"/>
                </a:lnTo>
                <a:lnTo>
                  <a:pt x="115194" y="75762"/>
                </a:lnTo>
                <a:lnTo>
                  <a:pt x="120385" y="71313"/>
                </a:lnTo>
                <a:lnTo>
                  <a:pt x="125540" y="66653"/>
                </a:lnTo>
                <a:lnTo>
                  <a:pt x="130670" y="61853"/>
                </a:lnTo>
                <a:lnTo>
                  <a:pt x="134938" y="56960"/>
                </a:lnTo>
                <a:lnTo>
                  <a:pt x="138628" y="52005"/>
                </a:lnTo>
                <a:lnTo>
                  <a:pt x="141935" y="47008"/>
                </a:lnTo>
                <a:lnTo>
                  <a:pt x="144988" y="42830"/>
                </a:lnTo>
                <a:lnTo>
                  <a:pt x="147869" y="39198"/>
                </a:lnTo>
                <a:lnTo>
                  <a:pt x="156171" y="2939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MARTInkAnnotation151"/>
          <p:cNvSpPr/>
          <p:nvPr/>
        </p:nvSpPr>
        <p:spPr>
          <a:xfrm>
            <a:off x="8969400" y="2789280"/>
            <a:ext cx="142920" cy="258840"/>
          </a:xfrm>
          <a:custGeom>
            <a:avLst/>
            <a:gdLst>
              <a:gd name="textAreaLeft" fmla="*/ 0 w 142920"/>
              <a:gd name="textAreaRight" fmla="*/ 143280 w 1429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43267" h="258592">
                <a:moveTo>
                  <a:pt x="0" y="0"/>
                </a:moveTo>
                <a:lnTo>
                  <a:pt x="0" y="14651"/>
                </a:lnTo>
                <a:lnTo>
                  <a:pt x="846" y="18234"/>
                </a:lnTo>
                <a:lnTo>
                  <a:pt x="4046" y="24473"/>
                </a:lnTo>
                <a:lnTo>
                  <a:pt x="6032" y="30068"/>
                </a:lnTo>
                <a:lnTo>
                  <a:pt x="7761" y="37070"/>
                </a:lnTo>
                <a:lnTo>
                  <a:pt x="11351" y="48649"/>
                </a:lnTo>
                <a:lnTo>
                  <a:pt x="18134" y="69448"/>
                </a:lnTo>
                <a:lnTo>
                  <a:pt x="19709" y="77625"/>
                </a:lnTo>
                <a:lnTo>
                  <a:pt x="20759" y="86463"/>
                </a:lnTo>
                <a:lnTo>
                  <a:pt x="21459" y="95742"/>
                </a:lnTo>
                <a:lnTo>
                  <a:pt x="21926" y="104468"/>
                </a:lnTo>
                <a:lnTo>
                  <a:pt x="22445" y="120937"/>
                </a:lnTo>
                <a:lnTo>
                  <a:pt x="21737" y="129731"/>
                </a:lnTo>
                <a:lnTo>
                  <a:pt x="20417" y="138981"/>
                </a:lnTo>
                <a:lnTo>
                  <a:pt x="18692" y="148534"/>
                </a:lnTo>
                <a:lnTo>
                  <a:pt x="16695" y="157442"/>
                </a:lnTo>
                <a:lnTo>
                  <a:pt x="14516" y="165922"/>
                </a:lnTo>
                <a:lnTo>
                  <a:pt x="12218" y="174114"/>
                </a:lnTo>
                <a:lnTo>
                  <a:pt x="10685" y="182116"/>
                </a:lnTo>
                <a:lnTo>
                  <a:pt x="9663" y="189991"/>
                </a:lnTo>
                <a:lnTo>
                  <a:pt x="8982" y="197780"/>
                </a:lnTo>
                <a:lnTo>
                  <a:pt x="8528" y="204667"/>
                </a:lnTo>
                <a:lnTo>
                  <a:pt x="8023" y="216834"/>
                </a:lnTo>
                <a:lnTo>
                  <a:pt x="7740" y="233204"/>
                </a:lnTo>
                <a:lnTo>
                  <a:pt x="7621" y="258591"/>
                </a:lnTo>
                <a:lnTo>
                  <a:pt x="7620" y="212425"/>
                </a:lnTo>
                <a:lnTo>
                  <a:pt x="8467" y="204270"/>
                </a:lnTo>
                <a:lnTo>
                  <a:pt x="9878" y="195446"/>
                </a:lnTo>
                <a:lnTo>
                  <a:pt x="11665" y="186178"/>
                </a:lnTo>
                <a:lnTo>
                  <a:pt x="15909" y="166848"/>
                </a:lnTo>
                <a:lnTo>
                  <a:pt x="18227" y="156952"/>
                </a:lnTo>
                <a:lnTo>
                  <a:pt x="19771" y="147815"/>
                </a:lnTo>
                <a:lnTo>
                  <a:pt x="20801" y="139183"/>
                </a:lnTo>
                <a:lnTo>
                  <a:pt x="21487" y="130889"/>
                </a:lnTo>
                <a:lnTo>
                  <a:pt x="22792" y="121972"/>
                </a:lnTo>
                <a:lnTo>
                  <a:pt x="24509" y="112641"/>
                </a:lnTo>
                <a:lnTo>
                  <a:pt x="26499" y="103034"/>
                </a:lnTo>
                <a:lnTo>
                  <a:pt x="28673" y="94089"/>
                </a:lnTo>
                <a:lnTo>
                  <a:pt x="30969" y="85586"/>
                </a:lnTo>
                <a:lnTo>
                  <a:pt x="35778" y="69365"/>
                </a:lnTo>
                <a:lnTo>
                  <a:pt x="40737" y="53689"/>
                </a:lnTo>
                <a:lnTo>
                  <a:pt x="43244" y="47646"/>
                </a:lnTo>
                <a:lnTo>
                  <a:pt x="45763" y="42770"/>
                </a:lnTo>
                <a:lnTo>
                  <a:pt x="48288" y="38674"/>
                </a:lnTo>
                <a:lnTo>
                  <a:pt x="51667" y="34249"/>
                </a:lnTo>
                <a:lnTo>
                  <a:pt x="55610" y="29606"/>
                </a:lnTo>
                <a:lnTo>
                  <a:pt x="63662" y="20778"/>
                </a:lnTo>
                <a:lnTo>
                  <a:pt x="70064" y="14033"/>
                </a:lnTo>
                <a:lnTo>
                  <a:pt x="73802" y="11895"/>
                </a:lnTo>
                <a:lnTo>
                  <a:pt x="77989" y="10470"/>
                </a:lnTo>
                <a:lnTo>
                  <a:pt x="82472" y="9520"/>
                </a:lnTo>
                <a:lnTo>
                  <a:pt x="86309" y="8887"/>
                </a:lnTo>
                <a:lnTo>
                  <a:pt x="89712" y="8464"/>
                </a:lnTo>
                <a:lnTo>
                  <a:pt x="92828" y="8183"/>
                </a:lnTo>
                <a:lnTo>
                  <a:pt x="96599" y="8842"/>
                </a:lnTo>
                <a:lnTo>
                  <a:pt x="100805" y="10128"/>
                </a:lnTo>
                <a:lnTo>
                  <a:pt x="105304" y="11832"/>
                </a:lnTo>
                <a:lnTo>
                  <a:pt x="109149" y="13815"/>
                </a:lnTo>
                <a:lnTo>
                  <a:pt x="112561" y="15983"/>
                </a:lnTo>
                <a:lnTo>
                  <a:pt x="115680" y="18275"/>
                </a:lnTo>
                <a:lnTo>
                  <a:pt x="118607" y="20650"/>
                </a:lnTo>
                <a:lnTo>
                  <a:pt x="121404" y="23080"/>
                </a:lnTo>
                <a:lnTo>
                  <a:pt x="124116" y="25547"/>
                </a:lnTo>
                <a:lnTo>
                  <a:pt x="126771" y="28885"/>
                </a:lnTo>
                <a:lnTo>
                  <a:pt x="129387" y="32803"/>
                </a:lnTo>
                <a:lnTo>
                  <a:pt x="131978" y="37109"/>
                </a:lnTo>
                <a:lnTo>
                  <a:pt x="134552" y="41672"/>
                </a:lnTo>
                <a:lnTo>
                  <a:pt x="139670" y="51259"/>
                </a:lnTo>
                <a:lnTo>
                  <a:pt x="141373" y="57033"/>
                </a:lnTo>
                <a:lnTo>
                  <a:pt x="142508" y="63422"/>
                </a:lnTo>
                <a:lnTo>
                  <a:pt x="143266" y="70221"/>
                </a:lnTo>
                <a:lnTo>
                  <a:pt x="142925" y="76447"/>
                </a:lnTo>
                <a:lnTo>
                  <a:pt x="141849" y="82292"/>
                </a:lnTo>
                <a:lnTo>
                  <a:pt x="140287" y="87881"/>
                </a:lnTo>
                <a:lnTo>
                  <a:pt x="138397" y="93301"/>
                </a:lnTo>
                <a:lnTo>
                  <a:pt x="136292" y="98607"/>
                </a:lnTo>
                <a:lnTo>
                  <a:pt x="134041" y="103838"/>
                </a:lnTo>
                <a:lnTo>
                  <a:pt x="130848" y="108172"/>
                </a:lnTo>
                <a:lnTo>
                  <a:pt x="127025" y="111908"/>
                </a:lnTo>
                <a:lnTo>
                  <a:pt x="122783" y="115245"/>
                </a:lnTo>
                <a:lnTo>
                  <a:pt x="118262" y="119164"/>
                </a:lnTo>
                <a:lnTo>
                  <a:pt x="113556" y="123469"/>
                </a:lnTo>
                <a:lnTo>
                  <a:pt x="108724" y="128033"/>
                </a:lnTo>
                <a:lnTo>
                  <a:pt x="103808" y="131075"/>
                </a:lnTo>
                <a:lnTo>
                  <a:pt x="98840" y="133103"/>
                </a:lnTo>
                <a:lnTo>
                  <a:pt x="93832" y="134455"/>
                </a:lnTo>
                <a:lnTo>
                  <a:pt x="88802" y="136204"/>
                </a:lnTo>
                <a:lnTo>
                  <a:pt x="83755" y="138216"/>
                </a:lnTo>
                <a:lnTo>
                  <a:pt x="78697" y="140404"/>
                </a:lnTo>
                <a:lnTo>
                  <a:pt x="68562" y="145093"/>
                </a:lnTo>
                <a:lnTo>
                  <a:pt x="63488" y="147528"/>
                </a:lnTo>
                <a:lnTo>
                  <a:pt x="59258" y="149152"/>
                </a:lnTo>
                <a:lnTo>
                  <a:pt x="55592" y="150235"/>
                </a:lnTo>
                <a:lnTo>
                  <a:pt x="45720" y="1524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MARTInkAnnotation152"/>
          <p:cNvSpPr/>
          <p:nvPr/>
        </p:nvSpPr>
        <p:spPr>
          <a:xfrm>
            <a:off x="4327560" y="3467160"/>
            <a:ext cx="480960" cy="403200"/>
          </a:xfrm>
          <a:custGeom>
            <a:avLst/>
            <a:gdLst>
              <a:gd name="textAreaLeft" fmla="*/ 0 w 480960"/>
              <a:gd name="textAreaRight" fmla="*/ 481320 w 48096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480061" h="403861">
                <a:moveTo>
                  <a:pt x="480060" y="0"/>
                </a:moveTo>
                <a:lnTo>
                  <a:pt x="480060" y="4045"/>
                </a:lnTo>
                <a:lnTo>
                  <a:pt x="479214" y="5237"/>
                </a:lnTo>
                <a:lnTo>
                  <a:pt x="477802" y="6031"/>
                </a:lnTo>
                <a:lnTo>
                  <a:pt x="476015" y="6561"/>
                </a:lnTo>
                <a:lnTo>
                  <a:pt x="471772" y="9407"/>
                </a:lnTo>
                <a:lnTo>
                  <a:pt x="458806" y="21402"/>
                </a:lnTo>
                <a:lnTo>
                  <a:pt x="440468" y="39612"/>
                </a:lnTo>
                <a:lnTo>
                  <a:pt x="428066" y="47956"/>
                </a:lnTo>
                <a:lnTo>
                  <a:pt x="413666" y="55790"/>
                </a:lnTo>
                <a:lnTo>
                  <a:pt x="401445" y="63178"/>
                </a:lnTo>
                <a:lnTo>
                  <a:pt x="387547" y="71259"/>
                </a:lnTo>
                <a:lnTo>
                  <a:pt x="372903" y="77673"/>
                </a:lnTo>
                <a:lnTo>
                  <a:pt x="357928" y="85604"/>
                </a:lnTo>
                <a:lnTo>
                  <a:pt x="350379" y="90089"/>
                </a:lnTo>
                <a:lnTo>
                  <a:pt x="335217" y="99588"/>
                </a:lnTo>
                <a:lnTo>
                  <a:pt x="320859" y="109455"/>
                </a:lnTo>
                <a:lnTo>
                  <a:pt x="302409" y="124530"/>
                </a:lnTo>
                <a:lnTo>
                  <a:pt x="288497" y="134651"/>
                </a:lnTo>
                <a:lnTo>
                  <a:pt x="280385" y="139721"/>
                </a:lnTo>
                <a:lnTo>
                  <a:pt x="271590" y="144794"/>
                </a:lnTo>
                <a:lnTo>
                  <a:pt x="262340" y="149869"/>
                </a:lnTo>
                <a:lnTo>
                  <a:pt x="253634" y="155793"/>
                </a:lnTo>
                <a:lnTo>
                  <a:pt x="245289" y="162282"/>
                </a:lnTo>
                <a:lnTo>
                  <a:pt x="237186" y="169148"/>
                </a:lnTo>
                <a:lnTo>
                  <a:pt x="229244" y="175419"/>
                </a:lnTo>
                <a:lnTo>
                  <a:pt x="221410" y="181293"/>
                </a:lnTo>
                <a:lnTo>
                  <a:pt x="213646" y="186902"/>
                </a:lnTo>
                <a:lnTo>
                  <a:pt x="205931" y="193181"/>
                </a:lnTo>
                <a:lnTo>
                  <a:pt x="198247" y="199908"/>
                </a:lnTo>
                <a:lnTo>
                  <a:pt x="183783" y="213308"/>
                </a:lnTo>
                <a:lnTo>
                  <a:pt x="171710" y="224908"/>
                </a:lnTo>
                <a:lnTo>
                  <a:pt x="164427" y="230372"/>
                </a:lnTo>
                <a:lnTo>
                  <a:pt x="156185" y="235708"/>
                </a:lnTo>
                <a:lnTo>
                  <a:pt x="147303" y="240959"/>
                </a:lnTo>
                <a:lnTo>
                  <a:pt x="132919" y="253566"/>
                </a:lnTo>
                <a:lnTo>
                  <a:pt x="126713" y="260484"/>
                </a:lnTo>
                <a:lnTo>
                  <a:pt x="115301" y="272686"/>
                </a:lnTo>
                <a:lnTo>
                  <a:pt x="97099" y="291334"/>
                </a:lnTo>
                <a:lnTo>
                  <a:pt x="56211" y="332398"/>
                </a:lnTo>
                <a:lnTo>
                  <a:pt x="48125" y="342748"/>
                </a:lnTo>
                <a:lnTo>
                  <a:pt x="44783" y="347878"/>
                </a:lnTo>
                <a:lnTo>
                  <a:pt x="36555" y="355838"/>
                </a:lnTo>
                <a:lnTo>
                  <a:pt x="31989" y="359145"/>
                </a:lnTo>
                <a:lnTo>
                  <a:pt x="24660" y="367336"/>
                </a:lnTo>
                <a:lnTo>
                  <a:pt x="15774" y="379209"/>
                </a:lnTo>
                <a:lnTo>
                  <a:pt x="13056" y="382346"/>
                </a:lnTo>
                <a:lnTo>
                  <a:pt x="10036" y="388089"/>
                </a:lnTo>
                <a:lnTo>
                  <a:pt x="9231" y="390806"/>
                </a:lnTo>
                <a:lnTo>
                  <a:pt x="6078" y="396083"/>
                </a:lnTo>
                <a:lnTo>
                  <a:pt x="0" y="4038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MARTInkAnnotation153"/>
          <p:cNvSpPr/>
          <p:nvPr/>
        </p:nvSpPr>
        <p:spPr>
          <a:xfrm>
            <a:off x="5845320" y="3513240"/>
            <a:ext cx="44280" cy="304560"/>
          </a:xfrm>
          <a:custGeom>
            <a:avLst/>
            <a:gdLst>
              <a:gd name="textAreaLeft" fmla="*/ 0 w 44280"/>
              <a:gd name="textAreaRight" fmla="*/ 44640 w 44280"/>
              <a:gd name="textAreaTop" fmla="*/ 0 h 304560"/>
              <a:gd name="textAreaBottom" fmla="*/ 304560 h 304560"/>
            </a:gdLst>
            <a:ahLst/>
            <a:rect l="textAreaLeft" t="textAreaTop" r="textAreaRight" b="textAreaBottom"/>
            <a:pathLst>
              <a:path w="45720" h="304801">
                <a:moveTo>
                  <a:pt x="45719" y="0"/>
                </a:moveTo>
                <a:lnTo>
                  <a:pt x="45719" y="4045"/>
                </a:lnTo>
                <a:lnTo>
                  <a:pt x="44872" y="6930"/>
                </a:lnTo>
                <a:lnTo>
                  <a:pt x="43462" y="10546"/>
                </a:lnTo>
                <a:lnTo>
                  <a:pt x="39158" y="20428"/>
                </a:lnTo>
                <a:lnTo>
                  <a:pt x="38570" y="28552"/>
                </a:lnTo>
                <a:lnTo>
                  <a:pt x="38309" y="39783"/>
                </a:lnTo>
                <a:lnTo>
                  <a:pt x="38127" y="74018"/>
                </a:lnTo>
                <a:lnTo>
                  <a:pt x="37271" y="82365"/>
                </a:lnTo>
                <a:lnTo>
                  <a:pt x="35854" y="90470"/>
                </a:lnTo>
                <a:lnTo>
                  <a:pt x="34063" y="98413"/>
                </a:lnTo>
                <a:lnTo>
                  <a:pt x="32868" y="107095"/>
                </a:lnTo>
                <a:lnTo>
                  <a:pt x="32072" y="116270"/>
                </a:lnTo>
                <a:lnTo>
                  <a:pt x="31541" y="125773"/>
                </a:lnTo>
                <a:lnTo>
                  <a:pt x="30340" y="135496"/>
                </a:lnTo>
                <a:lnTo>
                  <a:pt x="28694" y="145363"/>
                </a:lnTo>
                <a:lnTo>
                  <a:pt x="26749" y="155329"/>
                </a:lnTo>
                <a:lnTo>
                  <a:pt x="25452" y="164513"/>
                </a:lnTo>
                <a:lnTo>
                  <a:pt x="24587" y="173175"/>
                </a:lnTo>
                <a:lnTo>
                  <a:pt x="24012" y="181490"/>
                </a:lnTo>
                <a:lnTo>
                  <a:pt x="22781" y="189573"/>
                </a:lnTo>
                <a:lnTo>
                  <a:pt x="21113" y="197502"/>
                </a:lnTo>
                <a:lnTo>
                  <a:pt x="19155" y="205328"/>
                </a:lnTo>
                <a:lnTo>
                  <a:pt x="17850" y="213086"/>
                </a:lnTo>
                <a:lnTo>
                  <a:pt x="16980" y="220797"/>
                </a:lnTo>
                <a:lnTo>
                  <a:pt x="16400" y="228478"/>
                </a:lnTo>
                <a:lnTo>
                  <a:pt x="15167" y="236139"/>
                </a:lnTo>
                <a:lnTo>
                  <a:pt x="13497" y="243786"/>
                </a:lnTo>
                <a:lnTo>
                  <a:pt x="11538" y="251424"/>
                </a:lnTo>
                <a:lnTo>
                  <a:pt x="10232" y="258210"/>
                </a:lnTo>
                <a:lnTo>
                  <a:pt x="9361" y="264426"/>
                </a:lnTo>
                <a:lnTo>
                  <a:pt x="8781" y="270264"/>
                </a:lnTo>
                <a:lnTo>
                  <a:pt x="7547" y="275849"/>
                </a:lnTo>
                <a:lnTo>
                  <a:pt x="5877" y="281266"/>
                </a:lnTo>
                <a:lnTo>
                  <a:pt x="1161" y="294036"/>
                </a:lnTo>
                <a:lnTo>
                  <a:pt x="515" y="298040"/>
                </a:lnTo>
                <a:lnTo>
                  <a:pt x="0" y="3048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MARTInkAnnotation154"/>
          <p:cNvSpPr/>
          <p:nvPr/>
        </p:nvSpPr>
        <p:spPr>
          <a:xfrm>
            <a:off x="5753160" y="3703680"/>
            <a:ext cx="266760" cy="38160"/>
          </a:xfrm>
          <a:custGeom>
            <a:avLst/>
            <a:gdLst>
              <a:gd name="textAreaLeft" fmla="*/ 0 w 266760"/>
              <a:gd name="textAreaRight" fmla="*/ 267120 w 2667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66701" h="38101">
                <a:moveTo>
                  <a:pt x="0" y="38100"/>
                </a:moveTo>
                <a:lnTo>
                  <a:pt x="4045" y="38100"/>
                </a:lnTo>
                <a:lnTo>
                  <a:pt x="6084" y="37253"/>
                </a:lnTo>
                <a:lnTo>
                  <a:pt x="8289" y="35842"/>
                </a:lnTo>
                <a:lnTo>
                  <a:pt x="10606" y="34055"/>
                </a:lnTo>
                <a:lnTo>
                  <a:pt x="13844" y="32863"/>
                </a:lnTo>
                <a:lnTo>
                  <a:pt x="17696" y="32068"/>
                </a:lnTo>
                <a:lnTo>
                  <a:pt x="21958" y="31539"/>
                </a:lnTo>
                <a:lnTo>
                  <a:pt x="28185" y="30339"/>
                </a:lnTo>
                <a:lnTo>
                  <a:pt x="44136" y="26748"/>
                </a:lnTo>
                <a:lnTo>
                  <a:pt x="52284" y="25452"/>
                </a:lnTo>
                <a:lnTo>
                  <a:pt x="60256" y="24588"/>
                </a:lnTo>
                <a:lnTo>
                  <a:pt x="68111" y="24012"/>
                </a:lnTo>
                <a:lnTo>
                  <a:pt x="77581" y="22781"/>
                </a:lnTo>
                <a:lnTo>
                  <a:pt x="88127" y="21114"/>
                </a:lnTo>
                <a:lnTo>
                  <a:pt x="99392" y="19156"/>
                </a:lnTo>
                <a:lnTo>
                  <a:pt x="110288" y="17851"/>
                </a:lnTo>
                <a:lnTo>
                  <a:pt x="120938" y="16980"/>
                </a:lnTo>
                <a:lnTo>
                  <a:pt x="131425" y="16400"/>
                </a:lnTo>
                <a:lnTo>
                  <a:pt x="149852" y="15755"/>
                </a:lnTo>
                <a:lnTo>
                  <a:pt x="158321" y="15584"/>
                </a:lnTo>
                <a:lnTo>
                  <a:pt x="166507" y="14622"/>
                </a:lnTo>
                <a:lnTo>
                  <a:pt x="174505" y="13135"/>
                </a:lnTo>
                <a:lnTo>
                  <a:pt x="182376" y="11296"/>
                </a:lnTo>
                <a:lnTo>
                  <a:pt x="189318" y="10071"/>
                </a:lnTo>
                <a:lnTo>
                  <a:pt x="195639" y="9254"/>
                </a:lnTo>
                <a:lnTo>
                  <a:pt x="201545" y="8709"/>
                </a:lnTo>
                <a:lnTo>
                  <a:pt x="207178" y="8346"/>
                </a:lnTo>
                <a:lnTo>
                  <a:pt x="217950" y="7943"/>
                </a:lnTo>
                <a:lnTo>
                  <a:pt x="224040" y="6988"/>
                </a:lnTo>
                <a:lnTo>
                  <a:pt x="230640" y="5506"/>
                </a:lnTo>
                <a:lnTo>
                  <a:pt x="237580" y="3670"/>
                </a:lnTo>
                <a:lnTo>
                  <a:pt x="243053" y="2447"/>
                </a:lnTo>
                <a:lnTo>
                  <a:pt x="247548" y="1631"/>
                </a:lnTo>
                <a:lnTo>
                  <a:pt x="254802" y="725"/>
                </a:lnTo>
                <a:lnTo>
                  <a:pt x="257921" y="483"/>
                </a:lnTo>
                <a:lnTo>
                  <a:pt x="2667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21:59:44Z</dcterms:created>
  <dc:creator>srentel</dc:creator>
  <dc:description/>
  <dc:language>en-US</dc:language>
  <cp:lastModifiedBy>m</cp:lastModifiedBy>
  <dcterms:modified xsi:type="dcterms:W3CDTF">2012-01-17T21:07:41Z</dcterms:modified>
  <cp:revision>34</cp:revision>
  <dc:subject/>
  <dc:title>Slide 1</dc:title>
</cp:coreProperties>
</file>